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D59A-5CC2-431E-888F-75AB287D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8A55-1A3D-449B-A115-664DC15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65B5-3B4B-44CB-B2C8-45BA435E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1151-9FC9-4902-BD09-E3F7FC76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D0D-ACAA-4F00-AB21-F6C56910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CA5-1427-4757-8A25-CCB3E27A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C0D-1DA7-4870-9121-A366507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1052-153B-4CCF-AA22-B4EC37D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BD4-BB11-49C6-93E5-1D46689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34FB-A77A-40FA-AB5D-3FA26B5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43A4-8D4D-460F-933A-2D980BE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D186-0089-4A57-8BF0-3DB20DE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6983-61F5-41AA-A6DE-A4F7D60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013-DF83-4811-A870-4C59E2E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2D85-4F14-4C20-97F8-465ADE30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D6E9-B1AC-4252-AB87-F3C0F0CE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5BA6-BD27-4E22-8B5D-8C3C9585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36A9-4314-4B9A-AD26-53B12B5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E0D1-95EE-4D82-9FEC-21BC4591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FAB0-3A60-47F1-A013-00D2DD1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A418-EDF9-4CFB-8BEB-B2D48B6F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7112-3578-49EB-9A8A-62FADCB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BF6C-1808-4514-9091-159F307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457-4C30-4BA9-8964-03D735A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3B9-09DB-42D6-8819-2F05880A7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12FB-9A85-4B3A-9235-5FE5D32EB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upport@qsm.com?subject=QSM%20Database%20contribution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qsm.com?subject=QSM%20Database%20contribution" TargetMode="External"/><Relationship Id="rId2" Type="http://schemas.openxmlformats.org/officeDocument/2006/relationships/hyperlink" Target="http://www.qsm.com/learn_more.htm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t Takes A Village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To Build A World Class Software Metrics Datab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362320" cy="1667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60958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Kate Armel, Technical Support Manager, QSM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981080"/>
            <a:ext cx="4038480" cy="3886200"/>
            <a:chOff x="457200" y="1981080"/>
            <a:chExt cx="4038480" cy="38862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40384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457200" y="1981080"/>
              <a:ext cx="403848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and recor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miss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duplicates,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low confide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rends, new categories,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the data into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 Line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trend lines is hard work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vidual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ne must be hand-checked against previous year’s trends and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s must often be eliminated by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952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Better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124080"/>
            <a:ext cx="281916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124080"/>
            <a:ext cx="281952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676520"/>
            <a:ext cx="281916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67080" y="274320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57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562720" y="43434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89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05240" y="4191120"/>
            <a:ext cx="114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1" lang="en-US" sz="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95480" y="434340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77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60020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ere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enty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ed for each individual query conditio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195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507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inc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1981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6002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section of those query conditions can sometimes be quite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495680" y="434304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743200"/>
            <a:ext cx="137160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4577</a:t>
            </a:r>
            <a:r>
              <a:rPr b="0" lang="en-US" sz="1600" spc="-1" strike="noStrike">
                <a:solidFill>
                  <a:srgbClr val="9900cc"/>
                </a:solidFill>
                <a:latin typeface="Arial"/>
              </a:rPr>
              <a:t> IT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689</a:t>
            </a:r>
            <a:r>
              <a:rPr b="0" lang="en-US" sz="1600" spc="-1" strike="noStrike">
                <a:solidFill>
                  <a:srgbClr val="9900cc"/>
                </a:solidFill>
                <a:latin typeface="Arial"/>
              </a:rPr>
              <a:t> completed sinc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157</a:t>
            </a:r>
            <a:r>
              <a:rPr b="0" lang="en-US" sz="1600" spc="-1" strike="noStrike">
                <a:solidFill>
                  <a:srgbClr val="9900cc"/>
                </a:solidFill>
                <a:latin typeface="Arial"/>
              </a:rPr>
              <a:t> written i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cc"/>
                </a:solidFill>
                <a:latin typeface="Arial"/>
              </a:rPr>
              <a:t>8</a:t>
            </a:r>
            <a:r>
              <a:rPr b="0" i="1" lang="en-US" sz="1600" spc="-1" strike="noStrike">
                <a:solidFill>
                  <a:srgbClr val="9900cc"/>
                </a:solidFill>
                <a:latin typeface="Arial"/>
              </a:rPr>
              <a:t> projects which satisfy all 3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y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e J2EE or off shoring projects in the database, for instance, than we know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many contributors don’t fill out extended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,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sub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metr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fields are filled out, the more questions we can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Yearly Upd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lients ask, why not do trend line updates yearl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tatistically valid sample siz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akes 8 -12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industry don’t occur that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nt to measure “noi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2-3 years has proved a reliable period for measuring significa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Contribu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M-DataManager, SLIM-Control files (.smp, .sc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projects only – no estimates or in-progress projec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lected instances we may consider spreadsheet data – contac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ate Arm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 Data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inimum, projects should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his information to calculate a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5637" r="0" b="0"/>
          <a:stretch/>
        </p:blipFill>
        <p:spPr>
          <a:xfrm>
            <a:off x="4648320" y="2046240"/>
            <a:ext cx="4038480" cy="260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172200" y="3505320"/>
            <a:ext cx="6858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895480"/>
            <a:ext cx="6858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2209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2209680"/>
            <a:ext cx="1143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495288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on the Basic Info tab in DataManager is a good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To Hav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, labo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ab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v class, platform, country, industry &amp; 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, MTTD, &amp; # of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un/slippag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discouraged by all the fields in DataManager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d rather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urate, tim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on a few fields than none at all!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 can’t learn anything from projects we never see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nefi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85920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36080" y="268920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51128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1295280"/>
            <a:ext cx="624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to the QSM database helps u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our algorithms in step with the latest tools and methods in use across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038480"/>
            <a:ext cx="73152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more (and more detailed) customer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our custom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5410080"/>
            <a:ext cx="6248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 gearing factor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gearing factor table (coming up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,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in the latest set of industry tren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broad spectrum of application domains, industries, project types, technologies, methodologies, tools, programming languages, and environments for research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 Metrics Qu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 insert             “…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es, damned l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” here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one w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QSM suppo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day to find out how you can hel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ntributing at least 5 projects, we’ll send you a complementary copy of th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QSM Almana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a $500 value) as our thanks for helping us make the database the best it ca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99120" y="1981080"/>
          <a:ext cx="29350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1981080"/>
                    <a:ext cx="2935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 A Research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hesitate to send on your ideas for product enhancements, future research topics, or just ways we can serve you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QSM support right from Help menu in any SLIM Su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et most of our best ideas from our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ver learn what you need to build better software, we can’t design it into our tool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Doesn’t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Be Pain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14800" y="2335320"/>
            <a:ext cx="4610160" cy="307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2057400"/>
            <a:ext cx="342900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% of the world's statistics are made up Right there on the sp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82.4% of people believe them Whether they'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tistics or no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I don't know what you believ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I do know there's no doub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need another double sh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omething 90 pro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Cause I got too much to think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odd Snider, Statistician’s B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’re Here To Help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ime-tested, empirically based tools and services you can trust. Since 1978, QSM has helped Fortune 1000 firms estimate, track, and benchmark softwa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nearly three decades, we’ve amassed a database of over 7200 high-quality, completed software projec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40 million lines of cod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4 million function poin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7 million person months of effort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5 programming languag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 span 9 application domains, 6 continents, and a vast array of countries, industries, and project 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Databa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s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SLIM Suite software up to date with the lates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our consulting and benchmark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client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s our research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16048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Get E-Mail…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data come fro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n’t you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in the database by now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it take so long???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’t you ans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r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an’t you do trend line updates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contribute to the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M consulting 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ed and validated by trained QSM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M client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a firm empirical baseline consistent with QSM methods, lifecycl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s “apples to oranges”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vs. Better Conund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9880" y="1925640"/>
          <a:ext cx="5029200" cy="35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25640"/>
                    <a:ext cx="502920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04920" y="1905120"/>
            <a:ext cx="3352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akes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6 years, QSM has added an average of 500 projects/year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M clients have help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response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ing, waiting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questions and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permission from higher-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non-discl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! The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38720" y="2705040"/>
            <a:ext cx="2857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1:45:48Z</dcterms:created>
  <dc:creator>Kate Armel</dc:creator>
  <dc:description/>
  <dc:language>en-US</dc:language>
  <cp:lastModifiedBy> </cp:lastModifiedBy>
  <dcterms:modified xsi:type="dcterms:W3CDTF">2006-09-26T13:54:03Z</dcterms:modified>
  <cp:revision>30</cp:revision>
  <dc:subject/>
  <dc:title>Slide 1</dc:title>
</cp:coreProperties>
</file>