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244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3452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244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3452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08560" y="6477120"/>
            <a:ext cx="455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ntitative Software Management, Inc.  #</a:t>
            </a:r>
            <a:fld id="{6EEB37CE-3D8D-4BA6-95A4-6D2B581AE40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43760"/>
            <a:ext cx="292428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27720" y="6489720"/>
            <a:ext cx="371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ntitative Software Management, Inc.  All rights reserved. Slide #</a:t>
            </a:r>
            <a:fld id="{9324648D-2984-45EC-AE79-A652C3B5BBB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43760"/>
            <a:ext cx="292428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QSM Tool Time</a:t>
            </a:r>
            <a:endParaRPr b="1" lang="en-US" sz="4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mproved MS Project Interface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LIM-Estimate can both import and export a WBS with Microsoft Project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ather than interface with intermediate files in MPX format, we now read and write directly with the MS Project native file format (i.e. MPP file)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vantage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Greater precision due to less rounding error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Information we do not use is preserved in the user’s MPP file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task dependenc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user defined field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resource assignment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LIM-Suite 6.3 API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QSM Development Team and Role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pabilities in the Latest Release SLIM- Suite 6.3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pabilities Currently Under Development SLIM-Suite 7.0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 Base Update/Reference Trend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ustomer Requirements Solicitatio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QSM Development Team and Roles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Lauren Thayer – Product Management and Quality Assuranc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ennis Palazzo – Chief Architect.  Specializes in Core Engines, Data Architecture, Interfacing QSM Applications, Installation &amp; network opera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nn Fitzsimmons – Algorithm Designer.  Specializes in User Interfaces, Simulation and Modeling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ndy Canham – Specializes in Application Programming Interfacing, Core Engines and OLE Automation, MS Office Product  Interfacing, Installation &amp; network opera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Kate Armel – Requirements Definition, QSM Database Maintenance and Trendline Development, On-line Help/Manual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oug &amp; Larry Putnam, Jr. -  Requirements Defini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Product Status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LIM Suite 6.3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83,861 Total SLOC in the Product Baselin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75,217 in Common Platform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5,364 in SLIM Estimat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6,297 in SLIM Contro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,023 in SLIM Master Pla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,623 in SLIM Metric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7,079 in SLIM Data Manager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0,800 API Co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,458 Installation Co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ver the past 27 years this team put out 55 releases of the SLIM tool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LIM Product Release History Gantt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28496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urrent Version SLIM Suite 6.3</a:t>
            </a:r>
            <a:endParaRPr b="1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bility to base PI Calculator on Custom Trend line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akes advantage of customer specific dat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S Project Interfa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mproved Import /Export capabil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LIM WBS – MS Project Task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mport WBS from a MS Project Templat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roved SLIM Application Programming Interfa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LIM as a Calculating Engine allows remote operations from other applications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tended the Data Manager API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end Line Upd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Default PI from Custom Trend Lines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custom reference trends in SLIM-Metrics  (ESLOC vs. Phase 3 duration, effort-mm, average staff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ort custom trends into SLIM-Estimate SEW fil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your custom trends as the default reference trends in Workbook Option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option to use your custom reference trends in the PI Calculator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Create custom reference trends in SLIM-Metrics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266840"/>
            <a:ext cx="762012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You now have another option to use your reference data for the PI Calculator</a:t>
            </a:r>
            <a:endParaRPr b="1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4080" y="2362320"/>
            <a:ext cx="54104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3:11:13Z</dcterms:created>
  <dc:creator>Doug Putnam</dc:creator>
  <dc:description/>
  <dc:language>en-US</dc:language>
  <cp:lastModifiedBy> </cp:lastModifiedBy>
  <dcterms:modified xsi:type="dcterms:W3CDTF">2006-09-26T14:19:53Z</dcterms:modified>
  <cp:revision>22</cp:revision>
  <dc:subject/>
  <dc:title>Tool Time</dc:title>
</cp:coreProperties>
</file>