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5.gif" ContentType="image/gif"/>
  <Override PartName="/ppt/media/image8.wmf" ContentType="image/x-wmf"/>
  <Override PartName="/ppt/media/image10.gif" ContentType="image/gif"/>
  <Override PartName="/ppt/media/image13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12.wmf" ContentType="image/x-wmf"/>
  <Override PartName="/ppt/media/image4.png" ContentType="image/png"/>
  <Override PartName="/ppt/media/image6.gif" ContentType="image/gif"/>
  <Override PartName="/ppt/media/image7.gif" ContentType="image/gif"/>
  <Override PartName="/ppt/media/image9.gif" ContentType="image/gif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A297-7AFA-4008-A432-7FD491C00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718F-4ED1-48B4-BF13-F4B9C182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1E3E-9B1C-4C44-A51B-324D77E40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9D28-6A2D-4431-A4E1-50785751D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1452-7CDF-4528-922C-4D28799B2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C13E-29AD-48F9-91F5-49235AA2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D55B-0497-49F5-BBBC-9F8B831C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E6D0B-D987-4F2F-A570-6567BBFE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7AC2-5AE5-45B8-88A1-FC533139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6128B-DD5E-4FB5-A80A-7C66C7DE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614A2-400D-414E-B4AE-A1B26954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356D-E215-479A-8C2B-4DDDAECA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E441-8007-4933-9C59-031A37BC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D1A6-C301-45B7-AB4D-07DDCBFD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D4E3-7E48-4FD5-8DC4-B043DFED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E0F2B-C171-44FC-A40D-E004C3B22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B457F-39E9-4423-93E3-580C6CC82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CD50-27BE-44FA-A76C-901C6F6A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8073-FE10-407E-AC29-4770003C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26AB-149E-4D47-AD4C-20CB019A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5C10-D2F5-421C-82CD-A8EBB0A4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BD9D-AC20-4387-842C-82D45824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3A94-0CD3-40FD-A7B0-367E239D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FB17-8AA9-4B9B-BC21-DB3EC827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DEAE-41BD-4F3E-A163-D5D39941F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9982-C153-421A-AD64-47D2D8746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wm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SLIM-Gateway Presentation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Dennis T. Palazzo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8A1CF-E7ED-4A25-B4B5-B2D66F59B28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 flipH="1">
            <a:off x="6171840" y="3768840"/>
            <a:ext cx="1841400" cy="1793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 flipH="1">
            <a:off x="914040" y="1940040"/>
            <a:ext cx="1841400" cy="15620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SLIM-Control API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0" name=""/>
          <p:cNvSpPr/>
          <p:nvPr/>
        </p:nvSpPr>
        <p:spPr>
          <a:xfrm>
            <a:off x="2971800" y="2092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 have lots of effort hours, code counts and defec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4226040"/>
            <a:ext cx="434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at, give me your “actuals”.  I know how to save them, so you can assess and foreca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2CDB-8B4A-4559-9915-FC21ABE54EB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SLIM-Control </a:t>
            </a:r>
            <a:br>
              <a:rPr sz="3300"/>
            </a:b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Gather ‘ACTUALS’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2362320" y="2362320"/>
            <a:ext cx="2286000" cy="2743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tewa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238880" y="2209680"/>
            <a:ext cx="1295640" cy="990720"/>
          </a:xfrm>
          <a:prstGeom prst="parallelogram">
            <a:avLst>
              <a:gd name="adj" fmla="val 32694"/>
            </a:avLst>
          </a:prstGeom>
          <a:solidFill>
            <a:srgbClr val="d6e0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1.SC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15200" y="2895480"/>
            <a:ext cx="1295280" cy="990720"/>
          </a:xfrm>
          <a:prstGeom prst="parallelogram">
            <a:avLst>
              <a:gd name="adj" fmla="val 32685"/>
            </a:avLst>
          </a:prstGeom>
          <a:solidFill>
            <a:srgbClr val="d6e0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2.SC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467480" y="3581280"/>
            <a:ext cx="1295640" cy="990720"/>
          </a:xfrm>
          <a:prstGeom prst="parallelogram">
            <a:avLst>
              <a:gd name="adj" fmla="val 32694"/>
            </a:avLst>
          </a:prstGeom>
          <a:solidFill>
            <a:srgbClr val="d6e0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3.SC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0120" y="4267080"/>
            <a:ext cx="1295280" cy="990720"/>
          </a:xfrm>
          <a:prstGeom prst="parallelogram">
            <a:avLst>
              <a:gd name="adj" fmla="val 32685"/>
            </a:avLst>
          </a:prstGeom>
          <a:solidFill>
            <a:srgbClr val="d6e0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4.SC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76920" y="2362320"/>
            <a:ext cx="2286000" cy="2743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8960" y="2057400"/>
            <a:ext cx="1676520" cy="838080"/>
          </a:xfrm>
          <a:prstGeom prst="flowChartPredefinedProcess">
            <a:avLst/>
          </a:prstGeom>
          <a:solidFill>
            <a:srgbClr val="d6e0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8960" y="3352680"/>
            <a:ext cx="1676520" cy="838440"/>
          </a:xfrm>
          <a:prstGeom prst="flowChartPredefinedProcess">
            <a:avLst/>
          </a:prstGeom>
          <a:solidFill>
            <a:srgbClr val="d6e0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8960" y="4724280"/>
            <a:ext cx="1676520" cy="838440"/>
          </a:xfrm>
          <a:prstGeom prst="flowChartPredefinedProcess">
            <a:avLst/>
          </a:prstGeom>
          <a:solidFill>
            <a:srgbClr val="d6e0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7FD6-6FFA-4071-B509-5438C58A652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Customized </a:t>
            </a:r>
            <a:br>
              <a:rPr sz="3300"/>
            </a:b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Executive Dashboard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867280" y="4994280"/>
            <a:ext cx="1016280" cy="1025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391520" y="4994280"/>
            <a:ext cx="981000" cy="9907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209680" y="2362320"/>
            <a:ext cx="3200400" cy="2590560"/>
          </a:xfrm>
          <a:prstGeom prst="rightArrow">
            <a:avLst>
              <a:gd name="adj1" fmla="val 50000"/>
              <a:gd name="adj2" fmla="val 3088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shboar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/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M-Control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2209680"/>
            <a:ext cx="1295280" cy="990720"/>
          </a:xfrm>
          <a:prstGeom prst="parallelogram">
            <a:avLst>
              <a:gd name="adj" fmla="val 32685"/>
            </a:avLst>
          </a:prstGeom>
          <a:solidFill>
            <a:srgbClr val="d6e0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1.SC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2895480"/>
            <a:ext cx="1295280" cy="990720"/>
          </a:xfrm>
          <a:prstGeom prst="parallelogram">
            <a:avLst>
              <a:gd name="adj" fmla="val 32685"/>
            </a:avLst>
          </a:prstGeom>
          <a:solidFill>
            <a:srgbClr val="d6e0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2.SC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3581280"/>
            <a:ext cx="1295280" cy="990720"/>
          </a:xfrm>
          <a:prstGeom prst="parallelogram">
            <a:avLst>
              <a:gd name="adj" fmla="val 32685"/>
            </a:avLst>
          </a:prstGeom>
          <a:solidFill>
            <a:srgbClr val="d6e0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3.SC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4267080"/>
            <a:ext cx="1295640" cy="990720"/>
          </a:xfrm>
          <a:prstGeom prst="parallelogram">
            <a:avLst>
              <a:gd name="adj" fmla="val 32694"/>
            </a:avLst>
          </a:prstGeom>
          <a:solidFill>
            <a:srgbClr val="d6e0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4.SC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867280" y="3352680"/>
            <a:ext cx="1076400" cy="1371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7467480" y="3551400"/>
            <a:ext cx="858960" cy="8683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7315200" y="1905120"/>
            <a:ext cx="1324080" cy="1295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5791320" y="1905120"/>
            <a:ext cx="1323720" cy="129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A7B2-4662-4284-9FFB-820D569C34F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 flipH="1">
            <a:off x="6171840" y="3768840"/>
            <a:ext cx="1841400" cy="1793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flipH="1">
            <a:off x="914040" y="1940040"/>
            <a:ext cx="1841400" cy="156204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SLIM-DataManager API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09232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’m sending you info on completed projects from several data sourc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4226040"/>
            <a:ext cx="41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at, give me your “history”.  Then you can make trendlines and tuning fa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70C0-7902-47D7-9C7E-10A4B184216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Auto Data Collectio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609624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DD51-DC8A-4569-9C1B-D3FD5236AE9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 flipH="1">
            <a:off x="6171840" y="3768840"/>
            <a:ext cx="1841400" cy="17938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 flipH="1">
            <a:off x="914040" y="1940040"/>
            <a:ext cx="1841400" cy="15620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Languages 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2971800" y="209232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 speak Visual Basic, C++, Perl, VBA. Which do you understa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422604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of them. I’m OLE Automation compli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4F59-88C6-419C-BA7E-77E904BE735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Visual Basic Co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162920" cy="36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B4C7-B0F2-4DB9-9044-5FACF6214C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 flipH="1">
            <a:off x="6171840" y="3768840"/>
            <a:ext cx="1841400" cy="17938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 flipH="1">
            <a:off x="914040" y="1940040"/>
            <a:ext cx="1841400" cy="15620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Excel Based Apps 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1" name=""/>
          <p:cNvSpPr/>
          <p:nvPr/>
        </p:nvSpPr>
        <p:spPr>
          <a:xfrm>
            <a:off x="2971800" y="2092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 live inside an Excel spreadsheet. O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52480" y="422604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s. In fact I have man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s in Exc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56B3-072B-43D3-88BA-36F22520990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ustom Graphic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962000" y="2106720"/>
            <a:ext cx="5295960" cy="363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096B-23FA-4AE7-8E0D-C9B36EF7454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 flipH="1">
            <a:off x="6171840" y="3768840"/>
            <a:ext cx="1841400" cy="1793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 flipH="1">
            <a:off x="914040" y="1940040"/>
            <a:ext cx="1841400" cy="15620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Microsoft Project Apps 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8" name=""/>
          <p:cNvSpPr/>
          <p:nvPr/>
        </p:nvSpPr>
        <p:spPr>
          <a:xfrm>
            <a:off x="2971800" y="209232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 live inside Microsoft Project with a big WBS. O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00200" y="422604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s. In fact I ha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S Project add-in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you as w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3849-5435-4CDB-B777-BFB205B515E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The Complete</a:t>
            </a:r>
            <a:br>
              <a:rPr sz="3300"/>
            </a:b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SLIM-Gateway Packag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2174760"/>
            <a:ext cx="7696080" cy="34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LIM-Estimate AP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LIM-Control AP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LIM-DataManager AP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amples in Excel, Project, VB, Web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gramming Support from QS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ase Studies Participating Clien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5664-65DF-487B-AE30-B6517CC2859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Estimate by Featur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69608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2BEE-0FA8-4545-94E4-95F3A208680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 flipH="1">
            <a:off x="6171840" y="3768840"/>
            <a:ext cx="1841400" cy="17938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 flipH="1">
            <a:off x="914040" y="1940040"/>
            <a:ext cx="1841400" cy="15620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Web Applications 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2092320"/>
            <a:ext cx="41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’m a web application. I collect data from users world-wide. Can I send it to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422604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re. Just build a back-end in ASPX or other web technolo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A4B8-92A4-4E16-A150-14680FA61A6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 flipH="1">
            <a:off x="6171840" y="3768840"/>
            <a:ext cx="1841400" cy="17938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 flipH="1">
            <a:off x="914040" y="1940040"/>
            <a:ext cx="1841400" cy="15620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Oracle &amp; SQL Server 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2971800" y="2092320"/>
            <a:ext cx="434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’m a big database app. I’m sending you summary info suitable for macro esti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23880" y="4267080"/>
            <a:ext cx="449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at. My top-down estimates and you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ttoms-up dat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a great matc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32F1-0BCE-44A4-80CD-E39CF4C0D1B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Additional Cost 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2120" y="2174760"/>
            <a:ext cx="7696080" cy="34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 Additional Fe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ll APIs Included with Too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cs Available Onlin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grammer Suppor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8944-7A91-49CC-BE73-9A73A45F066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Additional Effort 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2120" y="2174760"/>
            <a:ext cx="7696080" cy="34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ata Conversions (Simple) 1 week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ata Conversions (Complex) 1 month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amiliarity with SLIM Help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Keep It Simple (at first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F68E-7DED-4ECA-95DE-566ECD7D5BB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Experience Needed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2120" y="2174760"/>
            <a:ext cx="7696080" cy="34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B Programmer w/ 2-3 years Exp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p w/ Office Automation Help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raining in SLIM Tools a Big Plu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982B-FADF-4E51-9447-61D2D653044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How to Get Started with</a:t>
            </a:r>
            <a:br>
              <a:rPr sz="3300"/>
            </a:b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SLIM-Gateway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2174760"/>
            <a:ext cx="7696080" cy="34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nd the Right Programm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art w/ Excel VB Sampl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andful of Essential Techniqu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everage User Case Stud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grammer to Programmer Help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777E-7D80-4E0B-94D5-DA94CFF2F614}" type="slidenum">
              <a:t>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 flipH="1">
            <a:off x="5638680" y="1981080"/>
            <a:ext cx="1841760" cy="1793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 flipH="1">
            <a:off x="1599840" y="2057400"/>
            <a:ext cx="1841400" cy="15620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SLIM-Gateway 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441972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way for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You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rograms to talk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2800" spc="-1" strike="noStrike">
                <a:solidFill>
                  <a:srgbClr val="abda4d"/>
                </a:solidFill>
                <a:latin typeface="Arial"/>
              </a:rPr>
              <a:t>Ou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0974-1C44-4022-9826-87DBD440E7A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Conceptual Framework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2286000"/>
            <a:ext cx="1828800" cy="152388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2286000"/>
            <a:ext cx="1752480" cy="152388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71800" y="2743200"/>
            <a:ext cx="3200400" cy="762120"/>
          </a:xfrm>
          <a:prstGeom prst="leftRightArrow">
            <a:avLst>
              <a:gd name="adj1" fmla="val 50000"/>
              <a:gd name="adj2" fmla="val 8359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24480" y="4495680"/>
            <a:ext cx="1828800" cy="1067040"/>
          </a:xfrm>
          <a:prstGeom prst="parallelogram">
            <a:avLst>
              <a:gd name="adj" fmla="val 42848"/>
            </a:avLst>
          </a:prstGeom>
          <a:solidFill>
            <a:srgbClr val="d6e0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4495680"/>
            <a:ext cx="1828800" cy="1067040"/>
          </a:xfrm>
          <a:prstGeom prst="parallelogram">
            <a:avLst>
              <a:gd name="adj" fmla="val 42848"/>
            </a:avLst>
          </a:prstGeom>
          <a:solidFill>
            <a:srgbClr val="d6e0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3962520"/>
            <a:ext cx="304920" cy="380880"/>
          </a:xfrm>
          <a:prstGeom prst="upDownArrow">
            <a:avLst>
              <a:gd name="adj1" fmla="val 50000"/>
              <a:gd name="adj2" fmla="val 24866"/>
            </a:avLst>
          </a:prstGeom>
          <a:solidFill>
            <a:srgbClr val="d6e0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162920" y="3962520"/>
            <a:ext cx="304560" cy="380880"/>
          </a:xfrm>
          <a:prstGeom prst="upDownArrow">
            <a:avLst>
              <a:gd name="adj1" fmla="val 50000"/>
              <a:gd name="adj2" fmla="val 24896"/>
            </a:avLst>
          </a:prstGeom>
          <a:solidFill>
            <a:srgbClr val="d6e0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82B5-E9E0-4C1B-AAAB-1A8F31B10ED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What is the SLIM API 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2174760"/>
            <a:ext cx="7696080" cy="34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pplication Programmers Interfa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bject Oriented Library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bject Model resembles SLIM concep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jects, Solutions, Sizing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s, Actuals, Foreca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upports OLE Automation Standar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oth Send and Receive Da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9689-7C5A-41E5-A83C-F152DBDCAD2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Object Model (Simplified)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3843360" cy="380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8AF0-A552-4826-BDE3-AE7F824BF1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Why is Object Model Important 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2174760"/>
            <a:ext cx="7696080" cy="34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de at High Conceptual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 File Details  (no bits &amp; bytes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asier to Maintain and Migrat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se SLIM as “Estimating Engine”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llows Import and Expor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35F4-6A4A-4BAF-8776-DED7366F94C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 flipH="1">
            <a:off x="6171840" y="3768840"/>
            <a:ext cx="1841400" cy="17938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 flipH="1">
            <a:off x="914040" y="1940040"/>
            <a:ext cx="1841400" cy="15620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SLIM-Estimate API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209232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lease give me an estimate based on these assumption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422604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, I’ll use your template file and run a solution.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re you g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08FB-CE3C-4FB2-8F96-105ADDC2E5E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Multi-Projects Estimat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69608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870E-F737-4272-8F33-9A355E8276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7:11:59Z</dcterms:created>
  <dc:creator>Dennis T. Palazzo</dc:creator>
  <dc:description/>
  <dc:language>en-US</dc:language>
  <cp:lastModifiedBy> </cp:lastModifiedBy>
  <dcterms:modified xsi:type="dcterms:W3CDTF">2006-09-25T20:13:40Z</dcterms:modified>
  <cp:revision>22</cp:revision>
  <dc:subject/>
  <dc:title>Title One</dc:title>
</cp:coreProperties>
</file>