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7.wmf" ContentType="image/x-wmf"/>
  <Override PartName="/ppt/media/image1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1F85-533D-4319-8F75-A720861C4F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915840" y="4412880"/>
            <a:ext cx="5026320" cy="41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2769120" y="8848800"/>
            <a:ext cx="13219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15599B2A-E773-4220-B2AE-7943C880E6CF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2888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A96-511E-4F02-AB76-958AD9A6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6734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28E-D537-46DA-8AF8-F256B3AB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6734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36734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2FF-7EBF-46A4-9AA6-9DE327C5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52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52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6734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36734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36734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A28-C876-459E-84CA-DD936E12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720" y="36734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AC1-11AD-47C4-81DE-DC22C6C7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1280" y="36734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6734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90720" y="36734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36734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1280" y="36734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12440" y="152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34520" y="152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90720" y="36734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12440" y="36734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34520" y="36734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C7E-3963-44F1-9BF9-CDF70505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1CE-1330-45AC-93A3-483D1CA3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D42-18BA-49FE-8B84-B0F54FDF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DA8-4462-4E7F-8304-5690ACBC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6734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AAE-7E79-4D88-B005-F9B44149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36734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AE1-64EC-4735-B2E1-F4005A50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52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6734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720-828F-4DBA-B0CC-49AA0CFC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7242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9254-4447-4DEA-8032-62D2644DA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733560" y="61718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81320" y="6552720"/>
            <a:ext cx="22100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0206-A898-44C3-904D-8C828E39513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81d58"/>
              </a:buClr>
              <a:buSzPct val="8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81d58"/>
              </a:buClr>
              <a:buSzPct val="8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81d58"/>
              </a:buClr>
              <a:buSzPct val="8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081d58"/>
              </a:buClr>
              <a:buSzPct val="8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81d58"/>
              </a:buClr>
              <a:buSzPct val="8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8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8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83320"/>
            <a:ext cx="2590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pyright QSM Associates, Inc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70866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740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867280" y="0"/>
            <a:ext cx="9907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1911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E470-4E1E-4A1B-B2DD-4DA2A285F6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708660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7400" cy="68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7280" y="0"/>
            <a:ext cx="990720" cy="30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timalfriction.com/" TargetMode="External"/><Relationship Id="rId2" Type="http://schemas.openxmlformats.org/officeDocument/2006/relationships/hyperlink" Target="http://www.qsma.com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michael.mah@qsma.com" TargetMode="External"/><Relationship Id="rId2" Type="http://schemas.openxmlformats.org/officeDocument/2006/relationships/hyperlink" Target="http://www.qsma.com/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9516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Industrial XP Environment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640080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"/>
              </a:rPr>
              <a:t>Photo courtesy of Joshua Kerievs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086600" cy="53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078-0F46-4844-9E9A-BAE47A7B01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0E9CE-66CE-49D6-ACCA-CC53428A3525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53440" cy="533412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1061640" y="1828800"/>
            <a:ext cx="40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Swis721 BlkCn BT"/>
              </a:rPr>
              <a:t>High Defects on Traditional Projects</a:t>
            </a:r>
            <a:br>
              <a:rPr sz="1800"/>
            </a:br>
            <a:r>
              <a:rPr b="0" lang="en-US" sz="1800" spc="-1" strike="noStrike">
                <a:solidFill>
                  <a:srgbClr val="990099"/>
                </a:solidFill>
                <a:latin typeface="Swis721 BlkCn BT"/>
              </a:rPr>
              <a:t>Low Defects on Agile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efect Comparison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6" name=""/>
          <p:cNvSpPr/>
          <p:nvPr/>
        </p:nvSpPr>
        <p:spPr>
          <a:xfrm>
            <a:off x="4800600" y="64008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7DD-CD83-45D4-AFB4-721DAE94DE4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E6104-BBAC-4DA8-B8EB-E11D237AC068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7" name="" descr=""/>
          <p:cNvPicPr/>
          <p:nvPr/>
        </p:nvPicPr>
        <p:blipFill>
          <a:blip r:embed="rId1"/>
          <a:stretch/>
        </p:blipFill>
        <p:spPr>
          <a:xfrm>
            <a:off x="6477120" y="838080"/>
            <a:ext cx="2442960" cy="335304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VDQI Book Cover"/>
          <p:cNvPicPr/>
          <p:nvPr/>
        </p:nvPicPr>
        <p:blipFill>
          <a:blip r:embed="rId2"/>
          <a:stretch/>
        </p:blipFill>
        <p:spPr>
          <a:xfrm>
            <a:off x="228600" y="3429000"/>
            <a:ext cx="2419200" cy="3057480"/>
          </a:xfrm>
          <a:prstGeom prst="rect">
            <a:avLst/>
          </a:prstGeom>
          <a:ln w="0">
            <a:noFill/>
          </a:ln>
        </p:spPr>
      </p:pic>
      <p:pic>
        <p:nvPicPr>
          <p:cNvPr id="1429" name="" descr=""/>
          <p:cNvPicPr/>
          <p:nvPr/>
        </p:nvPicPr>
        <p:blipFill>
          <a:blip r:embed="rId3"/>
          <a:stretch/>
        </p:blipFill>
        <p:spPr>
          <a:xfrm>
            <a:off x="2743200" y="2098800"/>
            <a:ext cx="3581280" cy="260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F92-6F19-4DA5-ACB5-6EF7F147C68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65C5E-8E8D-4FD2-9077-5D3B614C64F0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"/>
          <p:cNvGrpSpPr/>
          <p:nvPr/>
        </p:nvGrpSpPr>
        <p:grpSpPr>
          <a:xfrm>
            <a:off x="533520" y="762120"/>
            <a:ext cx="8000640" cy="5790600"/>
            <a:chOff x="533520" y="762120"/>
            <a:chExt cx="8000640" cy="5790600"/>
          </a:xfrm>
        </p:grpSpPr>
        <p:pic>
          <p:nvPicPr>
            <p:cNvPr id="1431" name="" descr=""/>
            <p:cNvPicPr/>
            <p:nvPr/>
          </p:nvPicPr>
          <p:blipFill>
            <a:blip r:embed="rId1"/>
            <a:stretch/>
          </p:blipFill>
          <p:spPr>
            <a:xfrm>
              <a:off x="533520" y="972000"/>
              <a:ext cx="3922200" cy="55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" descr=""/>
            <p:cNvPicPr/>
            <p:nvPr/>
          </p:nvPicPr>
          <p:blipFill>
            <a:blip r:embed="rId2"/>
            <a:stretch/>
          </p:blipFill>
          <p:spPr>
            <a:xfrm>
              <a:off x="4533840" y="972000"/>
              <a:ext cx="3967920" cy="55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3" name=""/>
            <p:cNvSpPr/>
            <p:nvPr/>
          </p:nvSpPr>
          <p:spPr>
            <a:xfrm>
              <a:off x="3129480" y="762120"/>
              <a:ext cx="133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271640" y="762120"/>
              <a:ext cx="126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953640" y="3344040"/>
              <a:ext cx="28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95480" y="299484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63160" y="2784600"/>
              <a:ext cx="28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75560" y="2505960"/>
              <a:ext cx="2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655640" y="2366640"/>
              <a:ext cx="2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66600" y="215640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47040" y="2018520"/>
              <a:ext cx="28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86600" y="1814760"/>
              <a:ext cx="28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49040" y="166896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577680" y="1363320"/>
              <a:ext cx="27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953640" y="5087880"/>
              <a:ext cx="28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24560" y="4808880"/>
              <a:ext cx="2800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95480" y="467100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36960" y="4461120"/>
              <a:ext cx="34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55640" y="4041360"/>
              <a:ext cx="2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375560" y="4180680"/>
              <a:ext cx="2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866600" y="411048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47040" y="3831480"/>
              <a:ext cx="28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38080" y="3483720"/>
              <a:ext cx="2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49040" y="341280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551400" y="3063600"/>
              <a:ext cx="2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24880" y="501912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63840" y="4736880"/>
              <a:ext cx="28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446800" y="278460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656320" y="2577960"/>
              <a:ext cx="28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63840" y="2994840"/>
              <a:ext cx="28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237280" y="2923920"/>
              <a:ext cx="2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849720" y="194976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763040" y="173808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867280" y="243828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358680" y="215640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024880" y="334404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954320" y="3483720"/>
              <a:ext cx="28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5320" y="4600800"/>
              <a:ext cx="28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095800" y="494856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84840" y="5365440"/>
              <a:ext cx="2786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446800" y="446112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27240" y="439092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867280" y="418068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429240" y="397080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849720" y="376272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63040" y="3483720"/>
              <a:ext cx="28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0EE-18C6-434F-A0D6-991DBC4FEE6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56C1C-E5A1-4ED0-A0BA-F4C5D0866216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389736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ABC-FCA8-4A6C-9999-1DB85067F94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2AE95-644A-43D5-BF9F-5618D3DEEAAE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4073760" cy="567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511-E1EB-48D9-98FD-242DFD743C98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E41B8-1A67-4F5B-BDFB-03637B9FA077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143000" y="457200"/>
            <a:ext cx="6591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Example PI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15000" y="1371600"/>
            <a:ext cx="3035160" cy="142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 marL="343080" indent="-34308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= 376,022 SLO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ort = 347 Person-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= 24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227240" y="2209680"/>
            <a:ext cx="311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286000" y="2209680"/>
            <a:ext cx="457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28600" y="1981080"/>
            <a:ext cx="10666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o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09680" y="18288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220400" y="2209680"/>
            <a:ext cx="91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880" y="2209680"/>
            <a:ext cx="140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43040" y="1981080"/>
            <a:ext cx="78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067360" cy="38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971-9059-4F1F-8644-8E2F42FFB83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32731-2580-4411-B794-56A6FF915F87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1" name=""/>
          <p:cNvGrpSpPr/>
          <p:nvPr/>
        </p:nvGrpSpPr>
        <p:grpSpPr>
          <a:xfrm>
            <a:off x="380880" y="609480"/>
            <a:ext cx="8323920" cy="5833440"/>
            <a:chOff x="380880" y="609480"/>
            <a:chExt cx="8323920" cy="5833440"/>
          </a:xfrm>
        </p:grpSpPr>
        <p:sp>
          <p:nvSpPr>
            <p:cNvPr id="1492" name=""/>
            <p:cNvSpPr/>
            <p:nvPr/>
          </p:nvSpPr>
          <p:spPr>
            <a:xfrm>
              <a:off x="990720" y="609480"/>
              <a:ext cx="7162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7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Arial Narrow"/>
                </a:rPr>
                <a:t>Productivity Index (PI)</a:t>
              </a:r>
              <a:br>
                <a:rPr sz="3600"/>
              </a:br>
              <a:r>
                <a:rPr b="1" lang="en-US" sz="3600" spc="-1" strike="noStrike">
                  <a:solidFill>
                    <a:srgbClr val="081d58"/>
                  </a:solidFill>
                  <a:latin typeface="Arial Narrow"/>
                </a:rPr>
                <a:t>(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 Narrow"/>
                </a:rPr>
                <a:t>industry values by application type</a:t>
              </a:r>
              <a:r>
                <a:rPr b="1" lang="en-US" sz="3600" spc="-1" strike="noStrike">
                  <a:solidFill>
                    <a:srgbClr val="081d58"/>
                  </a:solidFill>
                  <a:latin typeface="Arial Narrow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57480" y="1687680"/>
              <a:ext cx="4734000" cy="4101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109240" y="5873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505960" y="5873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896560" y="5873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295080" y="5873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683880" y="5873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031640" y="5873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20440" y="5873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818960" y="5873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09560" y="5873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606280" y="5873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96880" y="5873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95400" y="5873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157480" y="5791320"/>
              <a:ext cx="144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554200" y="5791320"/>
              <a:ext cx="180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44800" y="5791320"/>
              <a:ext cx="144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343320" y="5791320"/>
              <a:ext cx="144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32120" y="5791320"/>
              <a:ext cx="180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130640" y="5791320"/>
              <a:ext cx="180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519440" y="5791320"/>
              <a:ext cx="180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917960" y="5791320"/>
              <a:ext cx="180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08560" y="5791320"/>
              <a:ext cx="180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5791320"/>
              <a:ext cx="144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95880" y="5791320"/>
              <a:ext cx="180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494400" y="5791320"/>
              <a:ext cx="180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83560" y="5791320"/>
              <a:ext cx="1440" cy="82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784200" y="5873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627280" y="6229440"/>
              <a:ext cx="404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vity Index (PI) w/ ±1 Standard Dev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1" name=""/>
            <p:cNvGrpSpPr/>
            <p:nvPr/>
          </p:nvGrpSpPr>
          <p:grpSpPr>
            <a:xfrm>
              <a:off x="2554200" y="1687320"/>
              <a:ext cx="3942000" cy="4103640"/>
              <a:chOff x="2554200" y="1687320"/>
              <a:chExt cx="3942000" cy="4103640"/>
            </a:xfrm>
          </p:grpSpPr>
          <p:sp>
            <p:nvSpPr>
              <p:cNvPr id="1522" name=""/>
              <p:cNvSpPr/>
              <p:nvPr/>
            </p:nvSpPr>
            <p:spPr>
              <a:xfrm flipV="1">
                <a:off x="2554200" y="1687320"/>
                <a:ext cx="180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2944800" y="1687320"/>
                <a:ext cx="144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3343320" y="1687320"/>
                <a:ext cx="144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3732120" y="1687320"/>
                <a:ext cx="180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4130640" y="1687320"/>
                <a:ext cx="180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4519440" y="1687320"/>
                <a:ext cx="180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4917960" y="1687320"/>
                <a:ext cx="180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5308560" y="1687320"/>
                <a:ext cx="180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5705640" y="1687320"/>
                <a:ext cx="144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6095880" y="1687320"/>
                <a:ext cx="180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494400" y="1687320"/>
                <a:ext cx="1800" cy="4103640"/>
              </a:xfrm>
              <a:prstGeom prst="line">
                <a:avLst/>
              </a:prstGeom>
              <a:ln w="79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3" name=""/>
            <p:cNvSpPr/>
            <p:nvPr/>
          </p:nvSpPr>
          <p:spPr>
            <a:xfrm>
              <a:off x="380880" y="495792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vion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60720" y="4900680"/>
              <a:ext cx="1776240" cy="34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828880" y="5070600"/>
              <a:ext cx="220500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28880" y="4987800"/>
              <a:ext cx="1800" cy="17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033880" y="4987800"/>
              <a:ext cx="1800" cy="17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0880" y="183996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160720" y="1781280"/>
              <a:ext cx="3284280" cy="342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519440" y="1952640"/>
              <a:ext cx="184176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519440" y="1870200"/>
              <a:ext cx="1800" cy="17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361200" y="1870200"/>
              <a:ext cx="1440" cy="17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0880" y="406728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ommand and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60720" y="4008600"/>
              <a:ext cx="2298600" cy="342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608280" y="4179960"/>
              <a:ext cx="169092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608280" y="4097160"/>
              <a:ext cx="1800" cy="174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299200" y="4097160"/>
              <a:ext cx="1440" cy="174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80880" y="540540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icro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60720" y="5346720"/>
              <a:ext cx="1228680" cy="342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803680" y="5518080"/>
              <a:ext cx="117000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803680" y="5435640"/>
              <a:ext cx="1440" cy="17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973680" y="5435640"/>
              <a:ext cx="1440" cy="17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0880" y="317664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ocess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60720" y="3117960"/>
              <a:ext cx="2705040" cy="342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113360" y="3289320"/>
              <a:ext cx="149364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113360" y="3206880"/>
              <a:ext cx="1440" cy="172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607000" y="3206880"/>
              <a:ext cx="1800" cy="172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880" y="451332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al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60720" y="4454640"/>
              <a:ext cx="1800000" cy="342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143160" y="4626000"/>
              <a:ext cx="161784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143160" y="4543560"/>
              <a:ext cx="1800" cy="172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761000" y="4543560"/>
              <a:ext cx="1440" cy="172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0880" y="228600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cienti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60720" y="2227320"/>
              <a:ext cx="3003480" cy="342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46480" y="2398680"/>
              <a:ext cx="202428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146480" y="2316240"/>
              <a:ext cx="1800" cy="172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170760" y="2316240"/>
              <a:ext cx="1440" cy="172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80880" y="273204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60720" y="2673360"/>
              <a:ext cx="2836800" cy="341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98800" y="2844720"/>
              <a:ext cx="218124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898800" y="2760840"/>
              <a:ext cx="1800" cy="17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080040" y="2760840"/>
              <a:ext cx="1800" cy="17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0880" y="362268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elecommun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60720" y="3564000"/>
              <a:ext cx="2355840" cy="341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757680" y="3735360"/>
              <a:ext cx="150948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57680" y="3652920"/>
              <a:ext cx="1440" cy="172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67160" y="3652920"/>
              <a:ext cx="1800" cy="172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762600" y="1712880"/>
              <a:ext cx="185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3300"/>
                  </a:solidFill>
                  <a:latin typeface="Arial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34200" y="2219400"/>
              <a:ext cx="333360" cy="2124000"/>
            </a:xfrm>
            <a:custGeom>
              <a:avLst/>
              <a:gdLst>
                <a:gd name="textAreaLeft" fmla="*/ 0 w 333360"/>
                <a:gd name="textAreaRight" fmla="*/ 120240 w 333360"/>
                <a:gd name="textAreaTop" fmla="*/ 55080 h 2124000"/>
                <a:gd name="textAreaBottom" fmla="*/ 2068920 h 21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334200" y="4448160"/>
              <a:ext cx="333360" cy="1246320"/>
            </a:xfrm>
            <a:custGeom>
              <a:avLst/>
              <a:gdLst>
                <a:gd name="textAreaLeft" fmla="*/ 0 w 333360"/>
                <a:gd name="textAreaRight" fmla="*/ 120240 w 333360"/>
                <a:gd name="textAreaTop" fmla="*/ 32400 h 1246320"/>
                <a:gd name="textAreaBottom" fmla="*/ 1213920 h 12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763680" y="3046320"/>
              <a:ext cx="1941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Arial"/>
                </a:rPr>
                <a:t>Engine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764040" y="4836960"/>
              <a:ext cx="162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3366"/>
                  </a:solidFill>
                  <a:latin typeface="Arial"/>
                </a:rPr>
                <a:t>Real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9E7-C97C-4AA5-9152-C5B1AD6281D9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7EC1B-9443-4169-8DB8-64D088663883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"/>
          <p:cNvGrpSpPr/>
          <p:nvPr/>
        </p:nvGrpSpPr>
        <p:grpSpPr>
          <a:xfrm>
            <a:off x="838080" y="1447920"/>
            <a:ext cx="7467480" cy="4723920"/>
            <a:chOff x="838080" y="1447920"/>
            <a:chExt cx="7467480" cy="4723920"/>
          </a:xfrm>
        </p:grpSpPr>
        <p:grpSp>
          <p:nvGrpSpPr>
            <p:cNvPr id="1584" name=""/>
            <p:cNvGrpSpPr/>
            <p:nvPr/>
          </p:nvGrpSpPr>
          <p:grpSpPr>
            <a:xfrm>
              <a:off x="843480" y="1454400"/>
              <a:ext cx="7455600" cy="4709520"/>
              <a:chOff x="843480" y="1454400"/>
              <a:chExt cx="7455600" cy="4709520"/>
            </a:xfrm>
          </p:grpSpPr>
          <p:grpSp>
            <p:nvGrpSpPr>
              <p:cNvPr id="1585" name=""/>
              <p:cNvGrpSpPr/>
              <p:nvPr/>
            </p:nvGrpSpPr>
            <p:grpSpPr>
              <a:xfrm>
                <a:off x="843480" y="1454400"/>
                <a:ext cx="1835640" cy="1134000"/>
                <a:chOff x="843480" y="1454400"/>
                <a:chExt cx="1835640" cy="113400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843480" y="1454400"/>
                  <a:ext cx="1835640" cy="11340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7" name=""/>
                <p:cNvGrpSpPr/>
                <p:nvPr/>
              </p:nvGrpSpPr>
              <p:grpSpPr>
                <a:xfrm>
                  <a:off x="843480" y="1454400"/>
                  <a:ext cx="1835280" cy="1133640"/>
                  <a:chOff x="843480" y="1454400"/>
                  <a:chExt cx="1835280" cy="1133640"/>
                </a:xfrm>
              </p:grpSpPr>
              <p:sp>
                <p:nvSpPr>
                  <p:cNvPr id="1588" name=""/>
                  <p:cNvSpPr/>
                  <p:nvPr/>
                </p:nvSpPr>
                <p:spPr>
                  <a:xfrm>
                    <a:off x="925920" y="1454400"/>
                    <a:ext cx="1670040" cy="11336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843480" y="1454400"/>
                    <a:ext cx="1835280" cy="113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0" name=""/>
              <p:cNvGrpSpPr/>
              <p:nvPr/>
            </p:nvGrpSpPr>
            <p:grpSpPr>
              <a:xfrm>
                <a:off x="2679480" y="1454400"/>
                <a:ext cx="1998720" cy="1134000"/>
                <a:chOff x="2679480" y="1454400"/>
                <a:chExt cx="1998720" cy="113400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2679480" y="1454400"/>
                  <a:ext cx="1998720" cy="11340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2" name=""/>
                <p:cNvGrpSpPr/>
                <p:nvPr/>
              </p:nvGrpSpPr>
              <p:grpSpPr>
                <a:xfrm>
                  <a:off x="2679480" y="1454400"/>
                  <a:ext cx="1998360" cy="1133640"/>
                  <a:chOff x="2679480" y="1454400"/>
                  <a:chExt cx="1998360" cy="113364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>
                    <a:off x="2761920" y="1454400"/>
                    <a:ext cx="1833120" cy="11336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evious Performanc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2679480" y="1454400"/>
                    <a:ext cx="1998360" cy="113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5" name=""/>
              <p:cNvGrpSpPr/>
              <p:nvPr/>
            </p:nvGrpSpPr>
            <p:grpSpPr>
              <a:xfrm>
                <a:off x="4678920" y="1454400"/>
                <a:ext cx="1991160" cy="1134000"/>
                <a:chOff x="4678920" y="1454400"/>
                <a:chExt cx="1991160" cy="113400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4678920" y="1454400"/>
                  <a:ext cx="1991160" cy="11340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7" name=""/>
                <p:cNvGrpSpPr/>
                <p:nvPr/>
              </p:nvGrpSpPr>
              <p:grpSpPr>
                <a:xfrm>
                  <a:off x="4678920" y="1454400"/>
                  <a:ext cx="1990800" cy="1133640"/>
                  <a:chOff x="4678920" y="1454400"/>
                  <a:chExt cx="1990800" cy="1133640"/>
                </a:xfrm>
              </p:grpSpPr>
              <p:sp>
                <p:nvSpPr>
                  <p:cNvPr id="1598" name=""/>
                  <p:cNvSpPr/>
                  <p:nvPr/>
                </p:nvSpPr>
                <p:spPr>
                  <a:xfrm>
                    <a:off x="4761360" y="1454400"/>
                    <a:ext cx="1825920" cy="11336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urrent Performanc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4678920" y="1454400"/>
                    <a:ext cx="1990800" cy="113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0" name=""/>
              <p:cNvGrpSpPr/>
              <p:nvPr/>
            </p:nvGrpSpPr>
            <p:grpSpPr>
              <a:xfrm>
                <a:off x="6670440" y="1454400"/>
                <a:ext cx="1628640" cy="1134000"/>
                <a:chOff x="6670440" y="1454400"/>
                <a:chExt cx="1628640" cy="113400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6670440" y="1454400"/>
                  <a:ext cx="1628640" cy="11340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2" name=""/>
                <p:cNvGrpSpPr/>
                <p:nvPr/>
              </p:nvGrpSpPr>
              <p:grpSpPr>
                <a:xfrm>
                  <a:off x="6670440" y="1454400"/>
                  <a:ext cx="1628280" cy="1133640"/>
                  <a:chOff x="6670440" y="1454400"/>
                  <a:chExt cx="1628280" cy="1133640"/>
                </a:xfrm>
              </p:grpSpPr>
              <p:sp>
                <p:nvSpPr>
                  <p:cNvPr id="1603" name=""/>
                  <p:cNvSpPr/>
                  <p:nvPr/>
                </p:nvSpPr>
                <p:spPr>
                  <a:xfrm>
                    <a:off x="6752880" y="1454400"/>
                    <a:ext cx="1463400" cy="11336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ercent Improvem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6670440" y="1454400"/>
                    <a:ext cx="1628280" cy="113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5" name=""/>
              <p:cNvGrpSpPr/>
              <p:nvPr/>
            </p:nvGrpSpPr>
            <p:grpSpPr>
              <a:xfrm>
                <a:off x="843480" y="2588760"/>
                <a:ext cx="1835640" cy="893160"/>
                <a:chOff x="843480" y="2588760"/>
                <a:chExt cx="1835640" cy="89316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843480" y="2588760"/>
                  <a:ext cx="1835640" cy="893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7" name=""/>
                <p:cNvGrpSpPr/>
                <p:nvPr/>
              </p:nvGrpSpPr>
              <p:grpSpPr>
                <a:xfrm>
                  <a:off x="843480" y="2588760"/>
                  <a:ext cx="1835280" cy="892800"/>
                  <a:chOff x="843480" y="2588760"/>
                  <a:chExt cx="1835280" cy="892800"/>
                </a:xfrm>
              </p:grpSpPr>
              <p:sp>
                <p:nvSpPr>
                  <p:cNvPr id="1608" name=""/>
                  <p:cNvSpPr/>
                  <p:nvPr/>
                </p:nvSpPr>
                <p:spPr>
                  <a:xfrm>
                    <a:off x="925920" y="2588760"/>
                    <a:ext cx="1670040" cy="892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oject Cos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843480" y="2588760"/>
                    <a:ext cx="183528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10" name=""/>
              <p:cNvGrpSpPr/>
              <p:nvPr/>
            </p:nvGrpSpPr>
            <p:grpSpPr>
              <a:xfrm>
                <a:off x="2679480" y="2588760"/>
                <a:ext cx="1998720" cy="893160"/>
                <a:chOff x="2679480" y="2588760"/>
                <a:chExt cx="1998720" cy="89316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2679480" y="2588760"/>
                  <a:ext cx="1998720" cy="893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2" name=""/>
                <p:cNvGrpSpPr/>
                <p:nvPr/>
              </p:nvGrpSpPr>
              <p:grpSpPr>
                <a:xfrm>
                  <a:off x="2679480" y="2588760"/>
                  <a:ext cx="1998360" cy="892800"/>
                  <a:chOff x="2679480" y="2588760"/>
                  <a:chExt cx="1998360" cy="89280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2761920" y="2588760"/>
                    <a:ext cx="1833120" cy="892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$2.8</a:t>
                    </a:r>
                    <a:r>
                      <a:rPr b="0" lang="en-US" sz="1500" spc="-1" strike="noStrike">
                        <a:solidFill>
                          <a:srgbClr val="00008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illio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2679480" y="2588760"/>
                    <a:ext cx="199836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15" name=""/>
              <p:cNvGrpSpPr/>
              <p:nvPr/>
            </p:nvGrpSpPr>
            <p:grpSpPr>
              <a:xfrm>
                <a:off x="4678920" y="2588760"/>
                <a:ext cx="1991160" cy="893160"/>
                <a:chOff x="4678920" y="2588760"/>
                <a:chExt cx="1991160" cy="89316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678920" y="2588760"/>
                  <a:ext cx="1991160" cy="893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7" name=""/>
                <p:cNvGrpSpPr/>
                <p:nvPr/>
              </p:nvGrpSpPr>
              <p:grpSpPr>
                <a:xfrm>
                  <a:off x="4678920" y="2588760"/>
                  <a:ext cx="1990800" cy="892800"/>
                  <a:chOff x="4678920" y="2588760"/>
                  <a:chExt cx="1990800" cy="892800"/>
                </a:xfrm>
              </p:grpSpPr>
              <p:sp>
                <p:nvSpPr>
                  <p:cNvPr id="1618" name=""/>
                  <p:cNvSpPr/>
                  <p:nvPr/>
                </p:nvSpPr>
                <p:spPr>
                  <a:xfrm>
                    <a:off x="4761360" y="2588760"/>
                    <a:ext cx="1825920" cy="892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$1.1 Millio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4678920" y="2588760"/>
                    <a:ext cx="199080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0" name=""/>
              <p:cNvGrpSpPr/>
              <p:nvPr/>
            </p:nvGrpSpPr>
            <p:grpSpPr>
              <a:xfrm>
                <a:off x="6670440" y="2588760"/>
                <a:ext cx="1628640" cy="893160"/>
                <a:chOff x="6670440" y="2588760"/>
                <a:chExt cx="1628640" cy="89316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6670440" y="2588760"/>
                  <a:ext cx="1628640" cy="893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2" name=""/>
                <p:cNvGrpSpPr/>
                <p:nvPr/>
              </p:nvGrpSpPr>
              <p:grpSpPr>
                <a:xfrm>
                  <a:off x="6670440" y="2588760"/>
                  <a:ext cx="1628280" cy="892800"/>
                  <a:chOff x="6670440" y="2588760"/>
                  <a:chExt cx="1628280" cy="892800"/>
                </a:xfrm>
              </p:grpSpPr>
              <p:sp>
                <p:nvSpPr>
                  <p:cNvPr id="1623" name=""/>
                  <p:cNvSpPr/>
                  <p:nvPr/>
                </p:nvSpPr>
                <p:spPr>
                  <a:xfrm>
                    <a:off x="6752880" y="2588760"/>
                    <a:ext cx="1463400" cy="892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1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6670440" y="2588760"/>
                    <a:ext cx="162828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5" name=""/>
              <p:cNvGrpSpPr/>
              <p:nvPr/>
            </p:nvGrpSpPr>
            <p:grpSpPr>
              <a:xfrm>
                <a:off x="843480" y="3482640"/>
                <a:ext cx="1835640" cy="893520"/>
                <a:chOff x="843480" y="3482640"/>
                <a:chExt cx="1835640" cy="89352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843480" y="3482640"/>
                  <a:ext cx="1835640" cy="893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7" name=""/>
                <p:cNvGrpSpPr/>
                <p:nvPr/>
              </p:nvGrpSpPr>
              <p:grpSpPr>
                <a:xfrm>
                  <a:off x="843480" y="3482640"/>
                  <a:ext cx="1835280" cy="893160"/>
                  <a:chOff x="843480" y="3482640"/>
                  <a:chExt cx="1835280" cy="89316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>
                    <a:off x="925920" y="3482640"/>
                    <a:ext cx="1670040" cy="893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chedul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843480" y="3482640"/>
                    <a:ext cx="1835280" cy="89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30" name=""/>
              <p:cNvGrpSpPr/>
              <p:nvPr/>
            </p:nvGrpSpPr>
            <p:grpSpPr>
              <a:xfrm>
                <a:off x="2679480" y="3482640"/>
                <a:ext cx="1998720" cy="893520"/>
                <a:chOff x="2679480" y="3482640"/>
                <a:chExt cx="1998720" cy="89352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2679480" y="3482640"/>
                  <a:ext cx="1998720" cy="893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2" name=""/>
                <p:cNvGrpSpPr/>
                <p:nvPr/>
              </p:nvGrpSpPr>
              <p:grpSpPr>
                <a:xfrm>
                  <a:off x="2679480" y="3482640"/>
                  <a:ext cx="1998360" cy="893160"/>
                  <a:chOff x="2679480" y="3482640"/>
                  <a:chExt cx="1998360" cy="893160"/>
                </a:xfrm>
              </p:grpSpPr>
              <p:sp>
                <p:nvSpPr>
                  <p:cNvPr id="1633" name=""/>
                  <p:cNvSpPr/>
                  <p:nvPr/>
                </p:nvSpPr>
                <p:spPr>
                  <a:xfrm>
                    <a:off x="2761920" y="3482640"/>
                    <a:ext cx="1833120" cy="893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8 month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2679480" y="3482640"/>
                    <a:ext cx="1998360" cy="89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35" name=""/>
              <p:cNvGrpSpPr/>
              <p:nvPr/>
            </p:nvGrpSpPr>
            <p:grpSpPr>
              <a:xfrm>
                <a:off x="4678920" y="3482640"/>
                <a:ext cx="1991160" cy="893520"/>
                <a:chOff x="4678920" y="3482640"/>
                <a:chExt cx="1991160" cy="8935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4678920" y="3482640"/>
                  <a:ext cx="1991160" cy="893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7" name=""/>
                <p:cNvGrpSpPr/>
                <p:nvPr/>
              </p:nvGrpSpPr>
              <p:grpSpPr>
                <a:xfrm>
                  <a:off x="4678920" y="3482640"/>
                  <a:ext cx="1990800" cy="893160"/>
                  <a:chOff x="4678920" y="3482640"/>
                  <a:chExt cx="1990800" cy="893160"/>
                </a:xfrm>
              </p:grpSpPr>
              <p:sp>
                <p:nvSpPr>
                  <p:cNvPr id="1638" name=""/>
                  <p:cNvSpPr/>
                  <p:nvPr/>
                </p:nvSpPr>
                <p:spPr>
                  <a:xfrm>
                    <a:off x="4761360" y="3482640"/>
                    <a:ext cx="1825920" cy="893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3.5 month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4678920" y="3482640"/>
                    <a:ext cx="1990800" cy="89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0" name=""/>
              <p:cNvGrpSpPr/>
              <p:nvPr/>
            </p:nvGrpSpPr>
            <p:grpSpPr>
              <a:xfrm>
                <a:off x="6670440" y="3482640"/>
                <a:ext cx="1628640" cy="893520"/>
                <a:chOff x="6670440" y="3482640"/>
                <a:chExt cx="1628640" cy="89352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6670440" y="3482640"/>
                  <a:ext cx="1628640" cy="893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2" name=""/>
                <p:cNvGrpSpPr/>
                <p:nvPr/>
              </p:nvGrpSpPr>
              <p:grpSpPr>
                <a:xfrm>
                  <a:off x="6670440" y="3482640"/>
                  <a:ext cx="1628280" cy="893160"/>
                  <a:chOff x="6670440" y="3482640"/>
                  <a:chExt cx="1628280" cy="89316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6752880" y="3482640"/>
                    <a:ext cx="1463400" cy="893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4%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6670440" y="3482640"/>
                    <a:ext cx="1628280" cy="89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5" name=""/>
              <p:cNvGrpSpPr/>
              <p:nvPr/>
            </p:nvGrpSpPr>
            <p:grpSpPr>
              <a:xfrm>
                <a:off x="843480" y="4376880"/>
                <a:ext cx="1835640" cy="893160"/>
                <a:chOff x="843480" y="4376880"/>
                <a:chExt cx="1835640" cy="89316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843480" y="4376880"/>
                  <a:ext cx="1835640" cy="893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7" name=""/>
                <p:cNvGrpSpPr/>
                <p:nvPr/>
              </p:nvGrpSpPr>
              <p:grpSpPr>
                <a:xfrm>
                  <a:off x="843480" y="4376880"/>
                  <a:ext cx="1835280" cy="892800"/>
                  <a:chOff x="843480" y="4376880"/>
                  <a:chExt cx="1835280" cy="89280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>
                    <a:off x="925920" y="4376880"/>
                    <a:ext cx="1670040" cy="892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umulative</a:t>
                    </a: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efect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843480" y="4376880"/>
                    <a:ext cx="183528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0" name=""/>
              <p:cNvGrpSpPr/>
              <p:nvPr/>
            </p:nvGrpSpPr>
            <p:grpSpPr>
              <a:xfrm>
                <a:off x="2679480" y="4376880"/>
                <a:ext cx="1998720" cy="893160"/>
                <a:chOff x="2679480" y="4376880"/>
                <a:chExt cx="1998720" cy="89316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2679480" y="4376880"/>
                  <a:ext cx="1998720" cy="893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2" name=""/>
                <p:cNvGrpSpPr/>
                <p:nvPr/>
              </p:nvGrpSpPr>
              <p:grpSpPr>
                <a:xfrm>
                  <a:off x="2679480" y="4376880"/>
                  <a:ext cx="1998360" cy="892800"/>
                  <a:chOff x="2679480" y="4376880"/>
                  <a:chExt cx="1998360" cy="892800"/>
                </a:xfrm>
              </p:grpSpPr>
              <p:sp>
                <p:nvSpPr>
                  <p:cNvPr id="1653" name=""/>
                  <p:cNvSpPr/>
                  <p:nvPr/>
                </p:nvSpPr>
                <p:spPr>
                  <a:xfrm>
                    <a:off x="2761920" y="4376880"/>
                    <a:ext cx="1833120" cy="892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,27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2679480" y="4376880"/>
                    <a:ext cx="199836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5" name=""/>
              <p:cNvGrpSpPr/>
              <p:nvPr/>
            </p:nvGrpSpPr>
            <p:grpSpPr>
              <a:xfrm>
                <a:off x="4678920" y="4376880"/>
                <a:ext cx="1991160" cy="893160"/>
                <a:chOff x="4678920" y="4376880"/>
                <a:chExt cx="1991160" cy="89316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4678920" y="4376880"/>
                  <a:ext cx="1991160" cy="893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7" name=""/>
                <p:cNvGrpSpPr/>
                <p:nvPr/>
              </p:nvGrpSpPr>
              <p:grpSpPr>
                <a:xfrm>
                  <a:off x="4678920" y="4376880"/>
                  <a:ext cx="1990800" cy="892800"/>
                  <a:chOff x="4678920" y="4376880"/>
                  <a:chExt cx="1990800" cy="892800"/>
                </a:xfrm>
              </p:grpSpPr>
              <p:sp>
                <p:nvSpPr>
                  <p:cNvPr id="1658" name=""/>
                  <p:cNvSpPr/>
                  <p:nvPr/>
                </p:nvSpPr>
                <p:spPr>
                  <a:xfrm>
                    <a:off x="4761360" y="4376880"/>
                    <a:ext cx="1825920" cy="892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8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4678920" y="4376880"/>
                    <a:ext cx="199080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60" name=""/>
              <p:cNvGrpSpPr/>
              <p:nvPr/>
            </p:nvGrpSpPr>
            <p:grpSpPr>
              <a:xfrm>
                <a:off x="6670440" y="4376880"/>
                <a:ext cx="1628640" cy="893160"/>
                <a:chOff x="6670440" y="4376880"/>
                <a:chExt cx="1628640" cy="89316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6670440" y="4376880"/>
                  <a:ext cx="1628640" cy="893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2" name=""/>
                <p:cNvGrpSpPr/>
                <p:nvPr/>
              </p:nvGrpSpPr>
              <p:grpSpPr>
                <a:xfrm>
                  <a:off x="6670440" y="4376880"/>
                  <a:ext cx="1628280" cy="892800"/>
                  <a:chOff x="6670440" y="4376880"/>
                  <a:chExt cx="1628280" cy="892800"/>
                </a:xfrm>
              </p:grpSpPr>
              <p:sp>
                <p:nvSpPr>
                  <p:cNvPr id="1663" name=""/>
                  <p:cNvSpPr/>
                  <p:nvPr/>
                </p:nvSpPr>
                <p:spPr>
                  <a:xfrm>
                    <a:off x="6752880" y="4376880"/>
                    <a:ext cx="1463400" cy="892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3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6670440" y="4376880"/>
                    <a:ext cx="162828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65" name=""/>
              <p:cNvGrpSpPr/>
              <p:nvPr/>
            </p:nvGrpSpPr>
            <p:grpSpPr>
              <a:xfrm>
                <a:off x="843480" y="5270400"/>
                <a:ext cx="1835640" cy="893520"/>
                <a:chOff x="843480" y="5270400"/>
                <a:chExt cx="1835640" cy="893520"/>
              </a:xfrm>
            </p:grpSpPr>
            <p:sp>
              <p:nvSpPr>
                <p:cNvPr id="1666" name=""/>
                <p:cNvSpPr/>
                <p:nvPr/>
              </p:nvSpPr>
              <p:spPr>
                <a:xfrm>
                  <a:off x="843480" y="5270400"/>
                  <a:ext cx="1835640" cy="893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7" name=""/>
                <p:cNvGrpSpPr/>
                <p:nvPr/>
              </p:nvGrpSpPr>
              <p:grpSpPr>
                <a:xfrm>
                  <a:off x="843480" y="5270400"/>
                  <a:ext cx="1835280" cy="893160"/>
                  <a:chOff x="843480" y="5270400"/>
                  <a:chExt cx="1835280" cy="893160"/>
                </a:xfrm>
              </p:grpSpPr>
              <p:sp>
                <p:nvSpPr>
                  <p:cNvPr id="1668" name=""/>
                  <p:cNvSpPr/>
                  <p:nvPr/>
                </p:nvSpPr>
                <p:spPr>
                  <a:xfrm>
                    <a:off x="925920" y="5270400"/>
                    <a:ext cx="1670040" cy="893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taffin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843480" y="5270400"/>
                    <a:ext cx="1835280" cy="89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0" name=""/>
              <p:cNvGrpSpPr/>
              <p:nvPr/>
            </p:nvGrpSpPr>
            <p:grpSpPr>
              <a:xfrm>
                <a:off x="2679480" y="5270400"/>
                <a:ext cx="1998720" cy="893520"/>
                <a:chOff x="2679480" y="5270400"/>
                <a:chExt cx="1998720" cy="8935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2679480" y="5270400"/>
                  <a:ext cx="1998720" cy="893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2" name=""/>
                <p:cNvGrpSpPr/>
                <p:nvPr/>
              </p:nvGrpSpPr>
              <p:grpSpPr>
                <a:xfrm>
                  <a:off x="2679480" y="5270400"/>
                  <a:ext cx="1998360" cy="893160"/>
                  <a:chOff x="2679480" y="5270400"/>
                  <a:chExt cx="1998360" cy="893160"/>
                </a:xfrm>
              </p:grpSpPr>
              <p:sp>
                <p:nvSpPr>
                  <p:cNvPr id="1673" name=""/>
                  <p:cNvSpPr/>
                  <p:nvPr/>
                </p:nvSpPr>
                <p:spPr>
                  <a:xfrm>
                    <a:off x="2761920" y="5270400"/>
                    <a:ext cx="1833120" cy="893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679480" y="5270400"/>
                    <a:ext cx="1998360" cy="89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5" name=""/>
              <p:cNvGrpSpPr/>
              <p:nvPr/>
            </p:nvGrpSpPr>
            <p:grpSpPr>
              <a:xfrm>
                <a:off x="4678920" y="5270400"/>
                <a:ext cx="1991160" cy="893520"/>
                <a:chOff x="4678920" y="5270400"/>
                <a:chExt cx="1991160" cy="8935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4678920" y="5270400"/>
                  <a:ext cx="1991160" cy="893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7" name=""/>
                <p:cNvGrpSpPr/>
                <p:nvPr/>
              </p:nvGrpSpPr>
              <p:grpSpPr>
                <a:xfrm>
                  <a:off x="4678920" y="5270400"/>
                  <a:ext cx="1990800" cy="893160"/>
                  <a:chOff x="4678920" y="5270400"/>
                  <a:chExt cx="1990800" cy="89316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4761360" y="5270400"/>
                    <a:ext cx="1825920" cy="893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4678920" y="5270400"/>
                    <a:ext cx="1990800" cy="89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80" name=""/>
              <p:cNvGrpSpPr/>
              <p:nvPr/>
            </p:nvGrpSpPr>
            <p:grpSpPr>
              <a:xfrm>
                <a:off x="6670440" y="5270400"/>
                <a:ext cx="1628640" cy="893520"/>
                <a:chOff x="6670440" y="5270400"/>
                <a:chExt cx="1628640" cy="893520"/>
              </a:xfrm>
            </p:grpSpPr>
            <p:sp>
              <p:nvSpPr>
                <p:cNvPr id="1681" name=""/>
                <p:cNvSpPr/>
                <p:nvPr/>
              </p:nvSpPr>
              <p:spPr>
                <a:xfrm>
                  <a:off x="6670440" y="5270400"/>
                  <a:ext cx="1628640" cy="893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2" name=""/>
                <p:cNvGrpSpPr/>
                <p:nvPr/>
              </p:nvGrpSpPr>
              <p:grpSpPr>
                <a:xfrm>
                  <a:off x="6670440" y="5270400"/>
                  <a:ext cx="1628280" cy="893160"/>
                  <a:chOff x="6670440" y="5270400"/>
                  <a:chExt cx="1628280" cy="893160"/>
                </a:xfrm>
              </p:grpSpPr>
              <p:sp>
                <p:nvSpPr>
                  <p:cNvPr id="1683" name=""/>
                  <p:cNvSpPr/>
                  <p:nvPr/>
                </p:nvSpPr>
                <p:spPr>
                  <a:xfrm>
                    <a:off x="6752880" y="5270400"/>
                    <a:ext cx="1463400" cy="8931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9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6670440" y="5270400"/>
                    <a:ext cx="1628280" cy="89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85" name=""/>
            <p:cNvSpPr/>
            <p:nvPr/>
          </p:nvSpPr>
          <p:spPr>
            <a:xfrm>
              <a:off x="838080" y="1447920"/>
              <a:ext cx="7467480" cy="472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2753640" y="6095880"/>
            <a:ext cx="60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Using average project size of 150,000 lines of new and modified code</a:t>
            </a:r>
            <a:r>
              <a:rPr b="0" lang="en-US" sz="2400" spc="-1" strike="noStrike">
                <a:solidFill>
                  <a:srgbClr val="ffcc66"/>
                </a:solidFill>
                <a:latin typeface="Swis721 BlkC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Before vs. After Summary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4D2-983E-47DC-B206-D0B99932C03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014A5-CA89-4172-A84D-12ED0EBF659E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8" name=""/>
          <p:cNvGraphicFramePr/>
          <p:nvPr/>
        </p:nvGraphicFramePr>
        <p:xfrm>
          <a:off x="380880" y="712800"/>
          <a:ext cx="8610840" cy="57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12800"/>
                    <a:ext cx="861084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974-3F7B-49FC-AE3F-F8E1F9DF033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DFC14-8119-45DD-A391-820F26E58C18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800600" cy="2792520"/>
          </a:xfrm>
          <a:prstGeom prst="rect">
            <a:avLst/>
          </a:prstGeom>
          <a:ln w="0">
            <a:noFill/>
          </a:ln>
        </p:spPr>
      </p:pic>
      <p:pic>
        <p:nvPicPr>
          <p:cNvPr id="1691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24080" cy="4467240"/>
          </a:xfrm>
          <a:prstGeom prst="rect">
            <a:avLst/>
          </a:prstGeom>
          <a:ln w="0">
            <a:noFill/>
          </a:ln>
        </p:spPr>
      </p:pic>
      <p:pic>
        <p:nvPicPr>
          <p:cNvPr id="16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3581280" cy="292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1B0-0CDF-4673-93BF-78E5AC4AB356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FACE5-B40E-4DA2-BFDB-23041A12CA83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00200" y="1828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8288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Traditional Rele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Traditional Release – Whiteboard Sketch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389-1995-4CA0-9F66-DFE4960602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3FB32-E2C5-491B-83D8-79442B24AE9B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380880" y="2362320"/>
            <a:ext cx="8458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akerSignet BT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BakerSignet BT"/>
              </a:rPr>
              <a:t>Without metrics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akerSignet BT"/>
              </a:rPr>
              <a:t> you’re just another person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akerSignet BT"/>
              </a:rPr>
              <a:t> with a different opinion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A16-3144-4A9B-93B0-5E7750AFDB11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B4441-2C05-4451-B36F-5853CD9EF578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324160" y="552600"/>
            <a:ext cx="6591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143000" y="22287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324160" y="552600"/>
            <a:ext cx="6591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143000" y="22287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0" name=""/>
          <p:cNvGrpSpPr/>
          <p:nvPr/>
        </p:nvGrpSpPr>
        <p:grpSpPr>
          <a:xfrm>
            <a:off x="809640" y="4273560"/>
            <a:ext cx="1444680" cy="1574640"/>
            <a:chOff x="809640" y="4273560"/>
            <a:chExt cx="1444680" cy="1574640"/>
          </a:xfrm>
        </p:grpSpPr>
        <p:sp>
          <p:nvSpPr>
            <p:cNvPr id="1701" name=""/>
            <p:cNvSpPr/>
            <p:nvPr/>
          </p:nvSpPr>
          <p:spPr>
            <a:xfrm>
              <a:off x="871560" y="5281560"/>
              <a:ext cx="1382760" cy="566640"/>
            </a:xfrm>
            <a:prstGeom prst="rect">
              <a:avLst/>
            </a:prstGeom>
            <a:solidFill>
              <a:srgbClr val="25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23840" y="5176800"/>
              <a:ext cx="922320" cy="27000"/>
            </a:xfrm>
            <a:prstGeom prst="rect">
              <a:avLst/>
            </a:prstGeom>
            <a:solidFill>
              <a:srgbClr val="e2cbcb"/>
            </a:solidFill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3" name=""/>
            <p:cNvGrpSpPr/>
            <p:nvPr/>
          </p:nvGrpSpPr>
          <p:grpSpPr>
            <a:xfrm>
              <a:off x="895320" y="4273560"/>
              <a:ext cx="1281240" cy="963720"/>
              <a:chOff x="895320" y="4273560"/>
              <a:chExt cx="1281240" cy="963720"/>
            </a:xfrm>
          </p:grpSpPr>
          <p:sp>
            <p:nvSpPr>
              <p:cNvPr id="1704" name=""/>
              <p:cNvSpPr/>
              <p:nvPr/>
            </p:nvSpPr>
            <p:spPr>
              <a:xfrm>
                <a:off x="958680" y="4335480"/>
                <a:ext cx="1217880" cy="901800"/>
              </a:xfrm>
              <a:prstGeom prst="rect">
                <a:avLst/>
              </a:prstGeom>
              <a:solidFill>
                <a:srgbClr val="250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95320" y="4273560"/>
                <a:ext cx="1204920" cy="885960"/>
              </a:xfrm>
              <a:prstGeom prst="rect">
                <a:avLst/>
              </a:prstGeom>
              <a:solidFill>
                <a:srgbClr val="f3f3f3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1936800" y="5108400"/>
              <a:ext cx="44280" cy="1764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930320" y="5110200"/>
              <a:ext cx="0" cy="349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938240" y="5102280"/>
              <a:ext cx="6192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998640" y="4402080"/>
              <a:ext cx="973080" cy="620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981000" y="4376880"/>
              <a:ext cx="1015920" cy="6714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955800" y="4349880"/>
              <a:ext cx="1068120" cy="72360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09640" y="5599080"/>
              <a:ext cx="1368360" cy="17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09640" y="5684760"/>
              <a:ext cx="163440" cy="8748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805040" y="5676840"/>
              <a:ext cx="365040" cy="9540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9640" y="5219640"/>
              <a:ext cx="1368360" cy="474840"/>
            </a:xfrm>
            <a:prstGeom prst="roundRect">
              <a:avLst>
                <a:gd name="adj" fmla="val 12329"/>
              </a:avLst>
            </a:prstGeom>
            <a:solidFill>
              <a:srgbClr val="f3f3f3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189080" y="5254560"/>
              <a:ext cx="592200" cy="387360"/>
            </a:xfrm>
            <a:prstGeom prst="roundRect">
              <a:avLst>
                <a:gd name="adj" fmla="val 12255"/>
              </a:avLst>
            </a:prstGeom>
            <a:solidFill>
              <a:srgbClr val="bfbfbf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76320" y="5383080"/>
              <a:ext cx="223920" cy="11268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963800" y="5400720"/>
              <a:ext cx="102960" cy="698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878120" y="5506920"/>
              <a:ext cx="24120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111400" y="5384880"/>
              <a:ext cx="0" cy="12996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190520" y="5238720"/>
              <a:ext cx="9637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182600" y="5246640"/>
              <a:ext cx="0" cy="42408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190520" y="5661000"/>
              <a:ext cx="96372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146320" y="5256360"/>
              <a:ext cx="0" cy="41436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198440" y="5248440"/>
              <a:ext cx="6019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190520" y="5256360"/>
              <a:ext cx="0" cy="4046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198440" y="5653080"/>
              <a:ext cx="601920" cy="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800360" y="5256360"/>
              <a:ext cx="0" cy="40464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20800" y="5308560"/>
              <a:ext cx="30960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20800" y="5291280"/>
              <a:ext cx="3175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20800" y="5602320"/>
              <a:ext cx="30960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20800" y="5584680"/>
              <a:ext cx="3175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878120" y="5308560"/>
              <a:ext cx="31104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878120" y="5291280"/>
              <a:ext cx="31896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878120" y="5602320"/>
              <a:ext cx="31104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878120" y="5584680"/>
              <a:ext cx="31896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53920" y="5713560"/>
              <a:ext cx="13003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208160" y="5359320"/>
              <a:ext cx="584280" cy="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208160" y="5489640"/>
              <a:ext cx="584280" cy="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335240" y="5262480"/>
              <a:ext cx="223560" cy="7776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336680" y="5256360"/>
              <a:ext cx="2412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28760" y="5264280"/>
              <a:ext cx="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335240" y="5383080"/>
              <a:ext cx="223560" cy="7956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336680" y="5376960"/>
              <a:ext cx="2412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328760" y="5384880"/>
              <a:ext cx="0" cy="968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335240" y="5513400"/>
              <a:ext cx="223560" cy="11268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336680" y="5506920"/>
              <a:ext cx="2412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328760" y="5514840"/>
              <a:ext cx="0" cy="13032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78040" y="5408640"/>
              <a:ext cx="155520" cy="44280"/>
            </a:xfrm>
            <a:prstGeom prst="roundRect">
              <a:avLst>
                <a:gd name="adj" fmla="val 47676"/>
              </a:avLst>
            </a:prstGeom>
            <a:noFill/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61840" y="5400720"/>
              <a:ext cx="154080" cy="44280"/>
            </a:xfrm>
            <a:prstGeom prst="roundRect">
              <a:avLst>
                <a:gd name="adj" fmla="val 47676"/>
              </a:avLst>
            </a:prstGeom>
            <a:solidFill>
              <a:srgbClr val="f3f3f3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96760" y="5427720"/>
              <a:ext cx="105120" cy="0"/>
            </a:xfrm>
            <a:prstGeom prst="line">
              <a:avLst/>
            </a:prstGeom>
            <a:ln w="12600">
              <a:solidFill>
                <a:srgbClr val="9e02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241280" y="5299200"/>
              <a:ext cx="51624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241280" y="5291280"/>
              <a:ext cx="5256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311120" y="5419800"/>
              <a:ext cx="37800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11120" y="5411880"/>
              <a:ext cx="37008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11360" y="5454720"/>
              <a:ext cx="69840" cy="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11360" y="5445000"/>
              <a:ext cx="60120" cy="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662120" y="5273640"/>
              <a:ext cx="69840" cy="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662120" y="5265720"/>
              <a:ext cx="61920" cy="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884240" y="5451480"/>
              <a:ext cx="44640" cy="1908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8120" y="5452920"/>
              <a:ext cx="0" cy="36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886040" y="5445000"/>
              <a:ext cx="6192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971720" y="5425920"/>
              <a:ext cx="17280" cy="19080"/>
            </a:xfrm>
            <a:prstGeom prst="ellipse">
              <a:avLst/>
            </a:prstGeom>
            <a:noFill/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050920" y="5419800"/>
              <a:ext cx="0" cy="4428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893960" y="5592600"/>
              <a:ext cx="54000" cy="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3639960" y="1825560"/>
            <a:ext cx="1444680" cy="1575000"/>
            <a:chOff x="3639960" y="1825560"/>
            <a:chExt cx="1444680" cy="1575000"/>
          </a:xfrm>
        </p:grpSpPr>
        <p:sp>
          <p:nvSpPr>
            <p:cNvPr id="1767" name=""/>
            <p:cNvSpPr/>
            <p:nvPr/>
          </p:nvSpPr>
          <p:spPr>
            <a:xfrm>
              <a:off x="3701880" y="2833560"/>
              <a:ext cx="1382760" cy="567000"/>
            </a:xfrm>
            <a:prstGeom prst="rect">
              <a:avLst/>
            </a:prstGeom>
            <a:solidFill>
              <a:srgbClr val="25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854520" y="2728800"/>
              <a:ext cx="922320" cy="25560"/>
            </a:xfrm>
            <a:prstGeom prst="rect">
              <a:avLst/>
            </a:prstGeom>
            <a:solidFill>
              <a:srgbClr val="e2cbcb"/>
            </a:solidFill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9" name=""/>
            <p:cNvGrpSpPr/>
            <p:nvPr/>
          </p:nvGrpSpPr>
          <p:grpSpPr>
            <a:xfrm>
              <a:off x="3726000" y="1825560"/>
              <a:ext cx="1280880" cy="963720"/>
              <a:chOff x="3726000" y="1825560"/>
              <a:chExt cx="1280880" cy="963720"/>
            </a:xfrm>
          </p:grpSpPr>
          <p:sp>
            <p:nvSpPr>
              <p:cNvPr id="1770" name=""/>
              <p:cNvSpPr/>
              <p:nvPr/>
            </p:nvSpPr>
            <p:spPr>
              <a:xfrm>
                <a:off x="3787920" y="1887480"/>
                <a:ext cx="1218960" cy="901800"/>
              </a:xfrm>
              <a:prstGeom prst="rect">
                <a:avLst/>
              </a:prstGeom>
              <a:solidFill>
                <a:srgbClr val="250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726000" y="1825560"/>
                <a:ext cx="1204920" cy="885960"/>
              </a:xfrm>
              <a:prstGeom prst="rect">
                <a:avLst/>
              </a:prstGeom>
              <a:solidFill>
                <a:srgbClr val="f3f3f3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2" name=""/>
            <p:cNvSpPr/>
            <p:nvPr/>
          </p:nvSpPr>
          <p:spPr>
            <a:xfrm>
              <a:off x="4767120" y="2660760"/>
              <a:ext cx="42840" cy="1728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61000" y="2662200"/>
              <a:ext cx="0" cy="349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768920" y="2654280"/>
              <a:ext cx="6012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828960" y="1954080"/>
              <a:ext cx="973080" cy="62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811680" y="1928880"/>
              <a:ext cx="1015920" cy="6714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786120" y="1901880"/>
              <a:ext cx="1068480" cy="72396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639960" y="3151080"/>
              <a:ext cx="1368720" cy="17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639960" y="3236760"/>
              <a:ext cx="163800" cy="8748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633920" y="3228840"/>
              <a:ext cx="365040" cy="9540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639960" y="2771640"/>
              <a:ext cx="1368720" cy="474840"/>
            </a:xfrm>
            <a:prstGeom prst="roundRect">
              <a:avLst>
                <a:gd name="adj" fmla="val 12329"/>
              </a:avLst>
            </a:prstGeom>
            <a:solidFill>
              <a:srgbClr val="f3f3f3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019400" y="2806560"/>
              <a:ext cx="592200" cy="387360"/>
            </a:xfrm>
            <a:prstGeom prst="roundRect">
              <a:avLst>
                <a:gd name="adj" fmla="val 12255"/>
              </a:avLst>
            </a:prstGeom>
            <a:solidFill>
              <a:srgbClr val="bfbfbf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705200" y="2935440"/>
              <a:ext cx="225720" cy="11268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792680" y="2952720"/>
              <a:ext cx="104760" cy="698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707000" y="3059280"/>
              <a:ext cx="24300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41720" y="2936880"/>
              <a:ext cx="0" cy="13032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021200" y="2790720"/>
              <a:ext cx="9637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13280" y="2798640"/>
              <a:ext cx="0" cy="42408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021200" y="3213000"/>
              <a:ext cx="96372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975200" y="2808360"/>
              <a:ext cx="0" cy="41436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029120" y="2800440"/>
              <a:ext cx="6015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021200" y="2808360"/>
              <a:ext cx="0" cy="4046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029120" y="3205080"/>
              <a:ext cx="601560" cy="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630680" y="2808360"/>
              <a:ext cx="0" cy="40464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49680" y="2860560"/>
              <a:ext cx="31104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649680" y="2843280"/>
              <a:ext cx="31896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649680" y="3152880"/>
              <a:ext cx="31104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49680" y="3137040"/>
              <a:ext cx="31896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707000" y="2860560"/>
              <a:ext cx="31104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707000" y="2843280"/>
              <a:ext cx="32076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707000" y="3152880"/>
              <a:ext cx="31104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707000" y="3137040"/>
              <a:ext cx="32076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684600" y="3265560"/>
              <a:ext cx="13003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038480" y="2911320"/>
              <a:ext cx="584280" cy="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038480" y="3041640"/>
              <a:ext cx="584280" cy="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165560" y="2814480"/>
              <a:ext cx="223920" cy="7812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167360" y="2808360"/>
              <a:ext cx="2412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159080" y="2816280"/>
              <a:ext cx="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165560" y="2935440"/>
              <a:ext cx="223920" cy="7920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167360" y="2928960"/>
              <a:ext cx="2412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159080" y="2936880"/>
              <a:ext cx="0" cy="968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165560" y="3065400"/>
              <a:ext cx="223920" cy="11268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167360" y="3059280"/>
              <a:ext cx="2412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159080" y="3067200"/>
              <a:ext cx="0" cy="129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708360" y="2960640"/>
              <a:ext cx="155520" cy="44640"/>
            </a:xfrm>
            <a:prstGeom prst="roundRect">
              <a:avLst>
                <a:gd name="adj" fmla="val 47676"/>
              </a:avLst>
            </a:prstGeom>
            <a:noFill/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692520" y="2952720"/>
              <a:ext cx="154080" cy="44640"/>
            </a:xfrm>
            <a:prstGeom prst="roundRect">
              <a:avLst>
                <a:gd name="adj" fmla="val 47676"/>
              </a:avLst>
            </a:prstGeom>
            <a:solidFill>
              <a:srgbClr val="f3f3f3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727440" y="2979720"/>
              <a:ext cx="103320" cy="0"/>
            </a:xfrm>
            <a:prstGeom prst="line">
              <a:avLst/>
            </a:prstGeom>
            <a:ln w="12600">
              <a:solidFill>
                <a:srgbClr val="9e02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071960" y="2851200"/>
              <a:ext cx="51588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071960" y="2843280"/>
              <a:ext cx="5256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141800" y="2971800"/>
              <a:ext cx="37764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141800" y="2962440"/>
              <a:ext cx="3697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441680" y="3006720"/>
              <a:ext cx="69840" cy="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41680" y="2997360"/>
              <a:ext cx="60480" cy="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492800" y="2825640"/>
              <a:ext cx="69840" cy="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492800" y="2816280"/>
              <a:ext cx="61560" cy="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14920" y="3003480"/>
              <a:ext cx="44280" cy="1908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708440" y="3005280"/>
              <a:ext cx="0" cy="3636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716360" y="2997360"/>
              <a:ext cx="6192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802040" y="2978280"/>
              <a:ext cx="17640" cy="19080"/>
            </a:xfrm>
            <a:prstGeom prst="ellipse">
              <a:avLst/>
            </a:prstGeom>
            <a:noFill/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881600" y="2970360"/>
              <a:ext cx="0" cy="4572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724280" y="3144960"/>
              <a:ext cx="54000" cy="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6985080" y="4297320"/>
            <a:ext cx="1444680" cy="1575000"/>
            <a:chOff x="6985080" y="4297320"/>
            <a:chExt cx="1444680" cy="1575000"/>
          </a:xfrm>
        </p:grpSpPr>
        <p:sp>
          <p:nvSpPr>
            <p:cNvPr id="1833" name=""/>
            <p:cNvSpPr/>
            <p:nvPr/>
          </p:nvSpPr>
          <p:spPr>
            <a:xfrm>
              <a:off x="7048440" y="5307120"/>
              <a:ext cx="1381320" cy="565200"/>
            </a:xfrm>
            <a:prstGeom prst="rect">
              <a:avLst/>
            </a:prstGeom>
            <a:solidFill>
              <a:srgbClr val="25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201080" y="5200560"/>
              <a:ext cx="920520" cy="27000"/>
            </a:xfrm>
            <a:prstGeom prst="rect">
              <a:avLst/>
            </a:prstGeom>
            <a:solidFill>
              <a:srgbClr val="e2cbcb"/>
            </a:solidFill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5" name=""/>
            <p:cNvGrpSpPr/>
            <p:nvPr/>
          </p:nvGrpSpPr>
          <p:grpSpPr>
            <a:xfrm>
              <a:off x="7070760" y="4297320"/>
              <a:ext cx="1282680" cy="963720"/>
              <a:chOff x="7070760" y="4297320"/>
              <a:chExt cx="1282680" cy="963720"/>
            </a:xfrm>
          </p:grpSpPr>
          <p:sp>
            <p:nvSpPr>
              <p:cNvPr id="1836" name=""/>
              <p:cNvSpPr/>
              <p:nvPr/>
            </p:nvSpPr>
            <p:spPr>
              <a:xfrm>
                <a:off x="7134120" y="4359240"/>
                <a:ext cx="1219320" cy="901800"/>
              </a:xfrm>
              <a:prstGeom prst="rect">
                <a:avLst/>
              </a:prstGeom>
              <a:solidFill>
                <a:srgbClr val="250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70760" y="4297320"/>
                <a:ext cx="1204920" cy="887400"/>
              </a:xfrm>
              <a:prstGeom prst="rect">
                <a:avLst/>
              </a:prstGeom>
              <a:solidFill>
                <a:srgbClr val="f3f3f3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>
              <a:off x="8112240" y="5132520"/>
              <a:ext cx="44280" cy="1728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105760" y="5133960"/>
              <a:ext cx="0" cy="349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113680" y="5126040"/>
              <a:ext cx="6192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174080" y="4425840"/>
              <a:ext cx="973080" cy="62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156440" y="4400640"/>
              <a:ext cx="1017720" cy="6714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130880" y="4375080"/>
              <a:ext cx="1068480" cy="72396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985080" y="5624640"/>
              <a:ext cx="1368360" cy="171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985080" y="5710320"/>
              <a:ext cx="163440" cy="8568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980480" y="5700600"/>
              <a:ext cx="365040" cy="9540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985080" y="5243400"/>
              <a:ext cx="1368360" cy="474840"/>
            </a:xfrm>
            <a:prstGeom prst="roundRect">
              <a:avLst>
                <a:gd name="adj" fmla="val 12329"/>
              </a:avLst>
            </a:prstGeom>
            <a:solidFill>
              <a:srgbClr val="f3f3f3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364520" y="5278320"/>
              <a:ext cx="592200" cy="389160"/>
            </a:xfrm>
            <a:prstGeom prst="roundRect">
              <a:avLst>
                <a:gd name="adj" fmla="val 12222"/>
              </a:avLst>
            </a:prstGeom>
            <a:solidFill>
              <a:srgbClr val="bfbfbf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051760" y="5407200"/>
              <a:ext cx="223920" cy="11412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139240" y="5424480"/>
              <a:ext cx="102960" cy="7128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053560" y="5530680"/>
              <a:ext cx="24120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286840" y="5408640"/>
              <a:ext cx="0" cy="13176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365960" y="5264280"/>
              <a:ext cx="9637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358040" y="5272200"/>
              <a:ext cx="0" cy="42228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365960" y="5686560"/>
              <a:ext cx="96372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321760" y="5280120"/>
              <a:ext cx="0" cy="41436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375680" y="5272200"/>
              <a:ext cx="5997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367760" y="5280120"/>
              <a:ext cx="0" cy="4064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375680" y="5676840"/>
              <a:ext cx="599760" cy="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975440" y="5280120"/>
              <a:ext cx="0" cy="40644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996240" y="5332320"/>
              <a:ext cx="30960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996240" y="5315040"/>
              <a:ext cx="3175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996240" y="5626080"/>
              <a:ext cx="30960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996240" y="5608800"/>
              <a:ext cx="3175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053560" y="5332320"/>
              <a:ext cx="31104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053560" y="5315040"/>
              <a:ext cx="31896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053560" y="5626080"/>
              <a:ext cx="311040" cy="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053560" y="5608800"/>
              <a:ext cx="31896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029360" y="5737320"/>
              <a:ext cx="1300320" cy="0"/>
            </a:xfrm>
            <a:prstGeom prst="line">
              <a:avLst/>
            </a:prstGeom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383600" y="5383080"/>
              <a:ext cx="583920" cy="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383600" y="5514840"/>
              <a:ext cx="583920" cy="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510320" y="5288040"/>
              <a:ext cx="223920" cy="7596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512120" y="5281560"/>
              <a:ext cx="2412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504200" y="5289480"/>
              <a:ext cx="0" cy="9360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510320" y="5407200"/>
              <a:ext cx="223920" cy="7920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512120" y="5400720"/>
              <a:ext cx="2412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504200" y="5408640"/>
              <a:ext cx="0" cy="968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510320" y="5537160"/>
              <a:ext cx="223920" cy="112680"/>
            </a:xfrm>
            <a:prstGeom prst="rect">
              <a:avLst/>
            </a:prstGeom>
            <a:noFill/>
            <a:ln w="12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512120" y="5530680"/>
              <a:ext cx="2412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504200" y="5538960"/>
              <a:ext cx="0" cy="129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054920" y="5433840"/>
              <a:ext cx="154080" cy="44640"/>
            </a:xfrm>
            <a:prstGeom prst="roundRect">
              <a:avLst>
                <a:gd name="adj" fmla="val 47676"/>
              </a:avLst>
            </a:prstGeom>
            <a:noFill/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037280" y="5424480"/>
              <a:ext cx="154080" cy="44280"/>
            </a:xfrm>
            <a:prstGeom prst="roundRect">
              <a:avLst>
                <a:gd name="adj" fmla="val 47676"/>
              </a:avLst>
            </a:prstGeom>
            <a:solidFill>
              <a:srgbClr val="f3f3f3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072200" y="5452920"/>
              <a:ext cx="104760" cy="0"/>
            </a:xfrm>
            <a:prstGeom prst="line">
              <a:avLst/>
            </a:prstGeom>
            <a:ln w="12600">
              <a:solidFill>
                <a:srgbClr val="9e02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418520" y="5324400"/>
              <a:ext cx="51408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418520" y="5315040"/>
              <a:ext cx="5238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486560" y="5443560"/>
              <a:ext cx="37800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486560" y="5435640"/>
              <a:ext cx="37008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786800" y="5478480"/>
              <a:ext cx="69840" cy="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786800" y="5470560"/>
              <a:ext cx="60120" cy="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839000" y="5297400"/>
              <a:ext cx="68400" cy="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839000" y="5289480"/>
              <a:ext cx="60480" cy="0"/>
            </a:xfrm>
            <a:prstGeom prst="line">
              <a:avLst/>
            </a:prstGeom>
            <a:ln w="1260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059680" y="5477040"/>
              <a:ext cx="44640" cy="1872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053560" y="5478480"/>
              <a:ext cx="0" cy="3636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061480" y="5470560"/>
              <a:ext cx="6192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147160" y="5450040"/>
              <a:ext cx="17280" cy="18720"/>
            </a:xfrm>
            <a:prstGeom prst="ellipse">
              <a:avLst/>
            </a:prstGeom>
            <a:noFill/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6360" y="5443560"/>
              <a:ext cx="0" cy="4428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070840" y="5618160"/>
              <a:ext cx="52560" cy="0"/>
            </a:xfrm>
            <a:prstGeom prst="line">
              <a:avLst/>
            </a:prstGeom>
            <a:ln w="12600">
              <a:solidFill>
                <a:srgbClr val="25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8" name=""/>
          <p:cNvSpPr/>
          <p:nvPr/>
        </p:nvSpPr>
        <p:spPr>
          <a:xfrm>
            <a:off x="1050840" y="4444920"/>
            <a:ext cx="89532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875040" y="1996920"/>
            <a:ext cx="89532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202520" y="4468680"/>
            <a:ext cx="89676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991080" y="4419720"/>
            <a:ext cx="98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LIM-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811320" y="1981080"/>
            <a:ext cx="1029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LIM-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7153920" y="4440240"/>
            <a:ext cx="999000" cy="614520"/>
            <a:chOff x="7153920" y="4440240"/>
            <a:chExt cx="999000" cy="614520"/>
          </a:xfrm>
        </p:grpSpPr>
        <p:sp>
          <p:nvSpPr>
            <p:cNvPr id="1904" name=""/>
            <p:cNvSpPr/>
            <p:nvPr/>
          </p:nvSpPr>
          <p:spPr>
            <a:xfrm>
              <a:off x="7239960" y="444024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LIM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153920" y="4687920"/>
              <a:ext cx="99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36760" y="4599000"/>
            <a:ext cx="1768680" cy="1086480"/>
            <a:chOff x="2336760" y="4599000"/>
            <a:chExt cx="1768680" cy="1086480"/>
          </a:xfrm>
        </p:grpSpPr>
        <p:sp>
          <p:nvSpPr>
            <p:cNvPr id="1907" name=""/>
            <p:cNvSpPr/>
            <p:nvPr/>
          </p:nvSpPr>
          <p:spPr>
            <a:xfrm>
              <a:off x="2637000" y="4599000"/>
              <a:ext cx="1162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etric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400480" y="4927680"/>
              <a:ext cx="1643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336760" y="5257800"/>
              <a:ext cx="17686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&amp; Analysi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619880" y="1881360"/>
            <a:ext cx="2869560" cy="1414440"/>
            <a:chOff x="4619880" y="1881360"/>
            <a:chExt cx="2869560" cy="1414440"/>
          </a:xfrm>
        </p:grpSpPr>
        <p:sp>
          <p:nvSpPr>
            <p:cNvPr id="1911" name=""/>
            <p:cNvSpPr/>
            <p:nvPr/>
          </p:nvSpPr>
          <p:spPr>
            <a:xfrm>
              <a:off x="5269680" y="1881360"/>
              <a:ext cx="2219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ze, Schedule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619880" y="2211480"/>
              <a:ext cx="28076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st &amp; Qua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866840" y="2540160"/>
              <a:ext cx="23126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stimat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18200" y="2868480"/>
              <a:ext cx="16128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021280" y="4267080"/>
            <a:ext cx="1768320" cy="1745280"/>
            <a:chOff x="5021280" y="4267080"/>
            <a:chExt cx="1768320" cy="1745280"/>
          </a:xfrm>
        </p:grpSpPr>
        <p:sp>
          <p:nvSpPr>
            <p:cNvPr id="1916" name=""/>
            <p:cNvSpPr/>
            <p:nvPr/>
          </p:nvSpPr>
          <p:spPr>
            <a:xfrm>
              <a:off x="5150880" y="4267080"/>
              <a:ext cx="15048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tatistic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65720" y="4595760"/>
              <a:ext cx="1271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175720" y="4925880"/>
              <a:ext cx="14562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trol &amp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221080" y="5254560"/>
              <a:ext cx="1364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daptiv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021280" y="5584680"/>
              <a:ext cx="17683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ecast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152280" y="3886200"/>
            <a:ext cx="4025880" cy="250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676520" y="2362320"/>
            <a:ext cx="977760" cy="1434960"/>
          </a:xfrm>
          <a:prstGeom prst="downArrow">
            <a:avLst>
              <a:gd name="adj1" fmla="val 50000"/>
              <a:gd name="adj2" fmla="val 73454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Metrics Tools Used for this Analysis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D0E-786C-4CA2-AB87-312E2E883CE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76A94-B458-482A-8A89-26FFEF345FB8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609480" y="91440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0472"/>
                </a:solidFill>
                <a:latin typeface="Arial"/>
              </a:rPr>
              <a:t>Recommended Web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39000"/>
              </a:lnSpc>
              <a:spcBef>
                <a:spcPts val="975"/>
              </a:spcBef>
              <a:buClr>
                <a:srgbClr val="081d58"/>
              </a:buClr>
              <a:buSzPct val="84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gosphere: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ff00ff"/>
                </a:solidFill>
                <a:uFillTx/>
                <a:latin typeface="Arial"/>
                <a:hlinkClick r:id="rId1"/>
              </a:rPr>
              <a:t>www.optimalfriction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9000"/>
              </a:lnSpc>
              <a:spcBef>
                <a:spcPts val="975"/>
              </a:spcBef>
              <a:buClr>
                <a:srgbClr val="081d58"/>
              </a:buClr>
              <a:buSzPct val="84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SM Associates Web Library/Resource Center: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www.qsma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213-A009-4641-848B-A2C24B5D52F0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1C4AD-7E32-4A21-80FB-3EC4758D25F4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/>
          <p:cNvSpPr/>
          <p:nvPr/>
        </p:nvSpPr>
        <p:spPr>
          <a:xfrm>
            <a:off x="609480" y="91440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0472"/>
                </a:solidFill>
                <a:latin typeface="Arial"/>
              </a:rPr>
              <a:t>Recommended</a:t>
            </a:r>
            <a:br>
              <a:rPr sz="3600"/>
            </a:br>
            <a:r>
              <a:rPr b="0" lang="en-US" sz="3600" spc="-1" strike="noStrike">
                <a:solidFill>
                  <a:srgbClr val="040472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914400" y="2057400"/>
            <a:ext cx="7162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69000"/>
              </a:lnSpc>
              <a:spcBef>
                <a:spcPts val="1349"/>
              </a:spcBef>
              <a:buClr>
                <a:srgbClr val="081d58"/>
              </a:buClr>
              <a:buSzPct val="84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81d58"/>
              </a:buClr>
              <a:buSzPct val="84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h, Michael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The Making of the Agile IT Executive” 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siness IT Strategies Advisory Executive Report Vol 6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 1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 2004 Cutter Information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81d58"/>
              </a:buClr>
              <a:buSzPct val="84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nam, Lawrence H., and Myers, War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Five Core Metrics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he Intelligence Behind Successful Software Managem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© 2003 Dorset House Publish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800"/>
              </a:spcBef>
              <a:spcAft>
                <a:spcPts val="1800"/>
              </a:spcAft>
              <a:buClr>
                <a:srgbClr val="081d58"/>
              </a:buClr>
              <a:buSzPct val="84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rco, Tom and Tim Li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Waltzing With Bears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aging Risk on Software Projects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 2003 Dorset Hou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8" name=""/>
          <p:cNvGraphicFramePr/>
          <p:nvPr/>
        </p:nvGraphicFramePr>
        <p:xfrm>
          <a:off x="4267080" y="914400"/>
          <a:ext cx="188136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914400"/>
                    <a:ext cx="1881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A8B-0C19-44B6-967A-95BB0487C9D7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B7703-B686-4316-867A-264B9B6461C3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609480" y="91440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0472"/>
                </a:solidFill>
                <a:latin typeface="Arial"/>
              </a:rPr>
              <a:t>Recommended</a:t>
            </a:r>
            <a:br>
              <a:rPr sz="3600"/>
            </a:br>
            <a:r>
              <a:rPr b="0" lang="en-US" sz="3600" spc="-1" strike="noStrike">
                <a:solidFill>
                  <a:srgbClr val="040472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914400" y="1752480"/>
            <a:ext cx="7162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9000"/>
              </a:lnSpc>
              <a:spcBef>
                <a:spcPts val="751"/>
              </a:spcBef>
              <a:buClr>
                <a:srgbClr val="081d58"/>
              </a:buClr>
              <a:buSzPct val="84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y, William,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tting Past NO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Bant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9000"/>
              </a:lnSpc>
              <a:spcBef>
                <a:spcPts val="751"/>
              </a:spcBef>
              <a:buClr>
                <a:srgbClr val="081d58"/>
              </a:buClr>
              <a:buSzPct val="84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her, Roger and Alan Sharp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Getting It Done, How to Lead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You’re Not in Charge”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© 1998 HarperColl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9000"/>
              </a:lnSpc>
              <a:spcBef>
                <a:spcPts val="751"/>
              </a:spcBef>
              <a:buClr>
                <a:srgbClr val="081d58"/>
              </a:buClr>
              <a:buSzPct val="84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en, Sheila, Doug Stone and Bruce Patto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Difficult Conversations - How to Discuss What Matters Most”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 1999 Viking/Pengu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2" name=""/>
          <p:cNvGraphicFramePr/>
          <p:nvPr/>
        </p:nvGraphicFramePr>
        <p:xfrm>
          <a:off x="4267080" y="914400"/>
          <a:ext cx="188136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914400"/>
                    <a:ext cx="1881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95D-6CEA-4D57-B013-9130A967954E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89FB4-BFDA-40BA-BA3E-3D87872CB398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59124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or Additional Information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35" name=""/>
          <p:cNvSpPr/>
          <p:nvPr/>
        </p:nvSpPr>
        <p:spPr>
          <a:xfrm>
            <a:off x="2518560" y="1889280"/>
            <a:ext cx="455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ichael M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anaging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QSM Associates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ocktower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75 So. Church St., Suite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ittsfield, MA  01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1"/>
              </a:rPr>
              <a:t>michael.mah@qsm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eb url: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www.qsm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479840" y="3138480"/>
            <a:ext cx="184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689-6F0F-417B-B5F4-A585926577C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5E24E-3A7A-402B-986F-59D6E54E937C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14844" t="10420" r="14844" b="14584"/>
          <a:stretch/>
        </p:blipFill>
        <p:spPr>
          <a:xfrm>
            <a:off x="304920" y="1371600"/>
            <a:ext cx="853416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00200" y="3809880"/>
            <a:ext cx="838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3809880"/>
            <a:ext cx="6098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029200"/>
            <a:ext cx="5335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5029200"/>
            <a:ext cx="4572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5960" y="39625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BlkCn BT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0080" y="5105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BlkCn BT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10720" y="4114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BlkCn BT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6920" y="518148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BlkCn BT"/>
              </a:rPr>
              <a:t>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858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Input to SLIM-Data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A38-C618-49B9-BE43-D99C689D6FE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F0386-BEEB-4C4B-BEAF-4EFE31881710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46800" cy="5246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igitized Replica Using SLIM™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6445080"/>
            <a:ext cx="914400" cy="18432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D91-E93E-4095-8CBF-CB4C38E82E0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AEA60-F250-45B7-AFF5-28EFB1D4B854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429680" cy="4946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45680" y="23623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gi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72600" y="449568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gi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11440" y="25146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gi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XP Releases – Whiteboard Sketch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D10-BABF-4C26-A7FA-0B107D0C06C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06F1F-BF08-4C8D-8BE7-38A0E2C6A319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61016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2A4-200E-4139-91E8-34F454C12EB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A9F12-4AB2-4F83-98E1-C17A97406FE5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762120" y="1295280"/>
            <a:ext cx="7924680" cy="5288040"/>
            <a:chOff x="762120" y="1295280"/>
            <a:chExt cx="7924680" cy="5288040"/>
          </a:xfrm>
        </p:grpSpPr>
        <p:sp>
          <p:nvSpPr>
            <p:cNvPr id="122" name=""/>
            <p:cNvSpPr/>
            <p:nvPr/>
          </p:nvSpPr>
          <p:spPr>
            <a:xfrm>
              <a:off x="762120" y="1295280"/>
              <a:ext cx="7924680" cy="5288040"/>
            </a:xfrm>
            <a:prstGeom prst="rect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98920" y="1344600"/>
              <a:ext cx="2318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58960" y="1311120"/>
              <a:ext cx="23205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77280" y="1344600"/>
              <a:ext cx="167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Arial"/>
                </a:rPr>
                <a:t>Staffing &amp; Probability Analys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8600" y="1643040"/>
              <a:ext cx="7662600" cy="2962080"/>
            </a:xfrm>
            <a:prstGeom prst="roundRect">
              <a:avLst>
                <a:gd name="adj" fmla="val 265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0440" y="1609560"/>
              <a:ext cx="7661160" cy="2962440"/>
            </a:xfrm>
            <a:prstGeom prst="roundRect">
              <a:avLst>
                <a:gd name="adj" fmla="val 26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37640" y="1692000"/>
              <a:ext cx="75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80"/>
                  </a:solidFill>
                  <a:latin typeface="Arial"/>
                </a:rPr>
                <a:t>Avg Staff (people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9600" y="1807920"/>
              <a:ext cx="55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80"/>
                  </a:solidFill>
                  <a:latin typeface="Arial"/>
                </a:rPr>
                <a:t>&lt;XP Rel. 3.0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998720"/>
              <a:ext cx="4561920" cy="209376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88960" y="2006640"/>
              <a:ext cx="45525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88960" y="2016000"/>
              <a:ext cx="4552560" cy="792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88960" y="2023920"/>
              <a:ext cx="4552560" cy="7920"/>
            </a:xfrm>
            <a:prstGeom prst="rect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88960" y="2031840"/>
              <a:ext cx="4552560" cy="7920"/>
            </a:xfrm>
            <a:prstGeom prst="rect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8960" y="2039760"/>
              <a:ext cx="4552560" cy="7920"/>
            </a:xfrm>
            <a:prstGeom prst="rect">
              <a:avLst/>
            </a:prstGeom>
            <a:solidFill>
              <a:srgbClr val="f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88960" y="2047680"/>
              <a:ext cx="4552560" cy="9720"/>
            </a:xfrm>
            <a:prstGeom prst="rect">
              <a:avLst/>
            </a:prstGeom>
            <a:solidFill>
              <a:srgbClr val="f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88960" y="2057400"/>
              <a:ext cx="4552560" cy="7920"/>
            </a:xfrm>
            <a:prstGeom prst="rect">
              <a:avLst/>
            </a:prstGeom>
            <a:solidFill>
              <a:srgbClr val="f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88960" y="2065320"/>
              <a:ext cx="4552560" cy="7920"/>
            </a:xfrm>
            <a:prstGeom prst="rect">
              <a:avLst/>
            </a:prstGeom>
            <a:solidFill>
              <a:srgbClr val="f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88960" y="2073240"/>
              <a:ext cx="4552560" cy="7920"/>
            </a:xfrm>
            <a:prstGeom prst="rect">
              <a:avLst/>
            </a:prstGeom>
            <a:solidFill>
              <a:srgbClr val="f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8960" y="2081160"/>
              <a:ext cx="4552560" cy="7920"/>
            </a:xfrm>
            <a:prstGeom prst="rect">
              <a:avLst/>
            </a:prstGeom>
            <a:solidFill>
              <a:srgbClr val="f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88960" y="2089080"/>
              <a:ext cx="4552560" cy="9360"/>
            </a:xfrm>
            <a:prstGeom prst="rect">
              <a:avLst/>
            </a:pr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88960" y="2098440"/>
              <a:ext cx="4552560" cy="7920"/>
            </a:xfrm>
            <a:prstGeom prst="rect">
              <a:avLst/>
            </a:pr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88960" y="2106360"/>
              <a:ext cx="4552560" cy="7920"/>
            </a:xfrm>
            <a:prstGeom prst="rect">
              <a:avLst/>
            </a:pr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88960" y="2114280"/>
              <a:ext cx="4552560" cy="7920"/>
            </a:xfrm>
            <a:prstGeom prst="rect">
              <a:avLst/>
            </a:pr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8960" y="2122200"/>
              <a:ext cx="4552560" cy="9720"/>
            </a:xfrm>
            <a:prstGeom prst="rect">
              <a:avLst/>
            </a:prstGeom>
            <a:solidFill>
              <a:srgbClr val="f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88960" y="2131920"/>
              <a:ext cx="4552560" cy="7920"/>
            </a:xfrm>
            <a:prstGeom prst="rect">
              <a:avLst/>
            </a:prstGeom>
            <a:solidFill>
              <a:srgbClr val="f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88960" y="2139840"/>
              <a:ext cx="4552560" cy="7920"/>
            </a:xfrm>
            <a:prstGeom prst="rect">
              <a:avLst/>
            </a:pr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88960" y="2147760"/>
              <a:ext cx="4552560" cy="7920"/>
            </a:xfrm>
            <a:prstGeom prst="rect">
              <a:avLst/>
            </a:pr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88960" y="2155680"/>
              <a:ext cx="4552560" cy="7920"/>
            </a:xfrm>
            <a:prstGeom prst="rect">
              <a:avLst/>
            </a:pr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88960" y="2163600"/>
              <a:ext cx="4552560" cy="9720"/>
            </a:xfrm>
            <a:prstGeom prst="rect">
              <a:avLst/>
            </a:pr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88960" y="2173320"/>
              <a:ext cx="4552560" cy="7920"/>
            </a:xfrm>
            <a:prstGeom prst="rect">
              <a:avLst/>
            </a:pr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88960" y="2181240"/>
              <a:ext cx="4552560" cy="7920"/>
            </a:xfrm>
            <a:prstGeom prst="rect">
              <a:avLst/>
            </a:pr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8960" y="2189160"/>
              <a:ext cx="4552560" cy="7920"/>
            </a:xfrm>
            <a:prstGeom prst="rect">
              <a:avLst/>
            </a:prstGeom>
            <a:solidFill>
              <a:srgbClr val="f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88960" y="2197080"/>
              <a:ext cx="4552560" cy="7920"/>
            </a:xfrm>
            <a:prstGeom prst="rect">
              <a:avLst/>
            </a:prstGeom>
            <a:solidFill>
              <a:srgbClr val="f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88960" y="2205000"/>
              <a:ext cx="4552560" cy="9360"/>
            </a:xfrm>
            <a:prstGeom prst="rect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88960" y="2214360"/>
              <a:ext cx="4552560" cy="7920"/>
            </a:xfrm>
            <a:prstGeom prst="rect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88960" y="2222280"/>
              <a:ext cx="4552560" cy="7920"/>
            </a:xfrm>
            <a:prstGeom prst="rect">
              <a:avLst/>
            </a:prstGeom>
            <a:solidFill>
              <a:srgbClr val="f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88960" y="2230200"/>
              <a:ext cx="4552560" cy="7920"/>
            </a:xfrm>
            <a:prstGeom prst="rect">
              <a:avLst/>
            </a:prstGeom>
            <a:solidFill>
              <a:srgbClr val="f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88960" y="2238120"/>
              <a:ext cx="4552560" cy="9720"/>
            </a:xfrm>
            <a:prstGeom prst="rect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88960" y="2247840"/>
              <a:ext cx="4552560" cy="7920"/>
            </a:xfrm>
            <a:prstGeom prst="rect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8960" y="2255760"/>
              <a:ext cx="4552560" cy="7920"/>
            </a:xfrm>
            <a:prstGeom prst="rect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88960" y="2263680"/>
              <a:ext cx="4552560" cy="7920"/>
            </a:xfrm>
            <a:prstGeom prst="rect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88960" y="2271600"/>
              <a:ext cx="4552560" cy="7920"/>
            </a:xfrm>
            <a:prstGeom prst="rect">
              <a:avLst/>
            </a:pr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88960" y="2279520"/>
              <a:ext cx="4552560" cy="9360"/>
            </a:xfrm>
            <a:prstGeom prst="rect">
              <a:avLst/>
            </a:pr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88960" y="2288880"/>
              <a:ext cx="4552560" cy="8280"/>
            </a:xfrm>
            <a:prstGeom prst="rect">
              <a:avLst/>
            </a:prstGeom>
            <a:solidFill>
              <a:srgbClr val="e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88960" y="2297160"/>
              <a:ext cx="4552560" cy="7920"/>
            </a:xfrm>
            <a:prstGeom prst="rect">
              <a:avLst/>
            </a:prstGeom>
            <a:solidFill>
              <a:srgbClr val="e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88960" y="2305080"/>
              <a:ext cx="4552560" cy="7920"/>
            </a:xfrm>
            <a:prstGeom prst="rect">
              <a:avLst/>
            </a:pr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88960" y="2313000"/>
              <a:ext cx="4552560" cy="7920"/>
            </a:xfrm>
            <a:prstGeom prst="rect">
              <a:avLst/>
            </a:pr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8960" y="2320920"/>
              <a:ext cx="4552560" cy="9360"/>
            </a:xfrm>
            <a:prstGeom prst="rect">
              <a:avLst/>
            </a:prstGeom>
            <a:solidFill>
              <a:srgbClr val="e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88960" y="2330280"/>
              <a:ext cx="4552560" cy="7920"/>
            </a:xfrm>
            <a:prstGeom prst="rect">
              <a:avLst/>
            </a:prstGeom>
            <a:solidFill>
              <a:srgbClr val="e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8960" y="2338200"/>
              <a:ext cx="4552560" cy="7920"/>
            </a:xfrm>
            <a:prstGeom prst="rect">
              <a:avLst/>
            </a:pr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8960" y="2346120"/>
              <a:ext cx="4552560" cy="7920"/>
            </a:xfrm>
            <a:prstGeom prst="rect">
              <a:avLst/>
            </a:pr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88960" y="2354040"/>
              <a:ext cx="4552560" cy="9720"/>
            </a:xfrm>
            <a:prstGeom prst="rect">
              <a:avLst/>
            </a:prstGeom>
            <a:solidFill>
              <a:srgbClr val="e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88960" y="2363760"/>
              <a:ext cx="4552560" cy="7920"/>
            </a:xfrm>
            <a:prstGeom prst="rect">
              <a:avLst/>
            </a:prstGeom>
            <a:solidFill>
              <a:srgbClr val="e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88960" y="2371680"/>
              <a:ext cx="4552560" cy="7920"/>
            </a:xfrm>
            <a:prstGeom prst="rect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88960" y="2379600"/>
              <a:ext cx="4552560" cy="7920"/>
            </a:xfrm>
            <a:prstGeom prst="rect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8960" y="2387520"/>
              <a:ext cx="4552560" cy="7920"/>
            </a:xfrm>
            <a:prstGeom prst="rect">
              <a:avLst/>
            </a:prstGeom>
            <a:solidFill>
              <a:srgbClr val="e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88960" y="2395440"/>
              <a:ext cx="4552560" cy="9360"/>
            </a:xfrm>
            <a:prstGeom prst="rect">
              <a:avLst/>
            </a:prstGeom>
            <a:solidFill>
              <a:srgbClr val="e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88960" y="2404800"/>
              <a:ext cx="4552560" cy="7920"/>
            </a:xfrm>
            <a:prstGeom prst="rect">
              <a:avLst/>
            </a:pr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88960" y="2412720"/>
              <a:ext cx="4552560" cy="7920"/>
            </a:xfrm>
            <a:prstGeom prst="rect">
              <a:avLst/>
            </a:pr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88960" y="2420640"/>
              <a:ext cx="4552560" cy="82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8960" y="2428920"/>
              <a:ext cx="4552560" cy="792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88960" y="2436840"/>
              <a:ext cx="4552560" cy="9360"/>
            </a:xfrm>
            <a:prstGeom prst="rect">
              <a:avLst/>
            </a:pr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88960" y="2446200"/>
              <a:ext cx="4552560" cy="7920"/>
            </a:xfrm>
            <a:prstGeom prst="rect">
              <a:avLst/>
            </a:pr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8960" y="2454120"/>
              <a:ext cx="4552560" cy="792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88960" y="2462040"/>
              <a:ext cx="4552560" cy="792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88960" y="2469960"/>
              <a:ext cx="4552560" cy="7920"/>
            </a:xfrm>
            <a:prstGeom prst="rect">
              <a:avLst/>
            </a:pr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88960" y="2477880"/>
              <a:ext cx="4552560" cy="9720"/>
            </a:xfrm>
            <a:prstGeom prst="rect">
              <a:avLst/>
            </a:pr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88960" y="2487600"/>
              <a:ext cx="4552560" cy="7920"/>
            </a:xfrm>
            <a:prstGeom prst="rect">
              <a:avLst/>
            </a:prstGeom>
            <a:solidFill>
              <a:srgbClr val="e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88960" y="2495520"/>
              <a:ext cx="4552560" cy="7920"/>
            </a:xfrm>
            <a:prstGeom prst="rect">
              <a:avLst/>
            </a:prstGeom>
            <a:solidFill>
              <a:srgbClr val="e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88960" y="2503440"/>
              <a:ext cx="4552560" cy="7920"/>
            </a:xfrm>
            <a:prstGeom prst="rect">
              <a:avLst/>
            </a:pr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88960" y="2511360"/>
              <a:ext cx="4552560" cy="9360"/>
            </a:xfrm>
            <a:prstGeom prst="rect">
              <a:avLst/>
            </a:pr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8960" y="2520720"/>
              <a:ext cx="4552560" cy="7920"/>
            </a:xfrm>
            <a:prstGeom prst="rect">
              <a:avLst/>
            </a:prstGeom>
            <a:solidFill>
              <a:srgbClr val="d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88960" y="2528640"/>
              <a:ext cx="4552560" cy="7920"/>
            </a:xfrm>
            <a:prstGeom prst="rect">
              <a:avLst/>
            </a:prstGeom>
            <a:solidFill>
              <a:srgbClr val="d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88960" y="2536560"/>
              <a:ext cx="4552560" cy="7920"/>
            </a:xfrm>
            <a:prstGeom prst="rect">
              <a:avLst/>
            </a:pr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8960" y="2544480"/>
              <a:ext cx="4552560" cy="8280"/>
            </a:xfrm>
            <a:prstGeom prst="rect">
              <a:avLst/>
            </a:pr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88960" y="2552760"/>
              <a:ext cx="4552560" cy="9360"/>
            </a:xfrm>
            <a:prstGeom prst="rect">
              <a:avLst/>
            </a:prstGeom>
            <a:solidFill>
              <a:srgbClr val="d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88960" y="2562120"/>
              <a:ext cx="4552560" cy="7920"/>
            </a:xfrm>
            <a:prstGeom prst="rect">
              <a:avLst/>
            </a:prstGeom>
            <a:solidFill>
              <a:srgbClr val="d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88960" y="2570040"/>
              <a:ext cx="4552560" cy="7920"/>
            </a:xfrm>
            <a:prstGeom prst="rect">
              <a:avLst/>
            </a:pr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88960" y="2577960"/>
              <a:ext cx="4552560" cy="7920"/>
            </a:xfrm>
            <a:prstGeom prst="rect">
              <a:avLst/>
            </a:pr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8960" y="2585880"/>
              <a:ext cx="4552560" cy="7920"/>
            </a:xfrm>
            <a:prstGeom prst="rect">
              <a:avLst/>
            </a:prstGeom>
            <a:solidFill>
              <a:srgbClr val="d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88960" y="2593800"/>
              <a:ext cx="4552560" cy="9720"/>
            </a:xfrm>
            <a:prstGeom prst="rect">
              <a:avLst/>
            </a:prstGeom>
            <a:solidFill>
              <a:srgbClr val="d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88960" y="2603520"/>
              <a:ext cx="4552560" cy="7920"/>
            </a:xfrm>
            <a:prstGeom prst="rect">
              <a:avLst/>
            </a:pr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88960" y="2611440"/>
              <a:ext cx="4552560" cy="7920"/>
            </a:xfrm>
            <a:prstGeom prst="rect">
              <a:avLst/>
            </a:pr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88960" y="2619360"/>
              <a:ext cx="4552560" cy="7920"/>
            </a:xfrm>
            <a:prstGeom prst="rect">
              <a:avLst/>
            </a:prstGeom>
            <a:solidFill>
              <a:srgbClr val="d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88960" y="2627280"/>
              <a:ext cx="4552560" cy="9360"/>
            </a:xfrm>
            <a:prstGeom prst="rect">
              <a:avLst/>
            </a:prstGeom>
            <a:solidFill>
              <a:srgbClr val="d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88960" y="2636640"/>
              <a:ext cx="4552560" cy="7920"/>
            </a:xfrm>
            <a:prstGeom prst="rect">
              <a:avLst/>
            </a:pr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88960" y="2644560"/>
              <a:ext cx="4552560" cy="7920"/>
            </a:xfrm>
            <a:prstGeom prst="rect">
              <a:avLst/>
            </a:pr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88960" y="2652480"/>
              <a:ext cx="4552560" cy="7920"/>
            </a:xfrm>
            <a:prstGeom prst="rect">
              <a:avLst/>
            </a:prstGeom>
            <a:solidFill>
              <a:srgbClr val="d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8960" y="2660400"/>
              <a:ext cx="4552560" cy="7920"/>
            </a:xfrm>
            <a:prstGeom prst="rect">
              <a:avLst/>
            </a:prstGeom>
            <a:solidFill>
              <a:srgbClr val="d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88960" y="2668320"/>
              <a:ext cx="4552560" cy="9720"/>
            </a:xfrm>
            <a:prstGeom prst="rect">
              <a:avLst/>
            </a:pr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88960" y="2678040"/>
              <a:ext cx="4552560" cy="7920"/>
            </a:xfrm>
            <a:prstGeom prst="rect">
              <a:avLst/>
            </a:pr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8960" y="2685960"/>
              <a:ext cx="4552560" cy="7920"/>
            </a:xfrm>
            <a:prstGeom prst="rect">
              <a:avLst/>
            </a:prstGeom>
            <a:solidFill>
              <a:srgbClr val="d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88960" y="2693880"/>
              <a:ext cx="4552560" cy="7920"/>
            </a:xfrm>
            <a:prstGeom prst="rect">
              <a:avLst/>
            </a:prstGeom>
            <a:solidFill>
              <a:srgbClr val="d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88960" y="2701800"/>
              <a:ext cx="4552560" cy="7920"/>
            </a:xfrm>
            <a:prstGeom prst="rect">
              <a:avLst/>
            </a:pr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88960" y="2709720"/>
              <a:ext cx="4552560" cy="9720"/>
            </a:xfrm>
            <a:prstGeom prst="rect">
              <a:avLst/>
            </a:pr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88960" y="2719440"/>
              <a:ext cx="4552560" cy="7920"/>
            </a:xfrm>
            <a:prstGeom prst="rect">
              <a:avLst/>
            </a:prstGeom>
            <a:solidFill>
              <a:srgbClr val="d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8960" y="2727360"/>
              <a:ext cx="4552560" cy="7920"/>
            </a:xfrm>
            <a:prstGeom prst="rect">
              <a:avLst/>
            </a:prstGeom>
            <a:solidFill>
              <a:srgbClr val="d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8960" y="2735280"/>
              <a:ext cx="4552560" cy="7920"/>
            </a:xfrm>
            <a:prstGeom prst="rect">
              <a:avLst/>
            </a:pr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8960" y="2743200"/>
              <a:ext cx="4552560" cy="9360"/>
            </a:xfrm>
            <a:prstGeom prst="rect">
              <a:avLst/>
            </a:pr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88960" y="2752560"/>
              <a:ext cx="4552560" cy="7920"/>
            </a:xfrm>
            <a:prstGeom prst="rect">
              <a:avLst/>
            </a:prstGeom>
            <a:solidFill>
              <a:srgbClr val="d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88960" y="2760480"/>
              <a:ext cx="4552560" cy="7920"/>
            </a:xfrm>
            <a:prstGeom prst="rect">
              <a:avLst/>
            </a:prstGeom>
            <a:solidFill>
              <a:srgbClr val="d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88960" y="2768400"/>
              <a:ext cx="4552560" cy="7920"/>
            </a:xfrm>
            <a:prstGeom prst="rect">
              <a:avLst/>
            </a:pr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88960" y="2776320"/>
              <a:ext cx="4552560" cy="7920"/>
            </a:xfrm>
            <a:prstGeom prst="rect">
              <a:avLst/>
            </a:pr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88960" y="2784240"/>
              <a:ext cx="4552560" cy="9720"/>
            </a:xfrm>
            <a:prstGeom prst="rect">
              <a:avLst/>
            </a:prstGeom>
            <a:solidFill>
              <a:srgbClr val="c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88960" y="2793960"/>
              <a:ext cx="4552560" cy="7920"/>
            </a:xfrm>
            <a:prstGeom prst="rect">
              <a:avLst/>
            </a:prstGeom>
            <a:solidFill>
              <a:srgbClr val="c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88960" y="2801880"/>
              <a:ext cx="4552560" cy="7920"/>
            </a:xfrm>
            <a:prstGeom prst="rect">
              <a:avLst/>
            </a:pr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8960" y="2809800"/>
              <a:ext cx="4552560" cy="7920"/>
            </a:xfrm>
            <a:prstGeom prst="rect">
              <a:avLst/>
            </a:pr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88960" y="2817720"/>
              <a:ext cx="4552560" cy="7920"/>
            </a:xfrm>
            <a:prstGeom prst="rect">
              <a:avLst/>
            </a:prstGeom>
            <a:solidFill>
              <a:srgbClr val="c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88960" y="2825640"/>
              <a:ext cx="4552560" cy="9360"/>
            </a:xfrm>
            <a:prstGeom prst="rect">
              <a:avLst/>
            </a:prstGeom>
            <a:solidFill>
              <a:srgbClr val="c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88960" y="2835000"/>
              <a:ext cx="4552560" cy="7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88960" y="2842920"/>
              <a:ext cx="4552560" cy="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88960" y="2851200"/>
              <a:ext cx="4552560" cy="7920"/>
            </a:xfrm>
            <a:prstGeom prst="rect">
              <a:avLst/>
            </a:prstGeom>
            <a:solidFill>
              <a:srgbClr val="c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88960" y="2859120"/>
              <a:ext cx="4552560" cy="9360"/>
            </a:xfrm>
            <a:prstGeom prst="rect">
              <a:avLst/>
            </a:prstGeom>
            <a:solidFill>
              <a:srgbClr val="c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88960" y="2868480"/>
              <a:ext cx="4552560" cy="7920"/>
            </a:xfrm>
            <a:prstGeom prst="rect">
              <a:avLst/>
            </a:prstGeom>
            <a:solidFill>
              <a:srgbClr val="c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88960" y="2876400"/>
              <a:ext cx="4552560" cy="7920"/>
            </a:xfrm>
            <a:prstGeom prst="rect">
              <a:avLst/>
            </a:prstGeom>
            <a:solidFill>
              <a:srgbClr val="c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88960" y="2884320"/>
              <a:ext cx="4552560" cy="7920"/>
            </a:xfrm>
            <a:prstGeom prst="rect">
              <a:avLst/>
            </a:pr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88960" y="2892240"/>
              <a:ext cx="4552560" cy="7920"/>
            </a:xfrm>
            <a:prstGeom prst="rect">
              <a:avLst/>
            </a:pr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88960" y="2900160"/>
              <a:ext cx="4552560" cy="9720"/>
            </a:xfrm>
            <a:prstGeom prst="rect">
              <a:avLst/>
            </a:prstGeom>
            <a:solidFill>
              <a:srgbClr val="c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88960" y="2909880"/>
              <a:ext cx="4552560" cy="7920"/>
            </a:xfrm>
            <a:prstGeom prst="rect">
              <a:avLst/>
            </a:prstGeom>
            <a:solidFill>
              <a:srgbClr val="c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88960" y="2917800"/>
              <a:ext cx="4552560" cy="7920"/>
            </a:xfrm>
            <a:prstGeom prst="rect">
              <a:avLst/>
            </a:pr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88960" y="2925720"/>
              <a:ext cx="4552560" cy="7920"/>
            </a:xfrm>
            <a:prstGeom prst="rect">
              <a:avLst/>
            </a:pr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88960" y="2933640"/>
              <a:ext cx="4552560" cy="7920"/>
            </a:xfrm>
            <a:prstGeom prst="rect">
              <a:avLst/>
            </a:pr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88960" y="2941560"/>
              <a:ext cx="4552560" cy="9360"/>
            </a:xfrm>
            <a:prstGeom prst="rect">
              <a:avLst/>
            </a:pr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88960" y="2950920"/>
              <a:ext cx="4552560" cy="7920"/>
            </a:xfrm>
            <a:prstGeom prst="rect">
              <a:avLst/>
            </a:pr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8960" y="2958840"/>
              <a:ext cx="4552560" cy="7920"/>
            </a:xfrm>
            <a:prstGeom prst="rect">
              <a:avLst/>
            </a:pr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88960" y="2966760"/>
              <a:ext cx="4552560" cy="7920"/>
            </a:xfrm>
            <a:prstGeom prst="rect">
              <a:avLst/>
            </a:prstGeom>
            <a:solidFill>
              <a:srgbClr val="c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88960" y="2974680"/>
              <a:ext cx="4552560" cy="8280"/>
            </a:xfrm>
            <a:prstGeom prst="rect">
              <a:avLst/>
            </a:prstGeom>
            <a:solidFill>
              <a:srgbClr val="c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88960" y="2982960"/>
              <a:ext cx="4552560" cy="936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8960" y="2992320"/>
              <a:ext cx="4552560" cy="792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88960" y="3000240"/>
              <a:ext cx="4552560" cy="7920"/>
            </a:xfrm>
            <a:prstGeom prst="rect">
              <a:avLst/>
            </a:prstGeom>
            <a:solidFill>
              <a:srgbClr val="c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88960" y="3008160"/>
              <a:ext cx="4552560" cy="7920"/>
            </a:xfrm>
            <a:prstGeom prst="rect">
              <a:avLst/>
            </a:prstGeom>
            <a:solidFill>
              <a:srgbClr val="c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88960" y="3016080"/>
              <a:ext cx="4552560" cy="9720"/>
            </a:xfrm>
            <a:prstGeom prst="rect">
              <a:avLst/>
            </a:pr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88960" y="3025800"/>
              <a:ext cx="4552560" cy="7920"/>
            </a:xfrm>
            <a:prstGeom prst="rect">
              <a:avLst/>
            </a:pr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88960" y="3033720"/>
              <a:ext cx="4552560" cy="7920"/>
            </a:xfrm>
            <a:prstGeom prst="rect">
              <a:avLst/>
            </a:prstGeom>
            <a:solidFill>
              <a:srgbClr val="c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8960" y="3041640"/>
              <a:ext cx="4552560" cy="7920"/>
            </a:xfrm>
            <a:prstGeom prst="rect">
              <a:avLst/>
            </a:prstGeom>
            <a:solidFill>
              <a:srgbClr val="c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88960" y="3049560"/>
              <a:ext cx="4552560" cy="7920"/>
            </a:xfrm>
            <a:prstGeom prst="rect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88960" y="3057480"/>
              <a:ext cx="4552560" cy="9360"/>
            </a:xfrm>
            <a:prstGeom prst="rect">
              <a:avLst/>
            </a:prstGeom>
            <a:solidFill>
              <a:srgbClr val="b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88960" y="3066840"/>
              <a:ext cx="4552560" cy="7920"/>
            </a:xfrm>
            <a:prstGeom prst="rect">
              <a:avLst/>
            </a:prstGeom>
            <a:solidFill>
              <a:srgbClr val="b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88960" y="3074760"/>
              <a:ext cx="4552560" cy="792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88960" y="3082680"/>
              <a:ext cx="4552560" cy="792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88960" y="3090600"/>
              <a:ext cx="4552560" cy="7920"/>
            </a:xfrm>
            <a:prstGeom prst="rect">
              <a:avLst/>
            </a:pr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88960" y="3098520"/>
              <a:ext cx="4552560" cy="9720"/>
            </a:xfrm>
            <a:prstGeom prst="rect">
              <a:avLst/>
            </a:pr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88960" y="3108240"/>
              <a:ext cx="4552560" cy="7920"/>
            </a:xfrm>
            <a:prstGeom prst="rect">
              <a:avLst/>
            </a:pr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8960" y="3116160"/>
              <a:ext cx="4552560" cy="7920"/>
            </a:xfrm>
            <a:prstGeom prst="rect">
              <a:avLst/>
            </a:pr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88960" y="3124080"/>
              <a:ext cx="4552560" cy="7920"/>
            </a:xfrm>
            <a:prstGeom prst="rect">
              <a:avLst/>
            </a:prstGeom>
            <a:solidFill>
              <a:srgbClr val="b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88960" y="3132000"/>
              <a:ext cx="4552560" cy="9720"/>
            </a:xfrm>
            <a:prstGeom prst="rect">
              <a:avLst/>
            </a:prstGeom>
            <a:solidFill>
              <a:srgbClr val="b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8960" y="3141720"/>
              <a:ext cx="4552560" cy="792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88960" y="3149640"/>
              <a:ext cx="4552560" cy="792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88960" y="3157560"/>
              <a:ext cx="4552560" cy="7920"/>
            </a:xfrm>
            <a:prstGeom prst="rect">
              <a:avLst/>
            </a:prstGeom>
            <a:solidFill>
              <a:srgbClr val="b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88960" y="3165480"/>
              <a:ext cx="4552560" cy="7920"/>
            </a:xfrm>
            <a:prstGeom prst="rect">
              <a:avLst/>
            </a:prstGeom>
            <a:solidFill>
              <a:srgbClr val="b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88960" y="3173400"/>
              <a:ext cx="4552560" cy="9360"/>
            </a:xfrm>
            <a:prstGeom prst="rect">
              <a:avLst/>
            </a:pr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88960" y="3182760"/>
              <a:ext cx="4552560" cy="7920"/>
            </a:xfrm>
            <a:prstGeom prst="rect">
              <a:avLst/>
            </a:pr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88960" y="3190680"/>
              <a:ext cx="4552560" cy="7920"/>
            </a:xfrm>
            <a:prstGeom prst="rect">
              <a:avLst/>
            </a:prstGeom>
            <a:solidFill>
              <a:srgbClr val="b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88960" y="3198600"/>
              <a:ext cx="4552560" cy="7920"/>
            </a:xfrm>
            <a:prstGeom prst="rect">
              <a:avLst/>
            </a:prstGeom>
            <a:solidFill>
              <a:srgbClr val="b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88960" y="3206520"/>
              <a:ext cx="4552560" cy="7920"/>
            </a:xfrm>
            <a:prstGeom prst="rect">
              <a:avLst/>
            </a:pr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88960" y="3214440"/>
              <a:ext cx="4552560" cy="9720"/>
            </a:xfrm>
            <a:prstGeom prst="rect">
              <a:avLst/>
            </a:pr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88960" y="3224160"/>
              <a:ext cx="4552560" cy="7920"/>
            </a:xfrm>
            <a:prstGeom prst="rect">
              <a:avLst/>
            </a:prstGeom>
            <a:solidFill>
              <a:srgbClr val="b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88960" y="3232080"/>
              <a:ext cx="4552560" cy="7920"/>
            </a:xfrm>
            <a:prstGeom prst="rect">
              <a:avLst/>
            </a:prstGeom>
            <a:solidFill>
              <a:srgbClr val="b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88960" y="3240000"/>
              <a:ext cx="4552560" cy="7920"/>
            </a:xfrm>
            <a:prstGeom prst="rect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88960" y="3247920"/>
              <a:ext cx="4552560" cy="9360"/>
            </a:xfrm>
            <a:prstGeom prst="rect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88960" y="3257280"/>
              <a:ext cx="4552560" cy="7920"/>
            </a:xfrm>
            <a:prstGeom prst="rect">
              <a:avLst/>
            </a:pr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88960" y="3265200"/>
              <a:ext cx="4552560" cy="8280"/>
            </a:xfrm>
            <a:prstGeom prst="rect">
              <a:avLst/>
            </a:pr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88960" y="3273480"/>
              <a:ext cx="4552560" cy="7920"/>
            </a:xfrm>
            <a:prstGeom prst="rect">
              <a:avLst/>
            </a:pr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88960" y="3281400"/>
              <a:ext cx="4552560" cy="7920"/>
            </a:xfrm>
            <a:prstGeom prst="rect">
              <a:avLst/>
            </a:pr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88960" y="3289320"/>
              <a:ext cx="4552560" cy="9360"/>
            </a:xfrm>
            <a:prstGeom prst="rect">
              <a:avLst/>
            </a:pr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8960" y="3298680"/>
              <a:ext cx="4552560" cy="7920"/>
            </a:xfrm>
            <a:prstGeom prst="rect">
              <a:avLst/>
            </a:pr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88960" y="3306600"/>
              <a:ext cx="4552560" cy="7920"/>
            </a:xfrm>
            <a:prstGeom prst="rect">
              <a:avLst/>
            </a:pr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88960" y="3314520"/>
              <a:ext cx="4552560" cy="7920"/>
            </a:xfrm>
            <a:prstGeom prst="rect">
              <a:avLst/>
            </a:pr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8960" y="3322440"/>
              <a:ext cx="4552560" cy="7920"/>
            </a:xfrm>
            <a:prstGeom prst="rect">
              <a:avLst/>
            </a:prstGeom>
            <a:solidFill>
              <a:srgbClr val="a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88960" y="3330360"/>
              <a:ext cx="4552560" cy="9720"/>
            </a:xfrm>
            <a:prstGeom prst="rect">
              <a:avLst/>
            </a:prstGeom>
            <a:solidFill>
              <a:srgbClr val="a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88960" y="3340080"/>
              <a:ext cx="4552560" cy="7920"/>
            </a:xfrm>
            <a:prstGeom prst="rect">
              <a:avLst/>
            </a:pr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88960" y="3348000"/>
              <a:ext cx="4552560" cy="7920"/>
            </a:xfrm>
            <a:prstGeom prst="rect">
              <a:avLst/>
            </a:pr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88960" y="3355920"/>
              <a:ext cx="4552560" cy="7920"/>
            </a:xfrm>
            <a:prstGeom prst="rect">
              <a:avLst/>
            </a:prstGeom>
            <a:solidFill>
              <a:srgbClr val="a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88960" y="3363840"/>
              <a:ext cx="4552560" cy="7920"/>
            </a:xfrm>
            <a:prstGeom prst="rect">
              <a:avLst/>
            </a:prstGeom>
            <a:solidFill>
              <a:srgbClr val="a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88960" y="3371760"/>
              <a:ext cx="4552560" cy="9360"/>
            </a:xfrm>
            <a:prstGeom prst="rect">
              <a:avLst/>
            </a:pr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8960" y="3381120"/>
              <a:ext cx="4552560" cy="7920"/>
            </a:xfrm>
            <a:prstGeom prst="rect">
              <a:avLst/>
            </a:pr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8960" y="3389040"/>
              <a:ext cx="4552560" cy="7920"/>
            </a:xfrm>
            <a:prstGeom prst="rect">
              <a:avLst/>
            </a:prstGeom>
            <a:solidFill>
              <a:srgbClr val="a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88960" y="3396960"/>
              <a:ext cx="4552560" cy="8280"/>
            </a:xfrm>
            <a:prstGeom prst="rect">
              <a:avLst/>
            </a:prstGeom>
            <a:solidFill>
              <a:srgbClr val="a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88960" y="3405240"/>
              <a:ext cx="4552560" cy="9360"/>
            </a:xfrm>
            <a:prstGeom prst="rect">
              <a:avLst/>
            </a:pr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88960" y="3414600"/>
              <a:ext cx="4552560" cy="7920"/>
            </a:xfrm>
            <a:prstGeom prst="rect">
              <a:avLst/>
            </a:pr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88960" y="3422520"/>
              <a:ext cx="4552560" cy="7920"/>
            </a:xfrm>
            <a:prstGeom prst="rect">
              <a:avLst/>
            </a:prstGeom>
            <a:solidFill>
              <a:srgbClr val="a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88960" y="3430440"/>
              <a:ext cx="4552560" cy="7920"/>
            </a:xfrm>
            <a:prstGeom prst="rect">
              <a:avLst/>
            </a:prstGeom>
            <a:solidFill>
              <a:srgbClr val="a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88960" y="3438360"/>
              <a:ext cx="4552560" cy="7920"/>
            </a:xfrm>
            <a:prstGeom prst="rect">
              <a:avLst/>
            </a:pr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8960" y="3446280"/>
              <a:ext cx="4552560" cy="9720"/>
            </a:xfrm>
            <a:prstGeom prst="rect">
              <a:avLst/>
            </a:pr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88960" y="3456000"/>
              <a:ext cx="4552560" cy="7920"/>
            </a:xfrm>
            <a:prstGeom prst="rect">
              <a:avLst/>
            </a:prstGeom>
            <a:solidFill>
              <a:srgbClr val="a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88960" y="3463920"/>
              <a:ext cx="4552560" cy="7920"/>
            </a:xfrm>
            <a:prstGeom prst="rect">
              <a:avLst/>
            </a:prstGeom>
            <a:solidFill>
              <a:srgbClr val="a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88960" y="3471840"/>
              <a:ext cx="4552560" cy="7920"/>
            </a:xfrm>
            <a:prstGeom prst="rect">
              <a:avLst/>
            </a:pr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88960" y="3479760"/>
              <a:ext cx="4552560" cy="7920"/>
            </a:xfrm>
            <a:prstGeom prst="rect">
              <a:avLst/>
            </a:pr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88960" y="3487680"/>
              <a:ext cx="4552560" cy="9360"/>
            </a:xfrm>
            <a:prstGeom prst="rect">
              <a:avLst/>
            </a:prstGeom>
            <a:solidFill>
              <a:srgbClr val="a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88960" y="3497040"/>
              <a:ext cx="4552560" cy="7920"/>
            </a:xfrm>
            <a:prstGeom prst="rect">
              <a:avLst/>
            </a:prstGeom>
            <a:solidFill>
              <a:srgbClr val="a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88960" y="3504960"/>
              <a:ext cx="4552560" cy="7920"/>
            </a:xfrm>
            <a:prstGeom prst="rect">
              <a:avLst/>
            </a:pr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88960" y="3512880"/>
              <a:ext cx="4552560" cy="7920"/>
            </a:xfrm>
            <a:prstGeom prst="rect">
              <a:avLst/>
            </a:pr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88960" y="3520800"/>
              <a:ext cx="4552560" cy="9720"/>
            </a:xfrm>
            <a:prstGeom prst="rect">
              <a:avLst/>
            </a:prstGeom>
            <a:solidFill>
              <a:srgbClr val="a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8960" y="3530520"/>
              <a:ext cx="4552560" cy="7920"/>
            </a:xfrm>
            <a:prstGeom prst="rect">
              <a:avLst/>
            </a:prstGeom>
            <a:solidFill>
              <a:srgbClr val="a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88960" y="3538440"/>
              <a:ext cx="4552560" cy="7920"/>
            </a:xfrm>
            <a:prstGeom prst="rect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88960" y="3546360"/>
              <a:ext cx="4552560" cy="7920"/>
            </a:xfrm>
            <a:prstGeom prst="rect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88960" y="3554280"/>
              <a:ext cx="4552560" cy="7920"/>
            </a:xfrm>
            <a:prstGeom prst="rect">
              <a:avLst/>
            </a:prstGeom>
            <a:solidFill>
              <a:srgbClr val="a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88960" y="3562200"/>
              <a:ext cx="4552560" cy="9720"/>
            </a:xfrm>
            <a:prstGeom prst="rect">
              <a:avLst/>
            </a:prstGeom>
            <a:solidFill>
              <a:srgbClr val="a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88960" y="3571920"/>
              <a:ext cx="4552560" cy="7920"/>
            </a:xfrm>
            <a:prstGeom prst="rect">
              <a:avLst/>
            </a:pr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88960" y="3579840"/>
              <a:ext cx="4552560" cy="7920"/>
            </a:xfrm>
            <a:prstGeom prst="rect">
              <a:avLst/>
            </a:pr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25480" y="1643040"/>
            <a:ext cx="6463800" cy="4559040"/>
            <a:chOff x="825480" y="1643040"/>
            <a:chExt cx="6463800" cy="4559040"/>
          </a:xfrm>
        </p:grpSpPr>
        <p:sp>
          <p:nvSpPr>
            <p:cNvPr id="323" name=""/>
            <p:cNvSpPr/>
            <p:nvPr/>
          </p:nvSpPr>
          <p:spPr>
            <a:xfrm>
              <a:off x="2388960" y="3587760"/>
              <a:ext cx="4552920" cy="7920"/>
            </a:xfrm>
            <a:prstGeom prst="rect">
              <a:avLst/>
            </a:prstGeom>
            <a:solidFill>
              <a:srgbClr val="9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88960" y="3595680"/>
              <a:ext cx="4552920" cy="7920"/>
            </a:xfrm>
            <a:prstGeom prst="rect">
              <a:avLst/>
            </a:prstGeom>
            <a:solidFill>
              <a:srgbClr val="9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8960" y="3603600"/>
              <a:ext cx="4552920" cy="9360"/>
            </a:xfrm>
            <a:prstGeom prst="rect">
              <a:avLst/>
            </a:pr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88960" y="3612960"/>
              <a:ext cx="4552920" cy="7920"/>
            </a:xfrm>
            <a:prstGeom prst="rect">
              <a:avLst/>
            </a:pr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88960" y="3620880"/>
              <a:ext cx="4552920" cy="7920"/>
            </a:xfrm>
            <a:prstGeom prst="rect">
              <a:avLst/>
            </a:prstGeom>
            <a:solidFill>
              <a:srgbClr val="9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8960" y="3628800"/>
              <a:ext cx="4552920" cy="7920"/>
            </a:xfrm>
            <a:prstGeom prst="rect">
              <a:avLst/>
            </a:prstGeom>
            <a:solidFill>
              <a:srgbClr val="9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88960" y="3636720"/>
              <a:ext cx="4552920" cy="9720"/>
            </a:xfrm>
            <a:prstGeom prst="rect">
              <a:avLst/>
            </a:prstGeom>
            <a:solidFill>
              <a:srgbClr val="9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88960" y="3646440"/>
              <a:ext cx="4552920" cy="7920"/>
            </a:xfrm>
            <a:prstGeom prst="rect">
              <a:avLst/>
            </a:prstGeom>
            <a:solidFill>
              <a:srgbClr val="9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88960" y="3654360"/>
              <a:ext cx="4552920" cy="7920"/>
            </a:xfrm>
            <a:prstGeom prst="rect">
              <a:avLst/>
            </a:prstGeom>
            <a:solidFill>
              <a:srgbClr val="9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88960" y="3662280"/>
              <a:ext cx="4552920" cy="7920"/>
            </a:xfrm>
            <a:prstGeom prst="rect">
              <a:avLst/>
            </a:prstGeom>
            <a:solidFill>
              <a:srgbClr val="9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88960" y="3670200"/>
              <a:ext cx="4552920" cy="79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88960" y="3678120"/>
              <a:ext cx="4552920" cy="936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88960" y="3687480"/>
              <a:ext cx="4552920" cy="8280"/>
            </a:xfrm>
            <a:prstGeom prst="rect">
              <a:avLst/>
            </a:prstGeom>
            <a:solidFill>
              <a:srgbClr val="9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88960" y="3695760"/>
              <a:ext cx="4552920" cy="7920"/>
            </a:xfrm>
            <a:prstGeom prst="rect">
              <a:avLst/>
            </a:prstGeom>
            <a:solidFill>
              <a:srgbClr val="9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88960" y="3703680"/>
              <a:ext cx="4552920" cy="7920"/>
            </a:xfrm>
            <a:prstGeom prst="rect">
              <a:avLst/>
            </a:prstGeom>
            <a:solidFill>
              <a:srgbClr val="9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88960" y="3711600"/>
              <a:ext cx="4552920" cy="7920"/>
            </a:xfrm>
            <a:prstGeom prst="rect">
              <a:avLst/>
            </a:prstGeom>
            <a:solidFill>
              <a:srgbClr val="9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88960" y="3719520"/>
              <a:ext cx="4552920" cy="9360"/>
            </a:xfrm>
            <a:prstGeom prst="rect">
              <a:avLst/>
            </a:prstGeom>
            <a:solidFill>
              <a:srgbClr val="9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88960" y="3728880"/>
              <a:ext cx="4552920" cy="7920"/>
            </a:xfrm>
            <a:prstGeom prst="rect">
              <a:avLst/>
            </a:prstGeom>
            <a:solidFill>
              <a:srgbClr val="9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88960" y="3736800"/>
              <a:ext cx="4552920" cy="7920"/>
            </a:xfrm>
            <a:prstGeom prst="rect">
              <a:avLst/>
            </a:prstGeom>
            <a:solidFill>
              <a:srgbClr val="9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8960" y="3744720"/>
              <a:ext cx="4552920" cy="7920"/>
            </a:xfrm>
            <a:prstGeom prst="rect">
              <a:avLst/>
            </a:prstGeom>
            <a:solidFill>
              <a:srgbClr val="9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8960" y="3752640"/>
              <a:ext cx="4552920" cy="9720"/>
            </a:xfrm>
            <a:prstGeom prst="rect">
              <a:avLst/>
            </a:prstGeom>
            <a:solidFill>
              <a:srgbClr val="9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8960" y="3762360"/>
              <a:ext cx="4552920" cy="7920"/>
            </a:xfrm>
            <a:prstGeom prst="rect">
              <a:avLst/>
            </a:prstGeom>
            <a:solidFill>
              <a:srgbClr val="9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88960" y="3770280"/>
              <a:ext cx="4552920" cy="7920"/>
            </a:xfrm>
            <a:prstGeom prst="rect">
              <a:avLst/>
            </a:prstGeom>
            <a:solidFill>
              <a:srgbClr val="9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88960" y="3778200"/>
              <a:ext cx="4552920" cy="7920"/>
            </a:xfrm>
            <a:prstGeom prst="rect">
              <a:avLst/>
            </a:prstGeom>
            <a:solidFill>
              <a:srgbClr val="9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8960" y="3786120"/>
              <a:ext cx="4552920" cy="7920"/>
            </a:xfrm>
            <a:prstGeom prst="rect">
              <a:avLst/>
            </a:prstGeom>
            <a:solidFill>
              <a:srgbClr val="9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88960" y="3794040"/>
              <a:ext cx="4552920" cy="9360"/>
            </a:xfrm>
            <a:prstGeom prst="rect">
              <a:avLst/>
            </a:prstGeom>
            <a:solidFill>
              <a:srgbClr val="9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8960" y="3803400"/>
              <a:ext cx="4552920" cy="7920"/>
            </a:xfrm>
            <a:prstGeom prst="rect">
              <a:avLst/>
            </a:prstGeom>
            <a:solidFill>
              <a:srgbClr val="9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8960" y="3811320"/>
              <a:ext cx="4552920" cy="7920"/>
            </a:xfrm>
            <a:prstGeom prst="rect">
              <a:avLst/>
            </a:prstGeom>
            <a:solidFill>
              <a:srgbClr val="9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88960" y="3819240"/>
              <a:ext cx="4552920" cy="8280"/>
            </a:xfrm>
            <a:prstGeom prst="rect">
              <a:avLst/>
            </a:prstGeom>
            <a:solidFill>
              <a:srgbClr val="9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88960" y="3827520"/>
              <a:ext cx="4552920" cy="7920"/>
            </a:xfrm>
            <a:prstGeom prst="rect">
              <a:avLst/>
            </a:prstGeom>
            <a:solidFill>
              <a:srgbClr val="9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88960" y="3835440"/>
              <a:ext cx="4552920" cy="9360"/>
            </a:xfrm>
            <a:prstGeom prst="rect">
              <a:avLst/>
            </a:prstGeom>
            <a:solidFill>
              <a:srgbClr val="8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88960" y="3844800"/>
              <a:ext cx="4552920" cy="7920"/>
            </a:xfrm>
            <a:prstGeom prst="rect">
              <a:avLst/>
            </a:prstGeom>
            <a:solidFill>
              <a:srgbClr val="8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88960" y="3852720"/>
              <a:ext cx="4552920" cy="7920"/>
            </a:xfrm>
            <a:prstGeom prst="rect">
              <a:avLst/>
            </a:prstGeom>
            <a:solidFill>
              <a:srgbClr val="8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88960" y="3860640"/>
              <a:ext cx="4552920" cy="7920"/>
            </a:xfrm>
            <a:prstGeom prst="rect">
              <a:avLst/>
            </a:prstGeom>
            <a:solidFill>
              <a:srgbClr val="8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88960" y="3868560"/>
              <a:ext cx="4552920" cy="7920"/>
            </a:xfrm>
            <a:prstGeom prst="rect">
              <a:avLst/>
            </a:prstGeom>
            <a:solidFill>
              <a:srgbClr val="8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88960" y="3876480"/>
              <a:ext cx="4552920" cy="9720"/>
            </a:xfrm>
            <a:prstGeom prst="rect">
              <a:avLst/>
            </a:prstGeom>
            <a:solidFill>
              <a:srgbClr val="8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8960" y="3886200"/>
              <a:ext cx="4552920" cy="7920"/>
            </a:xfrm>
            <a:prstGeom prst="rect">
              <a:avLst/>
            </a:prstGeom>
            <a:solidFill>
              <a:srgbClr val="8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8960" y="3894120"/>
              <a:ext cx="4552920" cy="7920"/>
            </a:xfrm>
            <a:prstGeom prst="rect">
              <a:avLst/>
            </a:prstGeom>
            <a:solidFill>
              <a:srgbClr val="8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8960" y="3902040"/>
              <a:ext cx="4552920" cy="7920"/>
            </a:xfrm>
            <a:prstGeom prst="rect">
              <a:avLst/>
            </a:prstGeom>
            <a:solidFill>
              <a:srgbClr val="8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8960" y="3909960"/>
              <a:ext cx="4552920" cy="9360"/>
            </a:xfrm>
            <a:prstGeom prst="rect">
              <a:avLst/>
            </a:prstGeom>
            <a:solidFill>
              <a:srgbClr val="8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88960" y="3919320"/>
              <a:ext cx="4552920" cy="7920"/>
            </a:xfrm>
            <a:prstGeom prst="rect">
              <a:avLst/>
            </a:prstGeom>
            <a:solidFill>
              <a:srgbClr val="8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8960" y="3927240"/>
              <a:ext cx="4552920" cy="7920"/>
            </a:xfrm>
            <a:prstGeom prst="rect">
              <a:avLst/>
            </a:prstGeom>
            <a:solidFill>
              <a:srgbClr val="8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8960" y="3935160"/>
              <a:ext cx="4552920" cy="7920"/>
            </a:xfrm>
            <a:prstGeom prst="rect">
              <a:avLst/>
            </a:prstGeom>
            <a:solidFill>
              <a:srgbClr val="8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8960" y="3943080"/>
              <a:ext cx="4552920" cy="7920"/>
            </a:xfrm>
            <a:prstGeom prst="rect">
              <a:avLst/>
            </a:prstGeom>
            <a:solidFill>
              <a:srgbClr val="8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88960" y="3951000"/>
              <a:ext cx="4552920" cy="9720"/>
            </a:xfrm>
            <a:prstGeom prst="rect">
              <a:avLst/>
            </a:prstGeom>
            <a:solidFill>
              <a:srgbClr val="8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88960" y="3960720"/>
              <a:ext cx="4552920" cy="7920"/>
            </a:xfrm>
            <a:prstGeom prst="rect">
              <a:avLst/>
            </a:prstGeom>
            <a:solidFill>
              <a:srgbClr val="8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88960" y="3968640"/>
              <a:ext cx="4552920" cy="7920"/>
            </a:xfrm>
            <a:prstGeom prst="rect">
              <a:avLst/>
            </a:prstGeom>
            <a:solidFill>
              <a:srgbClr val="8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88960" y="3976560"/>
              <a:ext cx="4552920" cy="7920"/>
            </a:xfrm>
            <a:prstGeom prst="rect">
              <a:avLst/>
            </a:prstGeom>
            <a:solidFill>
              <a:srgbClr val="8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88960" y="3984480"/>
              <a:ext cx="4552920" cy="7920"/>
            </a:xfrm>
            <a:prstGeom prst="rect">
              <a:avLst/>
            </a:prstGeom>
            <a:solidFill>
              <a:srgbClr val="8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88960" y="3992400"/>
              <a:ext cx="4552920" cy="9720"/>
            </a:xfrm>
            <a:prstGeom prst="rect">
              <a:avLst/>
            </a:prstGeom>
            <a:solidFill>
              <a:srgbClr val="8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8960" y="4002120"/>
              <a:ext cx="4552920" cy="7920"/>
            </a:xfrm>
            <a:prstGeom prst="rect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88960" y="4010040"/>
              <a:ext cx="4552920" cy="7920"/>
            </a:xfrm>
            <a:prstGeom prst="rect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8960" y="4017960"/>
              <a:ext cx="4552920" cy="7920"/>
            </a:xfrm>
            <a:prstGeom prst="rect">
              <a:avLst/>
            </a:prstGeom>
            <a:solidFill>
              <a:srgbClr val="8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88960" y="4025880"/>
              <a:ext cx="4552920" cy="9360"/>
            </a:xfrm>
            <a:prstGeom prst="rect">
              <a:avLst/>
            </a:prstGeom>
            <a:solidFill>
              <a:srgbClr val="8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88960" y="4035240"/>
              <a:ext cx="4552920" cy="7920"/>
            </a:xfrm>
            <a:prstGeom prst="rect">
              <a:avLst/>
            </a:prstGeom>
            <a:solidFill>
              <a:srgbClr val="8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88960" y="4043160"/>
              <a:ext cx="4552920" cy="7920"/>
            </a:xfrm>
            <a:prstGeom prst="rect">
              <a:avLst/>
            </a:prstGeom>
            <a:solidFill>
              <a:srgbClr val="8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88960" y="4051080"/>
              <a:ext cx="4552920" cy="7920"/>
            </a:xfrm>
            <a:prstGeom prst="rect">
              <a:avLst/>
            </a:prstGeom>
            <a:solidFill>
              <a:srgbClr val="8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8960" y="4059000"/>
              <a:ext cx="4552920" cy="7920"/>
            </a:xfrm>
            <a:prstGeom prst="rect">
              <a:avLst/>
            </a:prstGeom>
            <a:solidFill>
              <a:srgbClr val="8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8960" y="4066920"/>
              <a:ext cx="4552920" cy="9720"/>
            </a:xfrm>
            <a:prstGeom prst="rect">
              <a:avLst/>
            </a:prstGeom>
            <a:solidFill>
              <a:srgbClr val="8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88960" y="4076640"/>
              <a:ext cx="4552920" cy="7920"/>
            </a:xfrm>
            <a:prstGeom prst="rect">
              <a:avLst/>
            </a:prstGeom>
            <a:solidFill>
              <a:srgbClr val="8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88960" y="4084560"/>
              <a:ext cx="4552920" cy="792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79600" y="4092480"/>
              <a:ext cx="4562280" cy="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00640" y="41511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80080" y="41511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61320" y="41511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40760" y="41511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21640" y="41511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01080" y="41511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1960" y="41511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61400" y="41511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40840" y="41511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79600" y="4092480"/>
              <a:ext cx="144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79600" y="409248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8480" y="426708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Ap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18560" y="4381560"/>
              <a:ext cx="9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'0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60480" y="4092480"/>
              <a:ext cx="180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0480" y="40924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75680" y="4267080"/>
              <a:ext cx="137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M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39920" y="4092480"/>
              <a:ext cx="180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39920" y="40924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67360" y="4267080"/>
              <a:ext cx="11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Ju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20800" y="4092480"/>
              <a:ext cx="180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20800" y="40924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58320" y="4267080"/>
              <a:ext cx="9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Ju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00240" y="4092480"/>
              <a:ext cx="180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00240" y="40924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21560" y="426708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Au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81480" y="4092480"/>
              <a:ext cx="144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81480" y="409248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01000" y="426708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Sep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0920" y="4092480"/>
              <a:ext cx="144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60920" y="409248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89800" y="426708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Oc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41800" y="4092480"/>
              <a:ext cx="144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41800" y="409248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61320" y="426708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No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21240" y="4092480"/>
              <a:ext cx="144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21240" y="409248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42560" y="426708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De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02120" y="4092480"/>
              <a:ext cx="180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02120" y="40924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27760" y="4267080"/>
              <a:ext cx="11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J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39640" y="4381560"/>
              <a:ext cx="9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'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81560" y="4092480"/>
              <a:ext cx="180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81560" y="40924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05040" y="426708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Fe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61000" y="4092480"/>
              <a:ext cx="144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61000" y="409248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83760" y="4267080"/>
              <a:ext cx="12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M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41880" y="4092480"/>
              <a:ext cx="180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41880" y="40924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41880" y="4092480"/>
              <a:ext cx="399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14600" y="40352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1880" y="3670200"/>
              <a:ext cx="399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14600" y="36129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1880" y="3257280"/>
              <a:ext cx="3996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14600" y="31986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41880" y="2835000"/>
              <a:ext cx="3996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14600" y="27763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41880" y="2420640"/>
              <a:ext cx="3996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14600" y="23637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41880" y="1998720"/>
              <a:ext cx="3996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19280" y="194148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400000">
              <a:off x="6883200" y="3125160"/>
              <a:ext cx="704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"/>
                </a:rPr>
                <a:t>Avg Staff (people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79600" y="4092480"/>
              <a:ext cx="456228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79600" y="3670200"/>
              <a:ext cx="456228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79600" y="3257280"/>
              <a:ext cx="4562280" cy="180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79600" y="2835000"/>
              <a:ext cx="4562280" cy="180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9600" y="2420640"/>
              <a:ext cx="4562280" cy="180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9600" y="1998720"/>
              <a:ext cx="456228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49520" y="1998720"/>
              <a:ext cx="1800" cy="209376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430600" y="1998720"/>
              <a:ext cx="1800" cy="209376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060880" y="1998720"/>
              <a:ext cx="1440" cy="209376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5557680" y="1998720"/>
              <a:ext cx="1800" cy="209376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889600" y="1998720"/>
              <a:ext cx="1440" cy="209376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6210360" y="1998720"/>
              <a:ext cx="1440" cy="209376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513480" y="1998720"/>
              <a:ext cx="1440" cy="209376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551640" y="1998720"/>
              <a:ext cx="1440" cy="209376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33640" y="19080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95480" y="19080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92360" y="19080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71600" y="19080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40040" y="19080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2880" y="19080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12960" y="19080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31880" y="19080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39920" y="2685960"/>
              <a:ext cx="3051360" cy="1406520"/>
            </a:xfrm>
            <a:custGeom>
              <a:avLst/>
              <a:gdLst/>
              <a:ahLst/>
              <a:rect l="l" t="t" r="r" b="b"/>
              <a:pathLst>
                <a:path w="313" h="170">
                  <a:moveTo>
                    <a:pt x="0" y="170"/>
                  </a:moveTo>
                  <a:lnTo>
                    <a:pt x="0" y="170"/>
                  </a:lnTo>
                  <a:lnTo>
                    <a:pt x="0" y="130"/>
                  </a:lnTo>
                  <a:lnTo>
                    <a:pt x="39" y="130"/>
                  </a:lnTo>
                  <a:lnTo>
                    <a:pt x="39" y="59"/>
                  </a:lnTo>
                  <a:lnTo>
                    <a:pt x="78" y="59"/>
                  </a:lnTo>
                  <a:lnTo>
                    <a:pt x="78" y="14"/>
                  </a:lnTo>
                  <a:lnTo>
                    <a:pt x="117" y="14"/>
                  </a:lnTo>
                  <a:lnTo>
                    <a:pt x="117" y="0"/>
                  </a:lnTo>
                  <a:lnTo>
                    <a:pt x="156" y="0"/>
                  </a:lnTo>
                  <a:lnTo>
                    <a:pt x="156" y="13"/>
                  </a:lnTo>
                  <a:lnTo>
                    <a:pt x="195" y="13"/>
                  </a:lnTo>
                  <a:lnTo>
                    <a:pt x="195" y="44"/>
                  </a:lnTo>
                  <a:lnTo>
                    <a:pt x="234" y="44"/>
                  </a:lnTo>
                  <a:lnTo>
                    <a:pt x="234" y="79"/>
                  </a:lnTo>
                  <a:lnTo>
                    <a:pt x="273" y="79"/>
                  </a:lnTo>
                  <a:lnTo>
                    <a:pt x="273" y="112"/>
                  </a:lnTo>
                  <a:lnTo>
                    <a:pt x="312" y="112"/>
                  </a:lnTo>
                  <a:lnTo>
                    <a:pt x="312" y="126"/>
                  </a:lnTo>
                  <a:lnTo>
                    <a:pt x="313" y="126"/>
                  </a:lnTo>
                  <a:lnTo>
                    <a:pt x="313" y="17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71760" y="2346120"/>
              <a:ext cx="2289240" cy="1746360"/>
            </a:xfrm>
            <a:custGeom>
              <a:avLst/>
              <a:gdLst/>
              <a:ahLst/>
              <a:rect l="l" t="t" r="r" b="b"/>
              <a:pathLst>
                <a:path w="235" h="211">
                  <a:moveTo>
                    <a:pt x="0" y="211"/>
                  </a:moveTo>
                  <a:lnTo>
                    <a:pt x="0" y="211"/>
                  </a:lnTo>
                  <a:lnTo>
                    <a:pt x="0" y="210"/>
                  </a:lnTo>
                  <a:lnTo>
                    <a:pt x="1" y="210"/>
                  </a:lnTo>
                  <a:lnTo>
                    <a:pt x="1" y="180"/>
                  </a:lnTo>
                  <a:lnTo>
                    <a:pt x="40" y="180"/>
                  </a:lnTo>
                  <a:lnTo>
                    <a:pt x="40" y="125"/>
                  </a:lnTo>
                  <a:lnTo>
                    <a:pt x="79" y="125"/>
                  </a:lnTo>
                  <a:lnTo>
                    <a:pt x="79" y="76"/>
                  </a:lnTo>
                  <a:lnTo>
                    <a:pt x="118" y="76"/>
                  </a:lnTo>
                  <a:lnTo>
                    <a:pt x="118" y="38"/>
                  </a:lnTo>
                  <a:lnTo>
                    <a:pt x="157" y="38"/>
                  </a:lnTo>
                  <a:lnTo>
                    <a:pt x="157" y="12"/>
                  </a:lnTo>
                  <a:lnTo>
                    <a:pt x="196" y="12"/>
                  </a:lnTo>
                  <a:lnTo>
                    <a:pt x="196" y="0"/>
                  </a:lnTo>
                  <a:lnTo>
                    <a:pt x="235" y="0"/>
                  </a:lnTo>
                  <a:lnTo>
                    <a:pt x="235" y="21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84280" y="2003400"/>
              <a:ext cx="4552920" cy="20844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8320" y="1652400"/>
              <a:ext cx="88920" cy="88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51200" y="1643040"/>
              <a:ext cx="15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R&amp;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8320" y="1776240"/>
              <a:ext cx="88920" cy="88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50120" y="1766880"/>
              <a:ext cx="14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C&amp;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27000" y="2147760"/>
              <a:ext cx="350640" cy="1308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88840" y="2114280"/>
              <a:ext cx="399960" cy="134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88840" y="2114280"/>
              <a:ext cx="388800" cy="1341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51840" y="2147760"/>
              <a:ext cx="30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Mileston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52920" y="2255760"/>
              <a:ext cx="24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0 - CS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52920" y="2361960"/>
              <a:ext cx="24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1 - SR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52920" y="2469960"/>
              <a:ext cx="27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2 - HL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53280" y="2577960"/>
              <a:ext cx="26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3 - LL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49320" y="2685960"/>
              <a:ext cx="23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4 - C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44280" y="2793960"/>
              <a:ext cx="169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5 - 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51840" y="2900160"/>
              <a:ext cx="23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6 - ST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51840" y="3008160"/>
              <a:ext cx="23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7 - U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49320" y="3116160"/>
              <a:ext cx="23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8 - FC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46800" y="3224160"/>
              <a:ext cx="22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9 - 99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56520" y="3330360"/>
              <a:ext cx="31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10 - 99.9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27000" y="2147760"/>
              <a:ext cx="350640" cy="1308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88840" y="2114280"/>
              <a:ext cx="399960" cy="134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88840" y="2114280"/>
              <a:ext cx="388800" cy="1341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51840" y="2147760"/>
              <a:ext cx="30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Mileston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52920" y="2255760"/>
              <a:ext cx="24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0 - CS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52920" y="2361960"/>
              <a:ext cx="24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1 - SR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52920" y="2469960"/>
              <a:ext cx="27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2 - HL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53280" y="2577960"/>
              <a:ext cx="26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3 - LL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49320" y="2685960"/>
              <a:ext cx="23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4 - C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44280" y="2793960"/>
              <a:ext cx="169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5 - 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51840" y="2900160"/>
              <a:ext cx="23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6 - ST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51840" y="3008160"/>
              <a:ext cx="23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7 - U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49320" y="3116160"/>
              <a:ext cx="23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8 - FC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46800" y="3224160"/>
              <a:ext cx="22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9 - 99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56520" y="3330360"/>
              <a:ext cx="31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10 - 99.9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8600" y="4836960"/>
              <a:ext cx="3695760" cy="1365120"/>
            </a:xfrm>
            <a:prstGeom prst="roundRect">
              <a:avLst>
                <a:gd name="adj" fmla="val 303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5480" y="4808520"/>
              <a:ext cx="3684600" cy="1357200"/>
            </a:xfrm>
            <a:prstGeom prst="roundRect">
              <a:avLst>
                <a:gd name="adj" fmla="val 30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96560" y="4895640"/>
              <a:ext cx="146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SOLUTION PANEL  &lt;XP Rel. 3.0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57200" y="5151240"/>
              <a:ext cx="58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72760" y="5160960"/>
              <a:ext cx="35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Dur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37560" y="5292720"/>
              <a:ext cx="22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Eff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53040" y="5424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Co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33160" y="55576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Peak Staf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18480" y="5689440"/>
              <a:ext cx="26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MTT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39280" y="5823000"/>
              <a:ext cx="41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Start D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8160" y="5027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C&amp;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58840" y="5151240"/>
              <a:ext cx="58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85640" y="5160960"/>
              <a:ext cx="13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6.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98600" y="5292720"/>
              <a:ext cx="104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3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72680" y="5424480"/>
              <a:ext cx="15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56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85640" y="5557680"/>
              <a:ext cx="13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8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85640" y="5689440"/>
              <a:ext cx="13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1.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143440" y="5823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8/31/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65600" y="50277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Life Cy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60840" y="5151600"/>
            <a:ext cx="583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87640" y="516096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9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00240" y="529272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48760" y="5424480"/>
            <a:ext cx="20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17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87640" y="555768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8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87640" y="568944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71000" y="582300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6/1/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62480" y="5151600"/>
            <a:ext cx="48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51400" y="516096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ont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34920" y="52927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04320" y="542448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$ (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64360" y="555768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97840" y="568944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81360" y="5823000"/>
            <a:ext cx="47520" cy="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06920" y="5954760"/>
            <a:ext cx="163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I=20.7    MBI=3.8     Eff SLOC=670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57200" y="5954760"/>
            <a:ext cx="259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27600" y="4836960"/>
            <a:ext cx="3693960" cy="1365480"/>
          </a:xfrm>
          <a:prstGeom prst="roundRect">
            <a:avLst>
              <a:gd name="adj" fmla="val 303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92680" y="4808520"/>
            <a:ext cx="3684600" cy="1357200"/>
          </a:xfrm>
          <a:prstGeom prst="roundRect">
            <a:avLst>
              <a:gd name="adj" fmla="val 3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1320" y="5165640"/>
            <a:ext cx="2778120" cy="7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56360" y="5168880"/>
            <a:ext cx="277812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256360" y="5176800"/>
            <a:ext cx="2778120" cy="7920"/>
          </a:xfrm>
          <a:prstGeom prst="rect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256360" y="5184720"/>
            <a:ext cx="2778120" cy="7920"/>
          </a:xfrm>
          <a:prstGeom prst="rect">
            <a:avLst/>
          </a:prstGeom>
          <a:solidFill>
            <a:srgbClr val="f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6360" y="5192640"/>
            <a:ext cx="2778120" cy="9720"/>
          </a:xfrm>
          <a:prstGeom prst="rect">
            <a:avLst/>
          </a:prstGeom>
          <a:solidFill>
            <a:srgbClr val="f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56360" y="5202360"/>
            <a:ext cx="2778120" cy="7920"/>
          </a:xfrm>
          <a:prstGeom prst="rect">
            <a:avLst/>
          </a:prstGeom>
          <a:solidFill>
            <a:srgbClr val="f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56360" y="5210280"/>
            <a:ext cx="2778120" cy="7920"/>
          </a:xfrm>
          <a:prstGeom prst="rect">
            <a:avLst/>
          </a:prstGeom>
          <a:solidFill>
            <a:srgbClr val="f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56360" y="5218200"/>
            <a:ext cx="2778120" cy="7920"/>
          </a:xfrm>
          <a:prstGeom prst="rect">
            <a:avLst/>
          </a:prstGeom>
          <a:solidFill>
            <a:srgbClr val="f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56360" y="5226120"/>
            <a:ext cx="2778120" cy="7920"/>
          </a:xfrm>
          <a:prstGeom prst="rect">
            <a:avLst/>
          </a:prstGeom>
          <a:solidFill>
            <a:srgbClr val="f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56360" y="5234040"/>
            <a:ext cx="2778120" cy="9360"/>
          </a:xfrm>
          <a:prstGeom prst="rect">
            <a:avLst/>
          </a:prstGeom>
          <a:solidFill>
            <a:srgbClr val="f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56360" y="5243400"/>
            <a:ext cx="2778120" cy="7920"/>
          </a:xfrm>
          <a:prstGeom prst="rect">
            <a:avLst/>
          </a:prstGeom>
          <a:solidFill>
            <a:srgbClr val="f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56360" y="5251320"/>
            <a:ext cx="2778120" cy="7920"/>
          </a:xfrm>
          <a:prstGeom prst="rect">
            <a:avLst/>
          </a:prstGeom>
          <a:solidFill>
            <a:srgbClr val="f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6360" y="5259240"/>
            <a:ext cx="2778120" cy="7920"/>
          </a:xfrm>
          <a:prstGeom prst="rect">
            <a:avLst/>
          </a:prstGeom>
          <a:solidFill>
            <a:srgbClr val="f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56360" y="5267160"/>
            <a:ext cx="2778120" cy="9720"/>
          </a:xfrm>
          <a:prstGeom prst="rect">
            <a:avLst/>
          </a:prstGeom>
          <a:solidFill>
            <a:srgbClr val="e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256360" y="5276880"/>
            <a:ext cx="2778120" cy="7920"/>
          </a:xfrm>
          <a:prstGeom prst="rect">
            <a:avLst/>
          </a:prstGeom>
          <a:solidFill>
            <a:srgbClr val="e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56360" y="5284800"/>
            <a:ext cx="2778120" cy="7920"/>
          </a:xfrm>
          <a:prstGeom prst="rect">
            <a:avLst/>
          </a:prstGeom>
          <a:solidFill>
            <a:srgbClr val="e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56360" y="5292720"/>
            <a:ext cx="2778120" cy="7920"/>
          </a:xfrm>
          <a:prstGeom prst="rect">
            <a:avLst/>
          </a:prstGeom>
          <a:solidFill>
            <a:srgbClr val="e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56360" y="5300640"/>
            <a:ext cx="2778120" cy="7920"/>
          </a:xfrm>
          <a:prstGeom prst="rect">
            <a:avLst/>
          </a:prstGeom>
          <a:solidFill>
            <a:srgbClr val="e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56360" y="5308560"/>
            <a:ext cx="2778120" cy="9720"/>
          </a:xfrm>
          <a:prstGeom prst="rect">
            <a:avLst/>
          </a:prstGeom>
          <a:solidFill>
            <a:srgbClr val="e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56360" y="5318280"/>
            <a:ext cx="2778120" cy="7920"/>
          </a:xfrm>
          <a:prstGeom prst="rect">
            <a:avLst/>
          </a:prstGeom>
          <a:solidFill>
            <a:srgbClr val="e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56360" y="5326200"/>
            <a:ext cx="2778120" cy="792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256360" y="5334120"/>
            <a:ext cx="2778120" cy="7920"/>
          </a:xfrm>
          <a:prstGeom prst="rect">
            <a:avLst/>
          </a:prstGeom>
          <a:solidFill>
            <a:srgbClr val="e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56360" y="5342040"/>
            <a:ext cx="2778120" cy="7920"/>
          </a:xfrm>
          <a:prstGeom prst="rect">
            <a:avLst/>
          </a:prstGeom>
          <a:solidFill>
            <a:srgbClr val="e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56360" y="5349960"/>
            <a:ext cx="2778120" cy="9360"/>
          </a:xfrm>
          <a:prstGeom prst="rect">
            <a:avLst/>
          </a:prstGeom>
          <a:solidFill>
            <a:srgbClr val="e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56360" y="5359320"/>
            <a:ext cx="2778120" cy="792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256360" y="5367240"/>
            <a:ext cx="2778120" cy="7920"/>
          </a:xfrm>
          <a:prstGeom prst="rect">
            <a:avLst/>
          </a:prstGeom>
          <a:solidFill>
            <a:srgbClr val="d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56360" y="5375160"/>
            <a:ext cx="2778120" cy="7920"/>
          </a:xfrm>
          <a:prstGeom prst="rect">
            <a:avLst/>
          </a:prstGeom>
          <a:solidFill>
            <a:srgbClr val="d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56360" y="5383080"/>
            <a:ext cx="2778120" cy="7920"/>
          </a:xfrm>
          <a:prstGeom prst="rect">
            <a:avLst/>
          </a:prstGeom>
          <a:solidFill>
            <a:srgbClr val="d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6360" y="5391000"/>
            <a:ext cx="2778120" cy="9720"/>
          </a:xfrm>
          <a:prstGeom prst="rect">
            <a:avLst/>
          </a:prstGeom>
          <a:solidFill>
            <a:srgbClr val="d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56360" y="5400720"/>
            <a:ext cx="2778120" cy="792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56360" y="5408640"/>
            <a:ext cx="2778120" cy="7920"/>
          </a:xfrm>
          <a:prstGeom prst="rect">
            <a:avLst/>
          </a:pr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256360" y="5416560"/>
            <a:ext cx="2778120" cy="7920"/>
          </a:xfrm>
          <a:prstGeom prst="rect">
            <a:avLst/>
          </a:prstGeom>
          <a:solidFill>
            <a:srgbClr val="d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6360" y="5424480"/>
            <a:ext cx="2778120" cy="9360"/>
          </a:xfrm>
          <a:prstGeom prst="rect">
            <a:avLst/>
          </a:prstGeom>
          <a:solidFill>
            <a:srgbClr val="d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56360" y="5433840"/>
            <a:ext cx="2778120" cy="8280"/>
          </a:xfrm>
          <a:prstGeom prst="rect">
            <a:avLst/>
          </a:prstGeom>
          <a:solidFill>
            <a:srgbClr val="d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6360" y="5442120"/>
            <a:ext cx="2778120" cy="7920"/>
          </a:xfrm>
          <a:prstGeom prst="rect">
            <a:avLst/>
          </a:prstGeom>
          <a:solidFill>
            <a:srgbClr val="d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6360" y="5450040"/>
            <a:ext cx="2778120" cy="792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6360" y="5457960"/>
            <a:ext cx="2778120" cy="7920"/>
          </a:xfrm>
          <a:prstGeom prst="rect">
            <a:avLst/>
          </a:prstGeom>
          <a:solidFill>
            <a:srgbClr val="d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56360" y="5465880"/>
            <a:ext cx="2778120" cy="9360"/>
          </a:xfrm>
          <a:prstGeom prst="rect">
            <a:avLst/>
          </a:prstGeom>
          <a:solidFill>
            <a:srgbClr val="c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56360" y="5475240"/>
            <a:ext cx="2778120" cy="7920"/>
          </a:xfrm>
          <a:prstGeom prst="rect">
            <a:avLst/>
          </a:prstGeom>
          <a:solidFill>
            <a:srgbClr val="c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56360" y="5483160"/>
            <a:ext cx="2778120" cy="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56360" y="5491080"/>
            <a:ext cx="2778120" cy="7920"/>
          </a:xfrm>
          <a:prstGeom prst="rect">
            <a:avLst/>
          </a:prstGeom>
          <a:solidFill>
            <a:srgbClr val="c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56360" y="5499000"/>
            <a:ext cx="2778120" cy="792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56360" y="5506920"/>
            <a:ext cx="2778120" cy="9720"/>
          </a:xfrm>
          <a:prstGeom prst="rect">
            <a:avLst/>
          </a:prstGeom>
          <a:solidFill>
            <a:srgbClr val="c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256360" y="5516640"/>
            <a:ext cx="2778120" cy="7920"/>
          </a:xfrm>
          <a:prstGeom prst="rect">
            <a:avLst/>
          </a:prstGeom>
          <a:solidFill>
            <a:srgbClr val="c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256360" y="5524560"/>
            <a:ext cx="2778120" cy="7920"/>
          </a:xfrm>
          <a:prstGeom prst="rect">
            <a:avLst/>
          </a:prstGeom>
          <a:solidFill>
            <a:srgbClr val="c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56360" y="5532480"/>
            <a:ext cx="2778120" cy="7920"/>
          </a:xfrm>
          <a:prstGeom prst="rect">
            <a:avLst/>
          </a:prstGeom>
          <a:solidFill>
            <a:srgbClr val="c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56360" y="5540400"/>
            <a:ext cx="2778120" cy="9360"/>
          </a:xfrm>
          <a:prstGeom prst="rect">
            <a:avLst/>
          </a:prstGeom>
          <a:solidFill>
            <a:srgbClr val="c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56360" y="5549760"/>
            <a:ext cx="2778120" cy="7920"/>
          </a:xfrm>
          <a:prstGeom prst="rect">
            <a:avLst/>
          </a:prstGeom>
          <a:solidFill>
            <a:srgbClr val="c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56360" y="5557680"/>
            <a:ext cx="2778120" cy="7920"/>
          </a:xfrm>
          <a:prstGeom prst="rect">
            <a:avLst/>
          </a:prstGeom>
          <a:solidFill>
            <a:srgbClr val="c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6360" y="5565600"/>
            <a:ext cx="2778120" cy="8280"/>
          </a:xfrm>
          <a:prstGeom prst="rect">
            <a:avLst/>
          </a:prstGeom>
          <a:solidFill>
            <a:srgbClr val="b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56360" y="5573880"/>
            <a:ext cx="2778120" cy="7920"/>
          </a:xfrm>
          <a:prstGeom prst="rect">
            <a:avLst/>
          </a:prstGeom>
          <a:solidFill>
            <a:srgbClr val="b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56360" y="5581800"/>
            <a:ext cx="2778120" cy="9360"/>
          </a:xfrm>
          <a:prstGeom prst="rect">
            <a:avLst/>
          </a:prstGeom>
          <a:solidFill>
            <a:srgbClr val="b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256360" y="5591160"/>
            <a:ext cx="2778120" cy="7920"/>
          </a:xfrm>
          <a:prstGeom prst="rect">
            <a:avLst/>
          </a:prstGeom>
          <a:solidFill>
            <a:srgbClr val="b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56360" y="5599080"/>
            <a:ext cx="2778120" cy="7920"/>
          </a:xfrm>
          <a:prstGeom prst="rect">
            <a:avLst/>
          </a:prstGeom>
          <a:solidFill>
            <a:srgbClr val="b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56360" y="5607000"/>
            <a:ext cx="2778120" cy="792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6360" y="5614920"/>
            <a:ext cx="2778120" cy="7920"/>
          </a:xfrm>
          <a:prstGeom prst="rect">
            <a:avLst/>
          </a:prstGeom>
          <a:solidFill>
            <a:srgbClr val="b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56360" y="5622840"/>
            <a:ext cx="2778120" cy="9720"/>
          </a:xfrm>
          <a:prstGeom prst="rect">
            <a:avLst/>
          </a:prstGeom>
          <a:solidFill>
            <a:srgbClr val="b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256360" y="5632560"/>
            <a:ext cx="2778120" cy="7920"/>
          </a:xfrm>
          <a:prstGeom prst="rect">
            <a:avLst/>
          </a:prstGeom>
          <a:solidFill>
            <a:srgbClr val="b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256360" y="5640480"/>
            <a:ext cx="2778120" cy="7920"/>
          </a:xfrm>
          <a:prstGeom prst="rect">
            <a:avLst/>
          </a:prstGeom>
          <a:solidFill>
            <a:srgbClr val="b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56360" y="5648400"/>
            <a:ext cx="2778120" cy="7920"/>
          </a:xfrm>
          <a:prstGeom prst="rect">
            <a:avLst/>
          </a:prstGeom>
          <a:solidFill>
            <a:srgbClr val="b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56360" y="5656320"/>
            <a:ext cx="2778120" cy="9360"/>
          </a:xfrm>
          <a:prstGeom prst="rect">
            <a:avLst/>
          </a:prstGeom>
          <a:solidFill>
            <a:srgbClr val="b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56360" y="5665680"/>
            <a:ext cx="2778120" cy="7920"/>
          </a:xfrm>
          <a:prstGeom prst="rect">
            <a:avLst/>
          </a:prstGeom>
          <a:solidFill>
            <a:srgbClr val="a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56360" y="5673600"/>
            <a:ext cx="2778120" cy="79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56360" y="5681520"/>
            <a:ext cx="2778120" cy="7920"/>
          </a:xfrm>
          <a:prstGeom prst="rect">
            <a:avLst/>
          </a:prstGeom>
          <a:solidFill>
            <a:srgbClr val="a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6360" y="5689440"/>
            <a:ext cx="2778120" cy="7920"/>
          </a:xfrm>
          <a:prstGeom prst="rect">
            <a:avLst/>
          </a:prstGeom>
          <a:solidFill>
            <a:srgbClr val="a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56360" y="5697360"/>
            <a:ext cx="2778120" cy="9720"/>
          </a:xfrm>
          <a:prstGeom prst="rect">
            <a:avLst/>
          </a:prstGeom>
          <a:solidFill>
            <a:srgbClr val="a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56360" y="5707080"/>
            <a:ext cx="2778120" cy="7920"/>
          </a:xfrm>
          <a:prstGeom prst="rect">
            <a:avLst/>
          </a:prstGeom>
          <a:solidFill>
            <a:srgbClr val="a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6360" y="5715000"/>
            <a:ext cx="2778120" cy="7920"/>
          </a:xfrm>
          <a:prstGeom prst="rect">
            <a:avLst/>
          </a:prstGeom>
          <a:solidFill>
            <a:srgbClr val="a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6360" y="5722920"/>
            <a:ext cx="2778120" cy="7920"/>
          </a:xfrm>
          <a:prstGeom prst="rect">
            <a:avLst/>
          </a:prstGeom>
          <a:solidFill>
            <a:srgbClr val="a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6360" y="5730840"/>
            <a:ext cx="2778120" cy="7920"/>
          </a:xfrm>
          <a:prstGeom prst="rect">
            <a:avLst/>
          </a:prstGeom>
          <a:solidFill>
            <a:srgbClr val="a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56360" y="5738760"/>
            <a:ext cx="2778120" cy="9720"/>
          </a:xfrm>
          <a:prstGeom prst="rect">
            <a:avLst/>
          </a:prstGeom>
          <a:solidFill>
            <a:srgbClr val="a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56360" y="5748480"/>
            <a:ext cx="2778120" cy="7920"/>
          </a:xfrm>
          <a:prstGeom prst="rect">
            <a:avLst/>
          </a:prstGeom>
          <a:solidFill>
            <a:srgbClr val="a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56360" y="5756400"/>
            <a:ext cx="2778120" cy="7920"/>
          </a:xfrm>
          <a:prstGeom prst="rect">
            <a:avLst/>
          </a:prstGeom>
          <a:solidFill>
            <a:srgbClr val="a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256360" y="5764320"/>
            <a:ext cx="2778120" cy="7920"/>
          </a:xfrm>
          <a:prstGeom prst="rect">
            <a:avLst/>
          </a:prstGeom>
          <a:solidFill>
            <a:srgbClr val="9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56360" y="5772240"/>
            <a:ext cx="2778120" cy="9360"/>
          </a:xfrm>
          <a:prstGeom prst="rect">
            <a:avLst/>
          </a:prstGeom>
          <a:solidFill>
            <a:srgbClr val="9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56360" y="5781600"/>
            <a:ext cx="2778120" cy="7920"/>
          </a:xfrm>
          <a:prstGeom prst="rect">
            <a:avLst/>
          </a:prstGeom>
          <a:solidFill>
            <a:srgbClr val="9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6360" y="5789520"/>
            <a:ext cx="2778120" cy="7920"/>
          </a:xfrm>
          <a:prstGeom prst="rect">
            <a:avLst/>
          </a:prstGeom>
          <a:solidFill>
            <a:srgbClr val="9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256360" y="5797440"/>
            <a:ext cx="2778120" cy="792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56360" y="5805360"/>
            <a:ext cx="2778120" cy="7920"/>
          </a:xfrm>
          <a:prstGeom prst="rect">
            <a:avLst/>
          </a:prstGeom>
          <a:solidFill>
            <a:srgbClr val="9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256360" y="5813280"/>
            <a:ext cx="2778120" cy="9720"/>
          </a:xfrm>
          <a:prstGeom prst="rect">
            <a:avLst/>
          </a:prstGeom>
          <a:solidFill>
            <a:srgbClr val="9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56360" y="5823000"/>
            <a:ext cx="2778120" cy="7920"/>
          </a:xfrm>
          <a:prstGeom prst="rect">
            <a:avLst/>
          </a:prstGeom>
          <a:solidFill>
            <a:srgbClr val="9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56360" y="5830920"/>
            <a:ext cx="2778120" cy="7920"/>
          </a:xfrm>
          <a:prstGeom prst="rect">
            <a:avLst/>
          </a:prstGeom>
          <a:solidFill>
            <a:srgbClr val="9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256360" y="5838840"/>
            <a:ext cx="2778120" cy="7920"/>
          </a:xfrm>
          <a:prstGeom prst="rect">
            <a:avLst/>
          </a:prstGeom>
          <a:solidFill>
            <a:srgbClr val="9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256360" y="5846760"/>
            <a:ext cx="2778120" cy="7920"/>
          </a:xfrm>
          <a:prstGeom prst="rect">
            <a:avLst/>
          </a:prstGeom>
          <a:solidFill>
            <a:srgbClr val="9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256360" y="5854680"/>
            <a:ext cx="2778120" cy="9720"/>
          </a:xfrm>
          <a:prstGeom prst="rect">
            <a:avLst/>
          </a:prstGeom>
          <a:solidFill>
            <a:srgbClr val="9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6360" y="5864400"/>
            <a:ext cx="2778120" cy="7920"/>
          </a:xfrm>
          <a:prstGeom prst="rect">
            <a:avLst/>
          </a:prstGeom>
          <a:solidFill>
            <a:srgbClr val="8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6360" y="5872320"/>
            <a:ext cx="2778120" cy="792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256360" y="5880240"/>
            <a:ext cx="2778120" cy="7920"/>
          </a:xfrm>
          <a:prstGeom prst="rect">
            <a:avLst/>
          </a:prstGeom>
          <a:solidFill>
            <a:srgbClr val="8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6360" y="5888160"/>
            <a:ext cx="2778120" cy="7920"/>
          </a:xfrm>
          <a:prstGeom prst="rect">
            <a:avLst/>
          </a:prstGeom>
          <a:solidFill>
            <a:srgbClr val="8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56360" y="5896080"/>
            <a:ext cx="2778120" cy="9360"/>
          </a:xfrm>
          <a:prstGeom prst="rect">
            <a:avLst/>
          </a:prstGeom>
          <a:solidFill>
            <a:srgbClr val="8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6360" y="5905440"/>
            <a:ext cx="2778120" cy="7920"/>
          </a:xfrm>
          <a:prstGeom prst="rect">
            <a:avLst/>
          </a:prstGeom>
          <a:solidFill>
            <a:srgbClr val="8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56360" y="5913360"/>
            <a:ext cx="2778120" cy="7920"/>
          </a:xfrm>
          <a:prstGeom prst="rect">
            <a:avLst/>
          </a:prstGeom>
          <a:solidFill>
            <a:srgbClr val="8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56360" y="5921280"/>
            <a:ext cx="2778120" cy="7920"/>
          </a:xfrm>
          <a:prstGeom prst="rect">
            <a:avLst/>
          </a:prstGeom>
          <a:solidFill>
            <a:srgbClr val="8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256360" y="5929200"/>
            <a:ext cx="2778120" cy="9720"/>
          </a:xfrm>
          <a:prstGeom prst="rect">
            <a:avLst/>
          </a:prstGeom>
          <a:solidFill>
            <a:srgbClr val="8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56360" y="5938920"/>
            <a:ext cx="2778120" cy="7920"/>
          </a:xfrm>
          <a:prstGeom prst="rect">
            <a:avLst/>
          </a:prstGeom>
          <a:solidFill>
            <a:srgbClr val="8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56360" y="5946840"/>
            <a:ext cx="2778120" cy="7920"/>
          </a:xfrm>
          <a:prstGeom prst="rect">
            <a:avLst/>
          </a:prstGeom>
          <a:solidFill>
            <a:srgbClr val="8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56360" y="5019840"/>
            <a:ext cx="286524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66280" y="5019840"/>
            <a:ext cx="144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ONTROL PANEL  &lt;XP Rel. 3.0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68920" y="582120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06400" y="5689440"/>
            <a:ext cx="25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6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1880" y="5689440"/>
            <a:ext cx="25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24.8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97680" y="5343480"/>
            <a:ext cx="1033560" cy="87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81" y="3145"/>
                </a:moveTo>
                <a:arcTo wR="10800" hR="10800" stAng="-8091821" swAng="5376281"/>
                <a:lnTo>
                  <a:pt x="10800" y="10800"/>
                </a:lnTo>
                <a:close/>
              </a:path>
              <a:path fill="none" w="21600" h="21600">
                <a:moveTo>
                  <a:pt x="3181" y="3145"/>
                </a:moveTo>
                <a:arcTo wR="10800" hR="10800" stAng="-8091821" swAng="5376281"/>
              </a:path>
            </a:pathLst>
          </a:cu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13560" y="5349960"/>
            <a:ext cx="1440" cy="43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5383080"/>
            <a:ext cx="204840" cy="3985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5713560" y="5383080"/>
            <a:ext cx="204480" cy="3985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94480" y="5334120"/>
            <a:ext cx="39600" cy="447480"/>
          </a:xfrm>
          <a:custGeom>
            <a:avLst/>
            <a:gdLst/>
            <a:ahLst/>
            <a:rect l="l" t="t" r="r" b="b"/>
            <a:pathLst>
              <a:path w="25" h="282">
                <a:moveTo>
                  <a:pt x="12" y="0"/>
                </a:moveTo>
                <a:lnTo>
                  <a:pt x="0" y="282"/>
                </a:lnTo>
                <a:lnTo>
                  <a:pt x="25" y="28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99160" y="5761080"/>
            <a:ext cx="30240" cy="23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570280" y="5168880"/>
            <a:ext cx="285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20.7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24560" y="5821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ak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29080" y="5689440"/>
            <a:ext cx="20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6.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87440" y="5689440"/>
            <a:ext cx="25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0.1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123240" y="5343480"/>
            <a:ext cx="1033560" cy="87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81" y="3145"/>
                </a:moveTo>
                <a:arcTo wR="10800" hR="10800" stAng="-8091821" swAng="5376281"/>
                <a:lnTo>
                  <a:pt x="10800" y="10800"/>
                </a:lnTo>
                <a:close/>
              </a:path>
              <a:path fill="none" w="21600" h="21600">
                <a:moveTo>
                  <a:pt x="3181" y="3145"/>
                </a:moveTo>
                <a:arcTo wR="10800" hR="10800" stAng="-8091821" swAng="5376281"/>
              </a:path>
            </a:pathLst>
          </a:cu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0560" y="5349960"/>
            <a:ext cx="1440" cy="43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35720" y="5383080"/>
            <a:ext cx="204840" cy="3985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640200" y="5383080"/>
            <a:ext cx="204840" cy="3985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20040" y="5334120"/>
            <a:ext cx="39600" cy="447480"/>
          </a:xfrm>
          <a:custGeom>
            <a:avLst/>
            <a:gdLst/>
            <a:ahLst/>
            <a:rect l="l" t="t" r="r" b="b"/>
            <a:pathLst>
              <a:path w="25" h="282">
                <a:moveTo>
                  <a:pt x="13" y="0"/>
                </a:moveTo>
                <a:lnTo>
                  <a:pt x="0" y="282"/>
                </a:lnTo>
                <a:lnTo>
                  <a:pt x="25" y="282"/>
                </a:lnTo>
                <a:lnTo>
                  <a:pt x="13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4720" y="5761080"/>
            <a:ext cx="30240" cy="23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23200" y="5168880"/>
            <a:ext cx="23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8.4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92880" y="5821200"/>
            <a:ext cx="54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ff SLOC (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147800" y="56894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5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801920" y="56894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80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49160" y="5343480"/>
            <a:ext cx="1035360" cy="87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04" y="3123"/>
                </a:moveTo>
                <a:arcTo wR="10800" hR="10800" stAng="-8081821" swAng="5363643"/>
                <a:lnTo>
                  <a:pt x="10800" y="10800"/>
                </a:lnTo>
                <a:close/>
              </a:path>
              <a:path fill="none" w="21600" h="21600">
                <a:moveTo>
                  <a:pt x="3204" y="3123"/>
                </a:moveTo>
                <a:arcTo wR="10800" hR="10800" stAng="-8081821" swAng="5363643"/>
              </a:path>
            </a:pathLst>
          </a:cu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66120" y="5349960"/>
            <a:ext cx="1440" cy="43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61280" y="5383080"/>
            <a:ext cx="204840" cy="3985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565760" y="5383080"/>
            <a:ext cx="204840" cy="3985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47040" y="5334120"/>
            <a:ext cx="38160" cy="447480"/>
          </a:xfrm>
          <a:custGeom>
            <a:avLst/>
            <a:gdLst/>
            <a:ahLst/>
            <a:rect l="l" t="t" r="r" b="b"/>
            <a:pathLst>
              <a:path w="24" h="282">
                <a:moveTo>
                  <a:pt x="12" y="0"/>
                </a:moveTo>
                <a:lnTo>
                  <a:pt x="0" y="282"/>
                </a:lnTo>
                <a:lnTo>
                  <a:pt x="24" y="28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1720" y="5761080"/>
            <a:ext cx="28440" cy="23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2080" y="5168880"/>
            <a:ext cx="20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67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37000" y="6410160"/>
            <a:ext cx="60480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97400" y="6377040"/>
            <a:ext cx="614160" cy="1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397400" y="6377040"/>
            <a:ext cx="604800" cy="164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76240" y="6410160"/>
            <a:ext cx="45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Project: Elan 3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igitized Replica Using SLIM</a:t>
            </a:r>
            <a:r>
              <a:rPr b="1" lang="en-US" sz="3600" spc="-1" strike="noStrike" baseline="30000">
                <a:solidFill>
                  <a:srgbClr val="000066"/>
                </a:solidFill>
                <a:latin typeface="Arial Narrow"/>
              </a:rPr>
              <a:t>tm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6" name=""/>
          <p:cNvSpPr/>
          <p:nvPr/>
        </p:nvSpPr>
        <p:spPr>
          <a:xfrm>
            <a:off x="4648320" y="6369120"/>
            <a:ext cx="914400" cy="18396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777-3EF9-4C35-AF51-32ADAE3BBC9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23B75-CF29-4358-BFFC-5B424092809E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33520" y="1295280"/>
            <a:ext cx="8229600" cy="5257800"/>
            <a:chOff x="533520" y="1295280"/>
            <a:chExt cx="8229600" cy="5257800"/>
          </a:xfrm>
        </p:grpSpPr>
        <p:sp>
          <p:nvSpPr>
            <p:cNvPr id="679" name=""/>
            <p:cNvSpPr/>
            <p:nvPr/>
          </p:nvSpPr>
          <p:spPr>
            <a:xfrm>
              <a:off x="533520" y="1295280"/>
              <a:ext cx="8229600" cy="5257800"/>
            </a:xfrm>
            <a:prstGeom prst="rect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0120" y="1345320"/>
              <a:ext cx="2408040" cy="18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38720" y="1311840"/>
              <a:ext cx="240984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22840" y="1345320"/>
              <a:ext cx="184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Staffing &amp; Probability Analy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5400" y="1639800"/>
              <a:ext cx="7956360" cy="2945880"/>
            </a:xfrm>
            <a:prstGeom prst="roundRect">
              <a:avLst>
                <a:gd name="adj" fmla="val 265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4000" y="1608480"/>
              <a:ext cx="7956360" cy="2945880"/>
            </a:xfrm>
            <a:prstGeom prst="roundRect">
              <a:avLst>
                <a:gd name="adj" fmla="val 26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96520" y="1689840"/>
              <a:ext cx="872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Avg Staff (peopl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29360" y="1805040"/>
              <a:ext cx="63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&lt;XP Rel. 3.2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44960" y="1994040"/>
              <a:ext cx="4676760" cy="2081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54320" y="2003400"/>
              <a:ext cx="466740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54320" y="2010960"/>
              <a:ext cx="4667400" cy="86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54320" y="2019600"/>
              <a:ext cx="4667400" cy="7200"/>
            </a:xfrm>
            <a:prstGeom prst="rect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54320" y="2027160"/>
              <a:ext cx="4667400" cy="7200"/>
            </a:xfrm>
            <a:prstGeom prst="rect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54320" y="2034720"/>
              <a:ext cx="4667400" cy="9000"/>
            </a:xfrm>
            <a:prstGeom prst="rect">
              <a:avLst/>
            </a:prstGeom>
            <a:solidFill>
              <a:srgbClr val="f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54320" y="2044080"/>
              <a:ext cx="4667400" cy="7200"/>
            </a:xfrm>
            <a:prstGeom prst="rect">
              <a:avLst/>
            </a:prstGeom>
            <a:solidFill>
              <a:srgbClr val="f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54320" y="2051640"/>
              <a:ext cx="4667400" cy="8640"/>
            </a:xfrm>
            <a:prstGeom prst="rect">
              <a:avLst/>
            </a:prstGeom>
            <a:solidFill>
              <a:srgbClr val="f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54320" y="2060640"/>
              <a:ext cx="4667400" cy="7200"/>
            </a:xfrm>
            <a:prstGeom prst="rect">
              <a:avLst/>
            </a:prstGeom>
            <a:solidFill>
              <a:srgbClr val="f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54320" y="2068200"/>
              <a:ext cx="4667400" cy="9000"/>
            </a:xfrm>
            <a:prstGeom prst="rect">
              <a:avLst/>
            </a:prstGeom>
            <a:solidFill>
              <a:srgbClr val="f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54320" y="2077560"/>
              <a:ext cx="4667400" cy="7200"/>
            </a:xfrm>
            <a:prstGeom prst="rect">
              <a:avLst/>
            </a:prstGeom>
            <a:solidFill>
              <a:srgbClr val="f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54320" y="2084760"/>
              <a:ext cx="4667400" cy="8640"/>
            </a:xfrm>
            <a:prstGeom prst="rect">
              <a:avLst/>
            </a:pr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54320" y="2093760"/>
              <a:ext cx="4667400" cy="7200"/>
            </a:xfrm>
            <a:prstGeom prst="rect">
              <a:avLst/>
            </a:pr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54320" y="2101320"/>
              <a:ext cx="4667400" cy="7200"/>
            </a:xfrm>
            <a:prstGeom prst="rect">
              <a:avLst/>
            </a:pr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54320" y="2108880"/>
              <a:ext cx="4667400" cy="9000"/>
            </a:xfrm>
            <a:prstGeom prst="rect">
              <a:avLst/>
            </a:pr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54320" y="2118240"/>
              <a:ext cx="4667400" cy="7200"/>
            </a:xfrm>
            <a:prstGeom prst="rect">
              <a:avLst/>
            </a:prstGeom>
            <a:solidFill>
              <a:srgbClr val="f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54320" y="2125800"/>
              <a:ext cx="4667400" cy="8640"/>
            </a:xfrm>
            <a:prstGeom prst="rect">
              <a:avLst/>
            </a:prstGeom>
            <a:solidFill>
              <a:srgbClr val="f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54320" y="2134800"/>
              <a:ext cx="4667400" cy="7200"/>
            </a:xfrm>
            <a:prstGeom prst="rect">
              <a:avLst/>
            </a:pr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54320" y="2142360"/>
              <a:ext cx="4667400" cy="9000"/>
            </a:xfrm>
            <a:prstGeom prst="rect">
              <a:avLst/>
            </a:pr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54320" y="2151360"/>
              <a:ext cx="4667400" cy="7200"/>
            </a:xfrm>
            <a:prstGeom prst="rect">
              <a:avLst/>
            </a:pr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54320" y="2158920"/>
              <a:ext cx="4667400" cy="7200"/>
            </a:xfrm>
            <a:prstGeom prst="rect">
              <a:avLst/>
            </a:pr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54320" y="2166480"/>
              <a:ext cx="4667400" cy="8640"/>
            </a:xfrm>
            <a:prstGeom prst="rect">
              <a:avLst/>
            </a:pr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54320" y="2175480"/>
              <a:ext cx="4667400" cy="7560"/>
            </a:xfrm>
            <a:prstGeom prst="rect">
              <a:avLst/>
            </a:pr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54320" y="2183400"/>
              <a:ext cx="4667400" cy="8640"/>
            </a:xfrm>
            <a:prstGeom prst="rect">
              <a:avLst/>
            </a:prstGeom>
            <a:solidFill>
              <a:srgbClr val="f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54320" y="2192400"/>
              <a:ext cx="4667400" cy="7200"/>
            </a:xfrm>
            <a:prstGeom prst="rect">
              <a:avLst/>
            </a:prstGeom>
            <a:solidFill>
              <a:srgbClr val="f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54320" y="2199960"/>
              <a:ext cx="4667400" cy="8640"/>
            </a:xfrm>
            <a:prstGeom prst="rect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54320" y="2208960"/>
              <a:ext cx="4667400" cy="7560"/>
            </a:xfrm>
            <a:prstGeom prst="rect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54320" y="2216520"/>
              <a:ext cx="4667400" cy="8640"/>
            </a:xfrm>
            <a:prstGeom prst="rect">
              <a:avLst/>
            </a:prstGeom>
            <a:solidFill>
              <a:srgbClr val="f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54320" y="2225520"/>
              <a:ext cx="4667400" cy="7200"/>
            </a:xfrm>
            <a:prstGeom prst="rect">
              <a:avLst/>
            </a:prstGeom>
            <a:solidFill>
              <a:srgbClr val="f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54320" y="2233080"/>
              <a:ext cx="4667400" cy="7200"/>
            </a:xfrm>
            <a:prstGeom prst="rect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54320" y="2240640"/>
              <a:ext cx="4667400" cy="9000"/>
            </a:xfrm>
            <a:prstGeom prst="rect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54320" y="2250000"/>
              <a:ext cx="4667400" cy="7200"/>
            </a:xfrm>
            <a:prstGeom prst="rect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54320" y="2257560"/>
              <a:ext cx="4667400" cy="8640"/>
            </a:xfrm>
            <a:prstGeom prst="rect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54320" y="2266560"/>
              <a:ext cx="4667400" cy="7200"/>
            </a:xfrm>
            <a:prstGeom prst="rect">
              <a:avLst/>
            </a:pr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54320" y="2274120"/>
              <a:ext cx="4667400" cy="9000"/>
            </a:xfrm>
            <a:prstGeom prst="rect">
              <a:avLst/>
            </a:pr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54320" y="2283120"/>
              <a:ext cx="4667400" cy="7200"/>
            </a:xfrm>
            <a:prstGeom prst="rect">
              <a:avLst/>
            </a:prstGeom>
            <a:solidFill>
              <a:srgbClr val="e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54320" y="2290680"/>
              <a:ext cx="4667400" cy="7200"/>
            </a:xfrm>
            <a:prstGeom prst="rect">
              <a:avLst/>
            </a:prstGeom>
            <a:solidFill>
              <a:srgbClr val="e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54320" y="2298240"/>
              <a:ext cx="4667400" cy="8640"/>
            </a:xfrm>
            <a:prstGeom prst="rect">
              <a:avLst/>
            </a:pr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54320" y="2307240"/>
              <a:ext cx="4667400" cy="7200"/>
            </a:xfrm>
            <a:prstGeom prst="rect">
              <a:avLst/>
            </a:pr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54320" y="2314800"/>
              <a:ext cx="4667400" cy="9000"/>
            </a:xfrm>
            <a:prstGeom prst="rect">
              <a:avLst/>
            </a:prstGeom>
            <a:solidFill>
              <a:srgbClr val="e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54320" y="2324160"/>
              <a:ext cx="4667400" cy="7200"/>
            </a:xfrm>
            <a:prstGeom prst="rect">
              <a:avLst/>
            </a:prstGeom>
            <a:solidFill>
              <a:srgbClr val="e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54320" y="2331720"/>
              <a:ext cx="4667400" cy="8640"/>
            </a:xfrm>
            <a:prstGeom prst="rect">
              <a:avLst/>
            </a:pr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54320" y="2340720"/>
              <a:ext cx="4667400" cy="7200"/>
            </a:xfrm>
            <a:prstGeom prst="rect">
              <a:avLst/>
            </a:pr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54320" y="2348280"/>
              <a:ext cx="4667400" cy="9000"/>
            </a:xfrm>
            <a:prstGeom prst="rect">
              <a:avLst/>
            </a:prstGeom>
            <a:solidFill>
              <a:srgbClr val="e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54320" y="2357280"/>
              <a:ext cx="4667400" cy="7200"/>
            </a:xfrm>
            <a:prstGeom prst="rect">
              <a:avLst/>
            </a:prstGeom>
            <a:solidFill>
              <a:srgbClr val="e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54320" y="2364840"/>
              <a:ext cx="4667400" cy="7200"/>
            </a:xfrm>
            <a:prstGeom prst="rect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54320" y="2372400"/>
              <a:ext cx="4667400" cy="8640"/>
            </a:xfrm>
            <a:prstGeom prst="rect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54320" y="2381400"/>
              <a:ext cx="4667400" cy="7200"/>
            </a:xfrm>
            <a:prstGeom prst="rect">
              <a:avLst/>
            </a:prstGeom>
            <a:solidFill>
              <a:srgbClr val="e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54320" y="2388960"/>
              <a:ext cx="4667400" cy="9000"/>
            </a:xfrm>
            <a:prstGeom prst="rect">
              <a:avLst/>
            </a:prstGeom>
            <a:solidFill>
              <a:srgbClr val="e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54320" y="2398320"/>
              <a:ext cx="4667400" cy="7200"/>
            </a:xfrm>
            <a:prstGeom prst="rect">
              <a:avLst/>
            </a:pr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54320" y="2405880"/>
              <a:ext cx="4667400" cy="8640"/>
            </a:xfrm>
            <a:prstGeom prst="rect">
              <a:avLst/>
            </a:pr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4320" y="2414520"/>
              <a:ext cx="4667400" cy="720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54320" y="2422080"/>
              <a:ext cx="4667400" cy="900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54320" y="2431440"/>
              <a:ext cx="4667400" cy="7200"/>
            </a:xfrm>
            <a:prstGeom prst="rect">
              <a:avLst/>
            </a:pr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54320" y="2439000"/>
              <a:ext cx="4667400" cy="7200"/>
            </a:xfrm>
            <a:prstGeom prst="rect">
              <a:avLst/>
            </a:pr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54320" y="2446560"/>
              <a:ext cx="4667400" cy="86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54320" y="2455560"/>
              <a:ext cx="4667400" cy="720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54320" y="2463120"/>
              <a:ext cx="4667400" cy="9000"/>
            </a:xfrm>
            <a:prstGeom prst="rect">
              <a:avLst/>
            </a:pr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54320" y="2472480"/>
              <a:ext cx="4667400" cy="7200"/>
            </a:xfrm>
            <a:prstGeom prst="rect">
              <a:avLst/>
            </a:pr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54320" y="2479680"/>
              <a:ext cx="4667400" cy="8640"/>
            </a:xfrm>
            <a:prstGeom prst="rect">
              <a:avLst/>
            </a:prstGeom>
            <a:solidFill>
              <a:srgbClr val="e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54320" y="2488680"/>
              <a:ext cx="4667400" cy="7200"/>
            </a:xfrm>
            <a:prstGeom prst="rect">
              <a:avLst/>
            </a:prstGeom>
            <a:solidFill>
              <a:srgbClr val="e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54320" y="2496240"/>
              <a:ext cx="4667400" cy="7200"/>
            </a:xfrm>
            <a:prstGeom prst="rect">
              <a:avLst/>
            </a:pr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54320" y="2503800"/>
              <a:ext cx="4667400" cy="9000"/>
            </a:xfrm>
            <a:prstGeom prst="rect">
              <a:avLst/>
            </a:pr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54320" y="2513160"/>
              <a:ext cx="4667400" cy="7200"/>
            </a:xfrm>
            <a:prstGeom prst="rect">
              <a:avLst/>
            </a:prstGeom>
            <a:solidFill>
              <a:srgbClr val="d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54320" y="2520720"/>
              <a:ext cx="4667400" cy="8640"/>
            </a:xfrm>
            <a:prstGeom prst="rect">
              <a:avLst/>
            </a:prstGeom>
            <a:solidFill>
              <a:srgbClr val="d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54320" y="2529720"/>
              <a:ext cx="4667400" cy="7200"/>
            </a:xfrm>
            <a:prstGeom prst="rect">
              <a:avLst/>
            </a:pr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54320" y="2537280"/>
              <a:ext cx="4667400" cy="9000"/>
            </a:xfrm>
            <a:prstGeom prst="rect">
              <a:avLst/>
            </a:pr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54320" y="2546280"/>
              <a:ext cx="4667400" cy="7200"/>
            </a:xfrm>
            <a:prstGeom prst="rect">
              <a:avLst/>
            </a:prstGeom>
            <a:solidFill>
              <a:srgbClr val="d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254320" y="2553840"/>
              <a:ext cx="4667400" cy="8640"/>
            </a:xfrm>
            <a:prstGeom prst="rect">
              <a:avLst/>
            </a:prstGeom>
            <a:solidFill>
              <a:srgbClr val="d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54320" y="2562840"/>
              <a:ext cx="4667400" cy="7200"/>
            </a:xfrm>
            <a:prstGeom prst="rect">
              <a:avLst/>
            </a:pr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54320" y="2570400"/>
              <a:ext cx="4667400" cy="7200"/>
            </a:xfrm>
            <a:prstGeom prst="rect">
              <a:avLst/>
            </a:pr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54320" y="2577960"/>
              <a:ext cx="4667400" cy="9000"/>
            </a:xfrm>
            <a:prstGeom prst="rect">
              <a:avLst/>
            </a:prstGeom>
            <a:solidFill>
              <a:srgbClr val="d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54320" y="2587320"/>
              <a:ext cx="4667400" cy="7200"/>
            </a:xfrm>
            <a:prstGeom prst="rect">
              <a:avLst/>
            </a:prstGeom>
            <a:solidFill>
              <a:srgbClr val="d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54320" y="2594880"/>
              <a:ext cx="4667400" cy="8640"/>
            </a:xfrm>
            <a:prstGeom prst="rect">
              <a:avLst/>
            </a:pr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54320" y="2603880"/>
              <a:ext cx="4667400" cy="7200"/>
            </a:xfrm>
            <a:prstGeom prst="rect">
              <a:avLst/>
            </a:pr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54320" y="2611440"/>
              <a:ext cx="4667400" cy="9000"/>
            </a:xfrm>
            <a:prstGeom prst="rect">
              <a:avLst/>
            </a:prstGeom>
            <a:solidFill>
              <a:srgbClr val="d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54320" y="2620440"/>
              <a:ext cx="4667400" cy="7200"/>
            </a:xfrm>
            <a:prstGeom prst="rect">
              <a:avLst/>
            </a:prstGeom>
            <a:solidFill>
              <a:srgbClr val="d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54320" y="2628000"/>
              <a:ext cx="4667400" cy="7200"/>
            </a:xfrm>
            <a:prstGeom prst="rect">
              <a:avLst/>
            </a:pr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54320" y="2635560"/>
              <a:ext cx="4667400" cy="8640"/>
            </a:xfrm>
            <a:prstGeom prst="rect">
              <a:avLst/>
            </a:pr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54320" y="2644560"/>
              <a:ext cx="4667400" cy="7560"/>
            </a:xfrm>
            <a:prstGeom prst="rect">
              <a:avLst/>
            </a:prstGeom>
            <a:solidFill>
              <a:srgbClr val="d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54320" y="2652480"/>
              <a:ext cx="4667400" cy="8640"/>
            </a:xfrm>
            <a:prstGeom prst="rect">
              <a:avLst/>
            </a:prstGeom>
            <a:solidFill>
              <a:srgbClr val="d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54320" y="2661480"/>
              <a:ext cx="4667400" cy="7200"/>
            </a:xfrm>
            <a:prstGeom prst="rect">
              <a:avLst/>
            </a:pr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54320" y="2669040"/>
              <a:ext cx="4667400" cy="8640"/>
            </a:xfrm>
            <a:prstGeom prst="rect">
              <a:avLst/>
            </a:pr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54320" y="2677680"/>
              <a:ext cx="4667400" cy="7560"/>
            </a:xfrm>
            <a:prstGeom prst="rect">
              <a:avLst/>
            </a:prstGeom>
            <a:solidFill>
              <a:srgbClr val="d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54320" y="2685600"/>
              <a:ext cx="4667400" cy="8640"/>
            </a:xfrm>
            <a:prstGeom prst="rect">
              <a:avLst/>
            </a:prstGeom>
            <a:solidFill>
              <a:srgbClr val="d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54320" y="2694600"/>
              <a:ext cx="4667400" cy="7200"/>
            </a:xfrm>
            <a:prstGeom prst="rect">
              <a:avLst/>
            </a:pr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54320" y="2702160"/>
              <a:ext cx="4667400" cy="7200"/>
            </a:xfrm>
            <a:prstGeom prst="rect">
              <a:avLst/>
            </a:pr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54320" y="2709720"/>
              <a:ext cx="4667400" cy="9000"/>
            </a:xfrm>
            <a:prstGeom prst="rect">
              <a:avLst/>
            </a:prstGeom>
            <a:solidFill>
              <a:srgbClr val="d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54320" y="2719080"/>
              <a:ext cx="4667400" cy="7200"/>
            </a:xfrm>
            <a:prstGeom prst="rect">
              <a:avLst/>
            </a:prstGeom>
            <a:solidFill>
              <a:srgbClr val="d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54320" y="2726640"/>
              <a:ext cx="4667400" cy="8640"/>
            </a:xfrm>
            <a:prstGeom prst="rect">
              <a:avLst/>
            </a:pr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54320" y="2735640"/>
              <a:ext cx="4667400" cy="7200"/>
            </a:xfrm>
            <a:prstGeom prst="rect">
              <a:avLst/>
            </a:pr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54320" y="2743200"/>
              <a:ext cx="4667400" cy="9000"/>
            </a:xfrm>
            <a:prstGeom prst="rect">
              <a:avLst/>
            </a:prstGeom>
            <a:solidFill>
              <a:srgbClr val="d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54320" y="2752200"/>
              <a:ext cx="4667400" cy="7200"/>
            </a:xfrm>
            <a:prstGeom prst="rect">
              <a:avLst/>
            </a:prstGeom>
            <a:solidFill>
              <a:srgbClr val="d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254320" y="2759760"/>
              <a:ext cx="4667400" cy="7200"/>
            </a:xfrm>
            <a:prstGeom prst="rect">
              <a:avLst/>
            </a:pr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54320" y="2767320"/>
              <a:ext cx="4667400" cy="8640"/>
            </a:xfrm>
            <a:prstGeom prst="rect">
              <a:avLst/>
            </a:pr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54320" y="2776320"/>
              <a:ext cx="4667400" cy="7200"/>
            </a:xfrm>
            <a:prstGeom prst="rect">
              <a:avLst/>
            </a:prstGeom>
            <a:solidFill>
              <a:srgbClr val="c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54320" y="2783880"/>
              <a:ext cx="4667400" cy="9000"/>
            </a:xfrm>
            <a:prstGeom prst="rect">
              <a:avLst/>
            </a:prstGeom>
            <a:solidFill>
              <a:srgbClr val="c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54320" y="2793240"/>
              <a:ext cx="4667400" cy="7200"/>
            </a:xfrm>
            <a:prstGeom prst="rect">
              <a:avLst/>
            </a:pr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54320" y="2800800"/>
              <a:ext cx="4667400" cy="8640"/>
            </a:xfrm>
            <a:prstGeom prst="rect">
              <a:avLst/>
            </a:pr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54320" y="2809440"/>
              <a:ext cx="4667400" cy="7200"/>
            </a:xfrm>
            <a:prstGeom prst="rect">
              <a:avLst/>
            </a:prstGeom>
            <a:solidFill>
              <a:srgbClr val="c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54320" y="2817000"/>
              <a:ext cx="4667400" cy="9000"/>
            </a:xfrm>
            <a:prstGeom prst="rect">
              <a:avLst/>
            </a:prstGeom>
            <a:solidFill>
              <a:srgbClr val="c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54320" y="2826360"/>
              <a:ext cx="4667400" cy="7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54320" y="2833920"/>
              <a:ext cx="4667400" cy="7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54320" y="2841480"/>
              <a:ext cx="4667400" cy="8640"/>
            </a:xfrm>
            <a:prstGeom prst="rect">
              <a:avLst/>
            </a:prstGeom>
            <a:solidFill>
              <a:srgbClr val="c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2850480"/>
              <a:ext cx="4667400" cy="7200"/>
            </a:xfrm>
            <a:prstGeom prst="rect">
              <a:avLst/>
            </a:prstGeom>
            <a:solidFill>
              <a:srgbClr val="c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2858040"/>
              <a:ext cx="4667400" cy="9000"/>
            </a:xfrm>
            <a:prstGeom prst="rect">
              <a:avLst/>
            </a:prstGeom>
            <a:solidFill>
              <a:srgbClr val="c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54320" y="2867400"/>
              <a:ext cx="4667400" cy="7200"/>
            </a:xfrm>
            <a:prstGeom prst="rect">
              <a:avLst/>
            </a:prstGeom>
            <a:solidFill>
              <a:srgbClr val="c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54320" y="2874600"/>
              <a:ext cx="4667400" cy="8640"/>
            </a:xfrm>
            <a:prstGeom prst="rect">
              <a:avLst/>
            </a:pr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54320" y="2883600"/>
              <a:ext cx="4667400" cy="7200"/>
            </a:xfrm>
            <a:prstGeom prst="rect">
              <a:avLst/>
            </a:pr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54320" y="2891160"/>
              <a:ext cx="4667400" cy="7200"/>
            </a:xfrm>
            <a:prstGeom prst="rect">
              <a:avLst/>
            </a:prstGeom>
            <a:solidFill>
              <a:srgbClr val="c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54320" y="2898720"/>
              <a:ext cx="4667400" cy="9000"/>
            </a:xfrm>
            <a:prstGeom prst="rect">
              <a:avLst/>
            </a:prstGeom>
            <a:solidFill>
              <a:srgbClr val="c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54320" y="2908080"/>
              <a:ext cx="4667400" cy="7200"/>
            </a:xfrm>
            <a:prstGeom prst="rect">
              <a:avLst/>
            </a:pr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54320" y="2915640"/>
              <a:ext cx="4667400" cy="8640"/>
            </a:xfrm>
            <a:prstGeom prst="rect">
              <a:avLst/>
            </a:pr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54320" y="2924640"/>
              <a:ext cx="4667400" cy="7200"/>
            </a:xfrm>
            <a:prstGeom prst="rect">
              <a:avLst/>
            </a:pr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54320" y="2932200"/>
              <a:ext cx="4667400" cy="9000"/>
            </a:xfrm>
            <a:prstGeom prst="rect">
              <a:avLst/>
            </a:pr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54320" y="2941200"/>
              <a:ext cx="4667400" cy="7200"/>
            </a:xfrm>
            <a:prstGeom prst="rect">
              <a:avLst/>
            </a:pr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54320" y="2948760"/>
              <a:ext cx="4667400" cy="8640"/>
            </a:xfrm>
            <a:prstGeom prst="rect">
              <a:avLst/>
            </a:pr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54320" y="2957760"/>
              <a:ext cx="4667400" cy="7200"/>
            </a:xfrm>
            <a:prstGeom prst="rect">
              <a:avLst/>
            </a:prstGeom>
            <a:solidFill>
              <a:srgbClr val="c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54320" y="2965320"/>
              <a:ext cx="4667400" cy="7200"/>
            </a:xfrm>
            <a:prstGeom prst="rect">
              <a:avLst/>
            </a:prstGeom>
            <a:solidFill>
              <a:srgbClr val="c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54320" y="2972880"/>
              <a:ext cx="4667400" cy="900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54320" y="2982240"/>
              <a:ext cx="4667400" cy="720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54320" y="2989800"/>
              <a:ext cx="4667400" cy="8640"/>
            </a:xfrm>
            <a:prstGeom prst="rect">
              <a:avLst/>
            </a:prstGeom>
            <a:solidFill>
              <a:srgbClr val="c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54320" y="2998800"/>
              <a:ext cx="4667400" cy="7200"/>
            </a:xfrm>
            <a:prstGeom prst="rect">
              <a:avLst/>
            </a:prstGeom>
            <a:solidFill>
              <a:srgbClr val="c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254320" y="3006360"/>
              <a:ext cx="4667400" cy="9000"/>
            </a:xfrm>
            <a:prstGeom prst="rect">
              <a:avLst/>
            </a:pr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54320" y="3015360"/>
              <a:ext cx="4667400" cy="7200"/>
            </a:xfrm>
            <a:prstGeom prst="rect">
              <a:avLst/>
            </a:pr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54320" y="3022920"/>
              <a:ext cx="4667400" cy="8640"/>
            </a:xfrm>
            <a:prstGeom prst="rect">
              <a:avLst/>
            </a:prstGeom>
            <a:solidFill>
              <a:srgbClr val="c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54320" y="3031920"/>
              <a:ext cx="4667400" cy="7200"/>
            </a:xfrm>
            <a:prstGeom prst="rect">
              <a:avLst/>
            </a:prstGeom>
            <a:solidFill>
              <a:srgbClr val="c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54320" y="3039480"/>
              <a:ext cx="4667400" cy="7200"/>
            </a:xfrm>
            <a:prstGeom prst="rect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54320" y="3047040"/>
              <a:ext cx="4667400" cy="9000"/>
            </a:xfrm>
            <a:prstGeom prst="rect">
              <a:avLst/>
            </a:prstGeom>
            <a:solidFill>
              <a:srgbClr val="b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254320" y="3056400"/>
              <a:ext cx="4667400" cy="7200"/>
            </a:xfrm>
            <a:prstGeom prst="rect">
              <a:avLst/>
            </a:prstGeom>
            <a:solidFill>
              <a:srgbClr val="b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54320" y="3063960"/>
              <a:ext cx="4667400" cy="864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54320" y="3072600"/>
              <a:ext cx="4667400" cy="72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54320" y="3080160"/>
              <a:ext cx="4667400" cy="9000"/>
            </a:xfrm>
            <a:prstGeom prst="rect">
              <a:avLst/>
            </a:pr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54320" y="3089520"/>
              <a:ext cx="4667400" cy="7200"/>
            </a:xfrm>
            <a:prstGeom prst="rect">
              <a:avLst/>
            </a:pr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254320" y="3097080"/>
              <a:ext cx="4667400" cy="7200"/>
            </a:xfrm>
            <a:prstGeom prst="rect">
              <a:avLst/>
            </a:pr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54320" y="3104640"/>
              <a:ext cx="4667400" cy="8640"/>
            </a:xfrm>
            <a:prstGeom prst="rect">
              <a:avLst/>
            </a:pr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54320" y="3113640"/>
              <a:ext cx="4667400" cy="7560"/>
            </a:xfrm>
            <a:prstGeom prst="rect">
              <a:avLst/>
            </a:prstGeom>
            <a:solidFill>
              <a:srgbClr val="b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54320" y="3121560"/>
              <a:ext cx="4667400" cy="8640"/>
            </a:xfrm>
            <a:prstGeom prst="rect">
              <a:avLst/>
            </a:prstGeom>
            <a:solidFill>
              <a:srgbClr val="b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254320" y="3130560"/>
              <a:ext cx="4667400" cy="720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254320" y="3138120"/>
              <a:ext cx="4667400" cy="9000"/>
            </a:xfrm>
            <a:prstGeom prst="rect">
              <a:avLst/>
            </a:pr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254320" y="3147120"/>
              <a:ext cx="4667400" cy="7200"/>
            </a:xfrm>
            <a:prstGeom prst="rect">
              <a:avLst/>
            </a:prstGeom>
            <a:solidFill>
              <a:srgbClr val="b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54320" y="3154680"/>
              <a:ext cx="4667400" cy="8640"/>
            </a:xfrm>
            <a:prstGeom prst="rect">
              <a:avLst/>
            </a:prstGeom>
            <a:solidFill>
              <a:srgbClr val="b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54320" y="3163680"/>
              <a:ext cx="4667400" cy="7200"/>
            </a:xfrm>
            <a:prstGeom prst="rect">
              <a:avLst/>
            </a:pr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54320" y="3171240"/>
              <a:ext cx="4667400" cy="7200"/>
            </a:xfrm>
            <a:prstGeom prst="rect">
              <a:avLst/>
            </a:pr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254320" y="3178800"/>
              <a:ext cx="4667400" cy="9000"/>
            </a:xfrm>
            <a:prstGeom prst="rect">
              <a:avLst/>
            </a:prstGeom>
            <a:solidFill>
              <a:srgbClr val="b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54320" y="3188160"/>
              <a:ext cx="4667400" cy="7200"/>
            </a:xfrm>
            <a:prstGeom prst="rect">
              <a:avLst/>
            </a:prstGeom>
            <a:solidFill>
              <a:srgbClr val="b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54320" y="3195720"/>
              <a:ext cx="4667400" cy="8640"/>
            </a:xfrm>
            <a:prstGeom prst="rect">
              <a:avLst/>
            </a:pr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54320" y="3204360"/>
              <a:ext cx="4667400" cy="7200"/>
            </a:xfrm>
            <a:prstGeom prst="rect">
              <a:avLst/>
            </a:pr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254320" y="3211920"/>
              <a:ext cx="4667400" cy="9000"/>
            </a:xfrm>
            <a:prstGeom prst="rect">
              <a:avLst/>
            </a:prstGeom>
            <a:solidFill>
              <a:srgbClr val="b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54320" y="3221280"/>
              <a:ext cx="4667400" cy="7200"/>
            </a:xfrm>
            <a:prstGeom prst="rect">
              <a:avLst/>
            </a:prstGeom>
            <a:solidFill>
              <a:srgbClr val="b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54320" y="3228840"/>
              <a:ext cx="4667400" cy="7200"/>
            </a:xfrm>
            <a:prstGeom prst="rect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54320" y="3236400"/>
              <a:ext cx="4667400" cy="8640"/>
            </a:xfrm>
            <a:prstGeom prst="rect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54320" y="3245400"/>
              <a:ext cx="4667400" cy="7200"/>
            </a:xfrm>
            <a:prstGeom prst="rect">
              <a:avLst/>
            </a:pr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54320" y="3252960"/>
              <a:ext cx="4667400" cy="9000"/>
            </a:xfrm>
            <a:prstGeom prst="rect">
              <a:avLst/>
            </a:pr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54320" y="3262320"/>
              <a:ext cx="4667400" cy="7200"/>
            </a:xfrm>
            <a:prstGeom prst="rect">
              <a:avLst/>
            </a:pr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54320" y="3269520"/>
              <a:ext cx="4667400" cy="8640"/>
            </a:xfrm>
            <a:prstGeom prst="rect">
              <a:avLst/>
            </a:pr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54320" y="3278520"/>
              <a:ext cx="4667400" cy="7200"/>
            </a:xfrm>
            <a:prstGeom prst="rect">
              <a:avLst/>
            </a:pr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54320" y="3286080"/>
              <a:ext cx="4667400" cy="9000"/>
            </a:xfrm>
            <a:prstGeom prst="rect">
              <a:avLst/>
            </a:prstGeom>
            <a:solidFill>
              <a:srgbClr val="b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54320" y="3295440"/>
              <a:ext cx="4667400" cy="7200"/>
            </a:xfrm>
            <a:prstGeom prst="rect">
              <a:avLst/>
            </a:pr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254320" y="3303000"/>
              <a:ext cx="4667400" cy="7200"/>
            </a:xfrm>
            <a:prstGeom prst="rect">
              <a:avLst/>
            </a:pr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54320" y="3310560"/>
              <a:ext cx="4667400" cy="8640"/>
            </a:xfrm>
            <a:prstGeom prst="rect">
              <a:avLst/>
            </a:prstGeom>
            <a:solidFill>
              <a:srgbClr val="a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54320" y="3319560"/>
              <a:ext cx="4667400" cy="7200"/>
            </a:xfrm>
            <a:prstGeom prst="rect">
              <a:avLst/>
            </a:prstGeom>
            <a:solidFill>
              <a:srgbClr val="a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54320" y="3327120"/>
              <a:ext cx="4667400" cy="9000"/>
            </a:xfrm>
            <a:prstGeom prst="rect">
              <a:avLst/>
            </a:pr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54320" y="3336120"/>
              <a:ext cx="4667400" cy="7200"/>
            </a:xfrm>
            <a:prstGeom prst="rect">
              <a:avLst/>
            </a:pr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54320" y="3343680"/>
              <a:ext cx="4667400" cy="8640"/>
            </a:xfrm>
            <a:prstGeom prst="rect">
              <a:avLst/>
            </a:prstGeom>
            <a:solidFill>
              <a:srgbClr val="a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54320" y="3352680"/>
              <a:ext cx="4667400" cy="7200"/>
            </a:xfrm>
            <a:prstGeom prst="rect">
              <a:avLst/>
            </a:prstGeom>
            <a:solidFill>
              <a:srgbClr val="a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54320" y="3360240"/>
              <a:ext cx="4667400" cy="7200"/>
            </a:xfrm>
            <a:prstGeom prst="rect">
              <a:avLst/>
            </a:pr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54320" y="3367800"/>
              <a:ext cx="4667400" cy="9000"/>
            </a:xfrm>
            <a:prstGeom prst="rect">
              <a:avLst/>
            </a:pr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54320" y="3377160"/>
              <a:ext cx="4667400" cy="7200"/>
            </a:xfrm>
            <a:prstGeom prst="rect">
              <a:avLst/>
            </a:prstGeom>
            <a:solidFill>
              <a:srgbClr val="a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54320" y="3384720"/>
              <a:ext cx="4667400" cy="8640"/>
            </a:xfrm>
            <a:prstGeom prst="rect">
              <a:avLst/>
            </a:prstGeom>
            <a:solidFill>
              <a:srgbClr val="a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54320" y="3393720"/>
              <a:ext cx="4667400" cy="7200"/>
            </a:xfrm>
            <a:prstGeom prst="rect">
              <a:avLst/>
            </a:pr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54320" y="3401280"/>
              <a:ext cx="4667400" cy="9000"/>
            </a:xfrm>
            <a:prstGeom prst="rect">
              <a:avLst/>
            </a:pr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54320" y="3410280"/>
              <a:ext cx="4667400" cy="7200"/>
            </a:xfrm>
            <a:prstGeom prst="rect">
              <a:avLst/>
            </a:prstGeom>
            <a:solidFill>
              <a:srgbClr val="a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254320" y="3417840"/>
              <a:ext cx="4667400" cy="8640"/>
            </a:xfrm>
            <a:prstGeom prst="rect">
              <a:avLst/>
            </a:prstGeom>
            <a:solidFill>
              <a:srgbClr val="a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54320" y="3426840"/>
              <a:ext cx="4667400" cy="7200"/>
            </a:xfrm>
            <a:prstGeom prst="rect">
              <a:avLst/>
            </a:pr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54320" y="3434400"/>
              <a:ext cx="4667400" cy="7200"/>
            </a:xfrm>
            <a:prstGeom prst="rect">
              <a:avLst/>
            </a:pr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54320" y="3441960"/>
              <a:ext cx="4667400" cy="9000"/>
            </a:xfrm>
            <a:prstGeom prst="rect">
              <a:avLst/>
            </a:prstGeom>
            <a:solidFill>
              <a:srgbClr val="a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254320" y="3451320"/>
              <a:ext cx="4667400" cy="7200"/>
            </a:xfrm>
            <a:prstGeom prst="rect">
              <a:avLst/>
            </a:prstGeom>
            <a:solidFill>
              <a:srgbClr val="a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254320" y="3458880"/>
              <a:ext cx="4667400" cy="8640"/>
            </a:xfrm>
            <a:prstGeom prst="rect">
              <a:avLst/>
            </a:pr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254320" y="3467520"/>
              <a:ext cx="4667400" cy="7200"/>
            </a:xfrm>
            <a:prstGeom prst="rect">
              <a:avLst/>
            </a:pr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54320" y="3475080"/>
              <a:ext cx="4667400" cy="9000"/>
            </a:xfrm>
            <a:prstGeom prst="rect">
              <a:avLst/>
            </a:prstGeom>
            <a:solidFill>
              <a:srgbClr val="a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254320" y="3484440"/>
              <a:ext cx="4667400" cy="7200"/>
            </a:xfrm>
            <a:prstGeom prst="rect">
              <a:avLst/>
            </a:prstGeom>
            <a:solidFill>
              <a:srgbClr val="a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54320" y="3492000"/>
              <a:ext cx="4667400" cy="7200"/>
            </a:xfrm>
            <a:prstGeom prst="rect">
              <a:avLst/>
            </a:pr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254320" y="3499560"/>
              <a:ext cx="4667400" cy="8640"/>
            </a:xfrm>
            <a:prstGeom prst="rect">
              <a:avLst/>
            </a:pr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54320" y="3508560"/>
              <a:ext cx="4667400" cy="7200"/>
            </a:xfrm>
            <a:prstGeom prst="rect">
              <a:avLst/>
            </a:prstGeom>
            <a:solidFill>
              <a:srgbClr val="a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54320" y="3516120"/>
              <a:ext cx="4667400" cy="9000"/>
            </a:xfrm>
            <a:prstGeom prst="rect">
              <a:avLst/>
            </a:prstGeom>
            <a:solidFill>
              <a:srgbClr val="a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54320" y="3525480"/>
              <a:ext cx="4667400" cy="7200"/>
            </a:xfrm>
            <a:prstGeom prst="rect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54320" y="3533040"/>
              <a:ext cx="4667400" cy="8640"/>
            </a:xfrm>
            <a:prstGeom prst="rect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4320" y="3541680"/>
              <a:ext cx="4667400" cy="7200"/>
            </a:xfrm>
            <a:prstGeom prst="rect">
              <a:avLst/>
            </a:prstGeom>
            <a:solidFill>
              <a:srgbClr val="a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254320" y="3549240"/>
              <a:ext cx="4667400" cy="9000"/>
            </a:xfrm>
            <a:prstGeom prst="rect">
              <a:avLst/>
            </a:prstGeom>
            <a:solidFill>
              <a:srgbClr val="a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54320" y="3558600"/>
              <a:ext cx="4667400" cy="7200"/>
            </a:xfrm>
            <a:prstGeom prst="rect">
              <a:avLst/>
            </a:pr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54320" y="3566160"/>
              <a:ext cx="4667400" cy="7200"/>
            </a:xfrm>
            <a:prstGeom prst="rect">
              <a:avLst/>
            </a:pr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44400" y="1657440"/>
            <a:ext cx="6636960" cy="2966040"/>
            <a:chOff x="644400" y="1657440"/>
            <a:chExt cx="6636960" cy="2966040"/>
          </a:xfrm>
        </p:grpSpPr>
        <p:sp>
          <p:nvSpPr>
            <p:cNvPr id="880" name=""/>
            <p:cNvSpPr/>
            <p:nvPr/>
          </p:nvSpPr>
          <p:spPr>
            <a:xfrm>
              <a:off x="2253960" y="3686400"/>
              <a:ext cx="4667400" cy="9720"/>
            </a:xfrm>
            <a:prstGeom prst="rect">
              <a:avLst/>
            </a:prstGeom>
            <a:solidFill>
              <a:srgbClr val="9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53960" y="3696120"/>
              <a:ext cx="4667400" cy="7920"/>
            </a:xfrm>
            <a:prstGeom prst="rect">
              <a:avLst/>
            </a:prstGeom>
            <a:solidFill>
              <a:srgbClr val="9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53960" y="3704040"/>
              <a:ext cx="4667400" cy="9360"/>
            </a:xfrm>
            <a:prstGeom prst="rect">
              <a:avLst/>
            </a:pr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53960" y="3713400"/>
              <a:ext cx="4667400" cy="7920"/>
            </a:xfrm>
            <a:prstGeom prst="rect">
              <a:avLst/>
            </a:pr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53960" y="3721320"/>
              <a:ext cx="4667400" cy="9720"/>
            </a:xfrm>
            <a:prstGeom prst="rect">
              <a:avLst/>
            </a:prstGeom>
            <a:solidFill>
              <a:srgbClr val="9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53960" y="3731040"/>
              <a:ext cx="4667400" cy="7920"/>
            </a:xfrm>
            <a:prstGeom prst="rect">
              <a:avLst/>
            </a:prstGeom>
            <a:solidFill>
              <a:srgbClr val="9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53960" y="3738960"/>
              <a:ext cx="4667400" cy="9360"/>
            </a:xfrm>
            <a:prstGeom prst="rect">
              <a:avLst/>
            </a:prstGeom>
            <a:solidFill>
              <a:srgbClr val="9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53960" y="3748320"/>
              <a:ext cx="4667400" cy="7920"/>
            </a:xfrm>
            <a:prstGeom prst="rect">
              <a:avLst/>
            </a:prstGeom>
            <a:solidFill>
              <a:srgbClr val="9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53960" y="3756240"/>
              <a:ext cx="4667400" cy="7920"/>
            </a:xfrm>
            <a:prstGeom prst="rect">
              <a:avLst/>
            </a:prstGeom>
            <a:solidFill>
              <a:srgbClr val="9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253960" y="3764160"/>
              <a:ext cx="4667400" cy="9720"/>
            </a:xfrm>
            <a:prstGeom prst="rect">
              <a:avLst/>
            </a:prstGeom>
            <a:solidFill>
              <a:srgbClr val="9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53960" y="3773880"/>
              <a:ext cx="4667400" cy="79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53960" y="3781800"/>
              <a:ext cx="4667400" cy="936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53960" y="3791160"/>
              <a:ext cx="4667400" cy="7920"/>
            </a:xfrm>
            <a:prstGeom prst="rect">
              <a:avLst/>
            </a:prstGeom>
            <a:solidFill>
              <a:srgbClr val="9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53960" y="3799080"/>
              <a:ext cx="4667400" cy="9720"/>
            </a:xfrm>
            <a:prstGeom prst="rect">
              <a:avLst/>
            </a:prstGeom>
            <a:solidFill>
              <a:srgbClr val="9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253960" y="3808800"/>
              <a:ext cx="4667400" cy="7920"/>
            </a:xfrm>
            <a:prstGeom prst="rect">
              <a:avLst/>
            </a:prstGeom>
            <a:solidFill>
              <a:srgbClr val="9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53960" y="3816720"/>
              <a:ext cx="4667400" cy="7920"/>
            </a:xfrm>
            <a:prstGeom prst="rect">
              <a:avLst/>
            </a:prstGeom>
            <a:solidFill>
              <a:srgbClr val="9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253960" y="3824640"/>
              <a:ext cx="4667400" cy="9360"/>
            </a:xfrm>
            <a:prstGeom prst="rect">
              <a:avLst/>
            </a:prstGeom>
            <a:solidFill>
              <a:srgbClr val="9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253960" y="3834000"/>
              <a:ext cx="4667400" cy="7920"/>
            </a:xfrm>
            <a:prstGeom prst="rect">
              <a:avLst/>
            </a:prstGeom>
            <a:solidFill>
              <a:srgbClr val="9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53960" y="3841920"/>
              <a:ext cx="4667400" cy="9720"/>
            </a:xfrm>
            <a:prstGeom prst="rect">
              <a:avLst/>
            </a:prstGeom>
            <a:solidFill>
              <a:srgbClr val="9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53960" y="3851640"/>
              <a:ext cx="4667400" cy="7920"/>
            </a:xfrm>
            <a:prstGeom prst="rect">
              <a:avLst/>
            </a:prstGeom>
            <a:solidFill>
              <a:srgbClr val="9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253960" y="3859560"/>
              <a:ext cx="4667400" cy="9360"/>
            </a:xfrm>
            <a:prstGeom prst="rect">
              <a:avLst/>
            </a:prstGeom>
            <a:solidFill>
              <a:srgbClr val="9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53960" y="3868920"/>
              <a:ext cx="4667400" cy="7920"/>
            </a:xfrm>
            <a:prstGeom prst="rect">
              <a:avLst/>
            </a:prstGeom>
            <a:solidFill>
              <a:srgbClr val="9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53960" y="3876840"/>
              <a:ext cx="4667400" cy="9720"/>
            </a:xfrm>
            <a:prstGeom prst="rect">
              <a:avLst/>
            </a:prstGeom>
            <a:solidFill>
              <a:srgbClr val="9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253960" y="3886560"/>
              <a:ext cx="4667400" cy="7920"/>
            </a:xfrm>
            <a:prstGeom prst="rect">
              <a:avLst/>
            </a:prstGeom>
            <a:solidFill>
              <a:srgbClr val="9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53960" y="3894480"/>
              <a:ext cx="4667400" cy="7920"/>
            </a:xfrm>
            <a:prstGeom prst="rect">
              <a:avLst/>
            </a:prstGeom>
            <a:solidFill>
              <a:srgbClr val="9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253960" y="3902400"/>
              <a:ext cx="4667400" cy="9360"/>
            </a:xfrm>
            <a:prstGeom prst="rect">
              <a:avLst/>
            </a:prstGeom>
            <a:solidFill>
              <a:srgbClr val="9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53960" y="3911760"/>
              <a:ext cx="4667400" cy="7920"/>
            </a:xfrm>
            <a:prstGeom prst="rect">
              <a:avLst/>
            </a:prstGeom>
            <a:solidFill>
              <a:srgbClr val="9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53960" y="3919680"/>
              <a:ext cx="4667400" cy="9720"/>
            </a:xfrm>
            <a:prstGeom prst="rect">
              <a:avLst/>
            </a:prstGeom>
            <a:solidFill>
              <a:srgbClr val="9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253960" y="3929400"/>
              <a:ext cx="4667400" cy="7920"/>
            </a:xfrm>
            <a:prstGeom prst="rect">
              <a:avLst/>
            </a:prstGeom>
            <a:solidFill>
              <a:srgbClr val="9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253960" y="3937320"/>
              <a:ext cx="4667400" cy="9360"/>
            </a:xfrm>
            <a:prstGeom prst="rect">
              <a:avLst/>
            </a:prstGeom>
            <a:solidFill>
              <a:srgbClr val="9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253960" y="3946680"/>
              <a:ext cx="4667400" cy="7920"/>
            </a:xfrm>
            <a:prstGeom prst="rect">
              <a:avLst/>
            </a:prstGeom>
            <a:solidFill>
              <a:srgbClr val="8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253960" y="3954600"/>
              <a:ext cx="4667400" cy="7920"/>
            </a:xfrm>
            <a:prstGeom prst="rect">
              <a:avLst/>
            </a:prstGeom>
            <a:solidFill>
              <a:srgbClr val="8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253960" y="3962520"/>
              <a:ext cx="4667400" cy="9720"/>
            </a:xfrm>
            <a:prstGeom prst="rect">
              <a:avLst/>
            </a:prstGeom>
            <a:solidFill>
              <a:srgbClr val="8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253960" y="3972240"/>
              <a:ext cx="4667400" cy="7920"/>
            </a:xfrm>
            <a:prstGeom prst="rect">
              <a:avLst/>
            </a:prstGeom>
            <a:solidFill>
              <a:srgbClr val="8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253960" y="3980160"/>
              <a:ext cx="4667400" cy="9360"/>
            </a:xfrm>
            <a:prstGeom prst="rect">
              <a:avLst/>
            </a:prstGeom>
            <a:solidFill>
              <a:srgbClr val="8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53960" y="3989520"/>
              <a:ext cx="4667400" cy="7920"/>
            </a:xfrm>
            <a:prstGeom prst="rect">
              <a:avLst/>
            </a:prstGeom>
            <a:solidFill>
              <a:srgbClr val="8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253960" y="3997440"/>
              <a:ext cx="4667400" cy="9720"/>
            </a:xfrm>
            <a:prstGeom prst="rect">
              <a:avLst/>
            </a:prstGeom>
            <a:solidFill>
              <a:srgbClr val="8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253960" y="4007160"/>
              <a:ext cx="4667400" cy="7920"/>
            </a:xfrm>
            <a:prstGeom prst="rect">
              <a:avLst/>
            </a:prstGeom>
            <a:solidFill>
              <a:srgbClr val="8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253960" y="4015080"/>
              <a:ext cx="4667400" cy="9360"/>
            </a:xfrm>
            <a:prstGeom prst="rect">
              <a:avLst/>
            </a:prstGeom>
            <a:solidFill>
              <a:srgbClr val="8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53960" y="4024440"/>
              <a:ext cx="4667400" cy="7920"/>
            </a:xfrm>
            <a:prstGeom prst="rect">
              <a:avLst/>
            </a:prstGeom>
            <a:solidFill>
              <a:srgbClr val="8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53960" y="4032360"/>
              <a:ext cx="4667400" cy="7920"/>
            </a:xfrm>
            <a:prstGeom prst="rect">
              <a:avLst/>
            </a:prstGeom>
            <a:solidFill>
              <a:srgbClr val="8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53960" y="4040280"/>
              <a:ext cx="4667400" cy="9720"/>
            </a:xfrm>
            <a:prstGeom prst="rect">
              <a:avLst/>
            </a:prstGeom>
            <a:solidFill>
              <a:srgbClr val="8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53960" y="4050000"/>
              <a:ext cx="4667400" cy="7920"/>
            </a:xfrm>
            <a:prstGeom prst="rect">
              <a:avLst/>
            </a:prstGeom>
            <a:solidFill>
              <a:srgbClr val="8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53960" y="4057920"/>
              <a:ext cx="4667400" cy="9360"/>
            </a:xfrm>
            <a:prstGeom prst="rect">
              <a:avLst/>
            </a:prstGeom>
            <a:solidFill>
              <a:srgbClr val="8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53960" y="4067280"/>
              <a:ext cx="4667400" cy="7920"/>
            </a:xfrm>
            <a:prstGeom prst="rect">
              <a:avLst/>
            </a:prstGeom>
            <a:solidFill>
              <a:srgbClr val="8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53960" y="4075200"/>
              <a:ext cx="4667400" cy="9720"/>
            </a:xfrm>
            <a:prstGeom prst="rect">
              <a:avLst/>
            </a:prstGeom>
            <a:solidFill>
              <a:srgbClr val="8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53960" y="4084920"/>
              <a:ext cx="4667400" cy="7920"/>
            </a:xfrm>
            <a:prstGeom prst="rect">
              <a:avLst/>
            </a:prstGeom>
            <a:solidFill>
              <a:srgbClr val="8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53960" y="4092840"/>
              <a:ext cx="4667400" cy="7920"/>
            </a:xfrm>
            <a:prstGeom prst="rect">
              <a:avLst/>
            </a:prstGeom>
            <a:solidFill>
              <a:srgbClr val="8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253960" y="4100760"/>
              <a:ext cx="4667400" cy="9360"/>
            </a:xfrm>
            <a:prstGeom prst="rect">
              <a:avLst/>
            </a:prstGeom>
            <a:solidFill>
              <a:srgbClr val="8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53960" y="4110120"/>
              <a:ext cx="4667400" cy="7920"/>
            </a:xfrm>
            <a:prstGeom prst="rect">
              <a:avLst/>
            </a:prstGeom>
            <a:solidFill>
              <a:srgbClr val="8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53960" y="4118040"/>
              <a:ext cx="4667400" cy="9720"/>
            </a:xfrm>
            <a:prstGeom prst="rect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53960" y="4127760"/>
              <a:ext cx="4667400" cy="7920"/>
            </a:xfrm>
            <a:prstGeom prst="rect">
              <a:avLst/>
            </a:prstGeom>
            <a:solidFill>
              <a:srgbClr val="8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53960" y="4135680"/>
              <a:ext cx="4667400" cy="9360"/>
            </a:xfrm>
            <a:prstGeom prst="rect">
              <a:avLst/>
            </a:prstGeom>
            <a:solidFill>
              <a:srgbClr val="8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253960" y="4145040"/>
              <a:ext cx="4667400" cy="8280"/>
            </a:xfrm>
            <a:prstGeom prst="rect">
              <a:avLst/>
            </a:prstGeom>
            <a:solidFill>
              <a:srgbClr val="8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53960" y="4153320"/>
              <a:ext cx="4667400" cy="9360"/>
            </a:xfrm>
            <a:prstGeom prst="rect">
              <a:avLst/>
            </a:prstGeom>
            <a:solidFill>
              <a:srgbClr val="8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253960" y="4162680"/>
              <a:ext cx="4667400" cy="7920"/>
            </a:xfrm>
            <a:prstGeom prst="rect">
              <a:avLst/>
            </a:prstGeom>
            <a:solidFill>
              <a:srgbClr val="8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253960" y="4170600"/>
              <a:ext cx="4667400" cy="7920"/>
            </a:xfrm>
            <a:prstGeom prst="rect">
              <a:avLst/>
            </a:prstGeom>
            <a:solidFill>
              <a:srgbClr val="8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253960" y="4178520"/>
              <a:ext cx="4667400" cy="9720"/>
            </a:xfrm>
            <a:prstGeom prst="rect">
              <a:avLst/>
            </a:prstGeom>
            <a:solidFill>
              <a:srgbClr val="8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53960" y="4188240"/>
              <a:ext cx="4667400" cy="7920"/>
            </a:xfrm>
            <a:prstGeom prst="rect">
              <a:avLst/>
            </a:prstGeom>
            <a:solidFill>
              <a:srgbClr val="8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53960" y="4196160"/>
              <a:ext cx="4667400" cy="9360"/>
            </a:xfrm>
            <a:prstGeom prst="rect">
              <a:avLst/>
            </a:prstGeom>
            <a:solidFill>
              <a:srgbClr val="8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53960" y="4205520"/>
              <a:ext cx="4667400" cy="792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244600" y="4213440"/>
              <a:ext cx="4676760" cy="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91160" y="4273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114720" y="4273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337200" y="4273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59320" y="4273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83240" y="4273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05360" y="4273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27840" y="4273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49960" y="4273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673880" y="4273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876200" y="427392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098680" y="427392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22600" y="427392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44720" y="427392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66840" y="427392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89320" y="427392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212880" y="427392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35360" y="427392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57480" y="427392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24460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4460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97520" y="4394520"/>
              <a:ext cx="11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J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08680" y="4516560"/>
              <a:ext cx="9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'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66720" y="4213440"/>
              <a:ext cx="180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66720" y="42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15680" y="439452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Fe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8920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8920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737440" y="4394520"/>
              <a:ext cx="12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M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911320" y="4213440"/>
              <a:ext cx="180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911320" y="42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67120" y="439452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Ap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3524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13524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77360" y="4394520"/>
              <a:ext cx="137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M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57360" y="4213440"/>
              <a:ext cx="180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57360" y="42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10280" y="4394520"/>
              <a:ext cx="11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Ju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7984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57984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43920" y="4394520"/>
              <a:ext cx="9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Ju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03400" y="4213440"/>
              <a:ext cx="180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03400" y="42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50200" y="43945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Au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2588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2588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72320" y="43945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Sep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4800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4800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2360" y="439452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Oc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70120" y="4213440"/>
              <a:ext cx="180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70120" y="42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518360" y="43945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No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694040" y="4213440"/>
              <a:ext cx="180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94040" y="42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40840" y="43945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De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91652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91652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969080" y="4394520"/>
              <a:ext cx="11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J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80600" y="4516560"/>
              <a:ext cx="9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'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13864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3864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87600" y="439452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Fe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6256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6256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10800" y="4394520"/>
              <a:ext cx="12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M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58468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8468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39040" y="439452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Ap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06800" y="4213440"/>
              <a:ext cx="180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06800" y="42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49280" y="4394520"/>
              <a:ext cx="137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M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02928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2928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83640" y="4394520"/>
              <a:ext cx="11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Ju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5320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25320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17280" y="4394520"/>
              <a:ext cx="9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Ju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532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47532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21760" y="43945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Au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97440" y="4213440"/>
              <a:ext cx="180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97440" y="42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4240" y="43945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Sep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921360" y="4213440"/>
              <a:ext cx="1440" cy="6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921360" y="421344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21360" y="4213440"/>
              <a:ext cx="39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95520" y="41533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21360" y="3773880"/>
              <a:ext cx="39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995520" y="37134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21360" y="3341880"/>
              <a:ext cx="3960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995520" y="32817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921360" y="2902320"/>
              <a:ext cx="39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995520" y="28404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21360" y="2470320"/>
              <a:ext cx="3960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995520" y="2410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921360" y="2028960"/>
              <a:ext cx="3960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6600" y="196884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5400000">
              <a:off x="6810840" y="3188880"/>
              <a:ext cx="81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vg Staff (peopl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44600" y="4213440"/>
              <a:ext cx="46767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244600" y="3773880"/>
              <a:ext cx="46767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244600" y="3341880"/>
              <a:ext cx="4676760" cy="180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44600" y="2902320"/>
              <a:ext cx="46767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44600" y="2470320"/>
              <a:ext cx="4676760" cy="180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44600" y="2028960"/>
              <a:ext cx="4676760" cy="180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3398760" y="2028960"/>
              <a:ext cx="1440" cy="218448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4025880" y="2028960"/>
              <a:ext cx="1440" cy="218448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4744800" y="2028960"/>
              <a:ext cx="1800" cy="218448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462640" y="2028960"/>
              <a:ext cx="1440" cy="218448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5929200" y="2028960"/>
              <a:ext cx="1440" cy="218448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6403680" y="2028960"/>
              <a:ext cx="1800" cy="218448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08680" y="2028960"/>
              <a:ext cx="1440" cy="218448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6910200" y="2028960"/>
              <a:ext cx="1800" cy="218448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892560" y="194184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90680" y="194184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86040" y="194184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911200" y="194184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44640" y="194184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727160" y="194184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007880" y="194184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80760" y="194184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89200" y="3359520"/>
              <a:ext cx="1792080" cy="853920"/>
            </a:xfrm>
            <a:custGeom>
              <a:avLst/>
              <a:gdLst/>
              <a:ahLst/>
              <a:rect l="l" t="t" r="r" b="b"/>
              <a:pathLst>
                <a:path w="177" h="99">
                  <a:moveTo>
                    <a:pt x="0" y="99"/>
                  </a:moveTo>
                  <a:lnTo>
                    <a:pt x="0" y="99"/>
                  </a:lnTo>
                  <a:lnTo>
                    <a:pt x="0" y="76"/>
                  </a:lnTo>
                  <a:lnTo>
                    <a:pt x="22" y="76"/>
                  </a:lnTo>
                  <a:lnTo>
                    <a:pt x="22" y="34"/>
                  </a:lnTo>
                  <a:lnTo>
                    <a:pt x="44" y="34"/>
                  </a:lnTo>
                  <a:lnTo>
                    <a:pt x="44" y="8"/>
                  </a:lnTo>
                  <a:lnTo>
                    <a:pt x="66" y="8"/>
                  </a:lnTo>
                  <a:lnTo>
                    <a:pt x="66" y="0"/>
                  </a:lnTo>
                  <a:lnTo>
                    <a:pt x="88" y="0"/>
                  </a:lnTo>
                  <a:lnTo>
                    <a:pt x="88" y="7"/>
                  </a:lnTo>
                  <a:lnTo>
                    <a:pt x="110" y="7"/>
                  </a:lnTo>
                  <a:lnTo>
                    <a:pt x="110" y="25"/>
                  </a:lnTo>
                  <a:lnTo>
                    <a:pt x="132" y="25"/>
                  </a:lnTo>
                  <a:lnTo>
                    <a:pt x="132" y="46"/>
                  </a:lnTo>
                  <a:lnTo>
                    <a:pt x="154" y="46"/>
                  </a:lnTo>
                  <a:lnTo>
                    <a:pt x="154" y="65"/>
                  </a:lnTo>
                  <a:lnTo>
                    <a:pt x="176" y="65"/>
                  </a:lnTo>
                  <a:lnTo>
                    <a:pt x="176" y="73"/>
                  </a:lnTo>
                  <a:lnTo>
                    <a:pt x="177" y="73"/>
                  </a:lnTo>
                  <a:lnTo>
                    <a:pt x="177" y="99"/>
                  </a:lnTo>
                </a:path>
              </a:pathLst>
            </a:custGeom>
            <a:noFill/>
            <a:ln w="20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70120" y="2426040"/>
              <a:ext cx="3340080" cy="1787400"/>
            </a:xfrm>
            <a:custGeom>
              <a:avLst/>
              <a:gdLst/>
              <a:ahLst/>
              <a:rect l="l" t="t" r="r" b="b"/>
              <a:pathLst>
                <a:path w="330" h="207">
                  <a:moveTo>
                    <a:pt x="0" y="207"/>
                  </a:moveTo>
                  <a:lnTo>
                    <a:pt x="0" y="207"/>
                  </a:lnTo>
                  <a:lnTo>
                    <a:pt x="0" y="207"/>
                  </a:lnTo>
                  <a:lnTo>
                    <a:pt x="1" y="207"/>
                  </a:lnTo>
                  <a:lnTo>
                    <a:pt x="1" y="192"/>
                  </a:lnTo>
                  <a:lnTo>
                    <a:pt x="23" y="192"/>
                  </a:lnTo>
                  <a:lnTo>
                    <a:pt x="23" y="164"/>
                  </a:lnTo>
                  <a:lnTo>
                    <a:pt x="45" y="164"/>
                  </a:lnTo>
                  <a:lnTo>
                    <a:pt x="45" y="136"/>
                  </a:lnTo>
                  <a:lnTo>
                    <a:pt x="67" y="136"/>
                  </a:lnTo>
                  <a:lnTo>
                    <a:pt x="67" y="111"/>
                  </a:lnTo>
                  <a:lnTo>
                    <a:pt x="89" y="111"/>
                  </a:lnTo>
                  <a:lnTo>
                    <a:pt x="89" y="87"/>
                  </a:lnTo>
                  <a:lnTo>
                    <a:pt x="111" y="87"/>
                  </a:lnTo>
                  <a:lnTo>
                    <a:pt x="111" y="65"/>
                  </a:lnTo>
                  <a:lnTo>
                    <a:pt x="133" y="65"/>
                  </a:lnTo>
                  <a:lnTo>
                    <a:pt x="133" y="46"/>
                  </a:lnTo>
                  <a:lnTo>
                    <a:pt x="155" y="46"/>
                  </a:lnTo>
                  <a:lnTo>
                    <a:pt x="155" y="31"/>
                  </a:lnTo>
                  <a:lnTo>
                    <a:pt x="178" y="31"/>
                  </a:lnTo>
                  <a:lnTo>
                    <a:pt x="177" y="18"/>
                  </a:lnTo>
                  <a:lnTo>
                    <a:pt x="199" y="18"/>
                  </a:lnTo>
                  <a:lnTo>
                    <a:pt x="199" y="9"/>
                  </a:lnTo>
                  <a:lnTo>
                    <a:pt x="221" y="9"/>
                  </a:lnTo>
                  <a:lnTo>
                    <a:pt x="221" y="3"/>
                  </a:lnTo>
                  <a:lnTo>
                    <a:pt x="243" y="3"/>
                  </a:lnTo>
                  <a:lnTo>
                    <a:pt x="243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87" y="0"/>
                  </a:lnTo>
                  <a:lnTo>
                    <a:pt x="287" y="3"/>
                  </a:lnTo>
                  <a:lnTo>
                    <a:pt x="309" y="3"/>
                  </a:lnTo>
                  <a:lnTo>
                    <a:pt x="309" y="8"/>
                  </a:lnTo>
                  <a:lnTo>
                    <a:pt x="330" y="8"/>
                  </a:lnTo>
                  <a:lnTo>
                    <a:pt x="330" y="207"/>
                  </a:lnTo>
                </a:path>
              </a:pathLst>
            </a:custGeom>
            <a:noFill/>
            <a:ln w="20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49280" y="2034000"/>
              <a:ext cx="4667400" cy="217476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4400" y="1667160"/>
              <a:ext cx="92160" cy="93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26560" y="1657440"/>
              <a:ext cx="15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R&amp;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4400" y="1797120"/>
              <a:ext cx="92160" cy="93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25480" y="1787760"/>
              <a:ext cx="14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Arial Narrow"/>
                </a:rPr>
                <a:t>C&amp;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4880" y="2184480"/>
              <a:ext cx="365040" cy="13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4920" y="2149560"/>
              <a:ext cx="414360" cy="140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64920" y="2149560"/>
              <a:ext cx="405000" cy="1398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62120" y="2184480"/>
              <a:ext cx="30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Mileston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52040" y="2297520"/>
              <a:ext cx="24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0 - CS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52040" y="2410200"/>
              <a:ext cx="24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1 - SR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7800" y="2521080"/>
              <a:ext cx="27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2 - HL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8160" y="2633760"/>
              <a:ext cx="26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3 - LL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800" y="2746440"/>
              <a:ext cx="23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4 - C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1960" y="2857680"/>
              <a:ext cx="169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5 - 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50960" y="2970360"/>
              <a:ext cx="23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 </a:t>
              </a:r>
              <a:r>
                <a:rPr b="0" lang="en-US" sz="600" spc="-1" strike="noStrike">
                  <a:solidFill>
                    <a:srgbClr val="000080"/>
                  </a:solidFill>
                  <a:latin typeface="Arial Narrow"/>
                </a:rPr>
                <a:t>6 - ST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750960" y="3083040"/>
            <a:ext cx="23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7 - U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8800" y="3193920"/>
            <a:ext cx="237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8 - FC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50240" y="3306600"/>
            <a:ext cx="22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9 - 99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2120" y="3419640"/>
            <a:ext cx="310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10 - 99.9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04880" y="2184480"/>
            <a:ext cx="365040" cy="136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5280" y="2149560"/>
            <a:ext cx="414360" cy="14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65280" y="2149560"/>
            <a:ext cx="404640" cy="1398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218448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52040" y="2297160"/>
            <a:ext cx="24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0 - CS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52040" y="2409840"/>
            <a:ext cx="24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1 - SR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7800" y="2521080"/>
            <a:ext cx="279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2 - HLD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58160" y="2633760"/>
            <a:ext cx="269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3 - LLD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8800" y="2746440"/>
            <a:ext cx="237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4 - C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41960" y="2857680"/>
            <a:ext cx="169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5 - I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0960" y="2970360"/>
            <a:ext cx="23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6 - ST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0960" y="3083040"/>
            <a:ext cx="23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7 - U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48800" y="3193920"/>
            <a:ext cx="237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8 - FC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50240" y="3306600"/>
            <a:ext cx="22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9 - 99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62120" y="3419640"/>
            <a:ext cx="310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10 - 99.9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35040" y="4991040"/>
            <a:ext cx="3835440" cy="1424160"/>
          </a:xfrm>
          <a:prstGeom prst="roundRect">
            <a:avLst>
              <a:gd name="adj" fmla="val 303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98320" y="4960800"/>
            <a:ext cx="3827520" cy="1414440"/>
          </a:xfrm>
          <a:prstGeom prst="roundRect">
            <a:avLst>
              <a:gd name="adj" fmla="val 3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790280" y="5051520"/>
            <a:ext cx="146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OLUTION PANEL  &lt;XP Rel. 3.2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150920" y="5318280"/>
            <a:ext cx="60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277640" y="532764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u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342440" y="5465880"/>
            <a:ext cx="22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357920" y="560376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238040" y="5742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ak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323360" y="5880240"/>
            <a:ext cx="26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TT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4160" y="601812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tart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11760" y="518940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&amp;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79560" y="5318280"/>
            <a:ext cx="60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91600" y="53276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130480" y="546588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078640" y="5603760"/>
            <a:ext cx="20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4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117520" y="574200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8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02400" y="58802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-0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975320" y="60181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6/30/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712240" y="51894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Life Cy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608200" y="5318280"/>
            <a:ext cx="60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820240" y="53276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9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33200" y="5465880"/>
            <a:ext cx="15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07280" y="5603760"/>
            <a:ext cx="20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85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846160" y="574200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8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31040" y="58802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-0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729520" y="601812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3/1/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336840" y="5318280"/>
            <a:ext cx="50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437280" y="532764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ont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20440" y="54658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89840" y="560376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$ (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450240" y="574200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483720" y="588024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65440" y="6018120"/>
            <a:ext cx="50760" cy="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83360" y="6156360"/>
            <a:ext cx="163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I=14.8    MBI=1.3     Eff SLOC=762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150920" y="6156360"/>
            <a:ext cx="269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54520" y="4991040"/>
            <a:ext cx="3836880" cy="1424160"/>
          </a:xfrm>
          <a:prstGeom prst="roundRect">
            <a:avLst>
              <a:gd name="adj" fmla="val 303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718160" y="4960800"/>
            <a:ext cx="3827520" cy="1414440"/>
          </a:xfrm>
          <a:prstGeom prst="roundRect">
            <a:avLst>
              <a:gd name="adj" fmla="val 3032"/>
            </a:avLst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194440" y="5332320"/>
            <a:ext cx="2885760" cy="819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0560" y="5335560"/>
            <a:ext cx="28846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00560" y="5345280"/>
            <a:ext cx="2884680" cy="7920"/>
          </a:xfrm>
          <a:prstGeom prst="rect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200560" y="5353200"/>
            <a:ext cx="2884680" cy="9360"/>
          </a:xfrm>
          <a:prstGeom prst="rect">
            <a:avLst/>
          </a:prstGeom>
          <a:solidFill>
            <a:srgbClr val="f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200560" y="5362560"/>
            <a:ext cx="2884680" cy="7920"/>
          </a:xfrm>
          <a:prstGeom prst="rect">
            <a:avLst/>
          </a:prstGeom>
          <a:solidFill>
            <a:srgbClr val="f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200560" y="5370480"/>
            <a:ext cx="2884680" cy="7920"/>
          </a:xfrm>
          <a:prstGeom prst="rect">
            <a:avLst/>
          </a:prstGeom>
          <a:solidFill>
            <a:srgbClr val="f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00560" y="5378400"/>
            <a:ext cx="2884680" cy="9720"/>
          </a:xfrm>
          <a:prstGeom prst="rect">
            <a:avLst/>
          </a:prstGeom>
          <a:solidFill>
            <a:srgbClr val="f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200560" y="5388120"/>
            <a:ext cx="2884680" cy="7920"/>
          </a:xfrm>
          <a:prstGeom prst="rect">
            <a:avLst/>
          </a:prstGeom>
          <a:solidFill>
            <a:srgbClr val="f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200560" y="5396040"/>
            <a:ext cx="2884680" cy="9360"/>
          </a:xfrm>
          <a:prstGeom prst="rect">
            <a:avLst/>
          </a:prstGeom>
          <a:solidFill>
            <a:srgbClr val="f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00560" y="5405400"/>
            <a:ext cx="2884680" cy="7920"/>
          </a:xfrm>
          <a:prstGeom prst="rect">
            <a:avLst/>
          </a:prstGeom>
          <a:solidFill>
            <a:srgbClr val="f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200560" y="5413320"/>
            <a:ext cx="2884680" cy="9720"/>
          </a:xfrm>
          <a:prstGeom prst="rect">
            <a:avLst/>
          </a:prstGeom>
          <a:solidFill>
            <a:srgbClr val="f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200560" y="5423040"/>
            <a:ext cx="2884680" cy="7920"/>
          </a:xfrm>
          <a:prstGeom prst="rect">
            <a:avLst/>
          </a:prstGeom>
          <a:solidFill>
            <a:srgbClr val="f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200560" y="5430960"/>
            <a:ext cx="2884680" cy="7920"/>
          </a:xfrm>
          <a:prstGeom prst="rect">
            <a:avLst/>
          </a:prstGeom>
          <a:solidFill>
            <a:srgbClr val="f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200560" y="5438880"/>
            <a:ext cx="2884680" cy="9360"/>
          </a:xfrm>
          <a:prstGeom prst="rect">
            <a:avLst/>
          </a:prstGeom>
          <a:solidFill>
            <a:srgbClr val="e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00560" y="5448240"/>
            <a:ext cx="2884680" cy="7920"/>
          </a:xfrm>
          <a:prstGeom prst="rect">
            <a:avLst/>
          </a:prstGeom>
          <a:solidFill>
            <a:srgbClr val="e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00560" y="5456160"/>
            <a:ext cx="2884680" cy="9720"/>
          </a:xfrm>
          <a:prstGeom prst="rect">
            <a:avLst/>
          </a:prstGeom>
          <a:solidFill>
            <a:srgbClr val="e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200560" y="5465880"/>
            <a:ext cx="2884680" cy="7920"/>
          </a:xfrm>
          <a:prstGeom prst="rect">
            <a:avLst/>
          </a:prstGeom>
          <a:solidFill>
            <a:srgbClr val="e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200560" y="5473800"/>
            <a:ext cx="2884680" cy="9360"/>
          </a:xfrm>
          <a:prstGeom prst="rect">
            <a:avLst/>
          </a:prstGeom>
          <a:solidFill>
            <a:srgbClr val="e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200560" y="5483160"/>
            <a:ext cx="2884680" cy="7920"/>
          </a:xfrm>
          <a:prstGeom prst="rect">
            <a:avLst/>
          </a:prstGeom>
          <a:solidFill>
            <a:srgbClr val="e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00560" y="5491080"/>
            <a:ext cx="2884680" cy="9720"/>
          </a:xfrm>
          <a:prstGeom prst="rect">
            <a:avLst/>
          </a:prstGeom>
          <a:solidFill>
            <a:srgbClr val="e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200560" y="5500800"/>
            <a:ext cx="2884680" cy="792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200560" y="5508720"/>
            <a:ext cx="2884680" cy="7920"/>
          </a:xfrm>
          <a:prstGeom prst="rect">
            <a:avLst/>
          </a:prstGeom>
          <a:solidFill>
            <a:srgbClr val="e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200560" y="5516640"/>
            <a:ext cx="2884680" cy="9360"/>
          </a:xfrm>
          <a:prstGeom prst="rect">
            <a:avLst/>
          </a:prstGeom>
          <a:solidFill>
            <a:srgbClr val="e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200560" y="5526000"/>
            <a:ext cx="2884680" cy="7920"/>
          </a:xfrm>
          <a:prstGeom prst="rect">
            <a:avLst/>
          </a:prstGeom>
          <a:solidFill>
            <a:srgbClr val="e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200560" y="5533920"/>
            <a:ext cx="2884680" cy="972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200560" y="5543640"/>
            <a:ext cx="2884680" cy="7920"/>
          </a:xfrm>
          <a:prstGeom prst="rect">
            <a:avLst/>
          </a:prstGeom>
          <a:solidFill>
            <a:srgbClr val="d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00560" y="5551560"/>
            <a:ext cx="2884680" cy="9360"/>
          </a:xfrm>
          <a:prstGeom prst="rect">
            <a:avLst/>
          </a:prstGeom>
          <a:solidFill>
            <a:srgbClr val="d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200560" y="5560920"/>
            <a:ext cx="2884680" cy="7920"/>
          </a:xfrm>
          <a:prstGeom prst="rect">
            <a:avLst/>
          </a:prstGeom>
          <a:solidFill>
            <a:srgbClr val="d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0560" y="5568840"/>
            <a:ext cx="2884680" cy="7920"/>
          </a:xfrm>
          <a:prstGeom prst="rect">
            <a:avLst/>
          </a:prstGeom>
          <a:solidFill>
            <a:srgbClr val="d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200560" y="5576760"/>
            <a:ext cx="2884680" cy="972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200560" y="5586480"/>
            <a:ext cx="2884680" cy="7920"/>
          </a:xfrm>
          <a:prstGeom prst="rect">
            <a:avLst/>
          </a:prstGeom>
          <a:solidFill>
            <a:srgbClr val="d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200560" y="5594400"/>
            <a:ext cx="2884680" cy="9360"/>
          </a:xfrm>
          <a:prstGeom prst="rect">
            <a:avLst/>
          </a:prstGeom>
          <a:solidFill>
            <a:srgbClr val="d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200560" y="5603760"/>
            <a:ext cx="2884680" cy="7920"/>
          </a:xfrm>
          <a:prstGeom prst="rect">
            <a:avLst/>
          </a:prstGeom>
          <a:solidFill>
            <a:srgbClr val="d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200560" y="5611680"/>
            <a:ext cx="2884680" cy="9720"/>
          </a:xfrm>
          <a:prstGeom prst="rect">
            <a:avLst/>
          </a:prstGeom>
          <a:solidFill>
            <a:srgbClr val="d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200560" y="5621400"/>
            <a:ext cx="2884680" cy="7920"/>
          </a:xfrm>
          <a:prstGeom prst="rect">
            <a:avLst/>
          </a:prstGeom>
          <a:solidFill>
            <a:srgbClr val="d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200560" y="5629320"/>
            <a:ext cx="2884680" cy="9360"/>
          </a:xfrm>
          <a:prstGeom prst="rect">
            <a:avLst/>
          </a:prstGeom>
          <a:solidFill>
            <a:srgbClr val="d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00560" y="5638680"/>
            <a:ext cx="2884680" cy="7920"/>
          </a:xfrm>
          <a:prstGeom prst="rect">
            <a:avLst/>
          </a:prstGeom>
          <a:solidFill>
            <a:srgbClr val="d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200560" y="5646600"/>
            <a:ext cx="2884680" cy="7920"/>
          </a:xfrm>
          <a:prstGeom prst="rect">
            <a:avLst/>
          </a:prstGeom>
          <a:solidFill>
            <a:srgbClr val="c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200560" y="5654520"/>
            <a:ext cx="2884680" cy="9720"/>
          </a:xfrm>
          <a:prstGeom prst="rect">
            <a:avLst/>
          </a:prstGeom>
          <a:solidFill>
            <a:srgbClr val="c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200560" y="5664240"/>
            <a:ext cx="2884680" cy="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00560" y="5672160"/>
            <a:ext cx="2884680" cy="9360"/>
          </a:xfrm>
          <a:prstGeom prst="rect">
            <a:avLst/>
          </a:prstGeom>
          <a:solidFill>
            <a:srgbClr val="c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200560" y="5681520"/>
            <a:ext cx="2884680" cy="792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200560" y="5689440"/>
            <a:ext cx="2884680" cy="9720"/>
          </a:xfrm>
          <a:prstGeom prst="rect">
            <a:avLst/>
          </a:prstGeom>
          <a:solidFill>
            <a:srgbClr val="c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00560" y="5699160"/>
            <a:ext cx="2884680" cy="7920"/>
          </a:xfrm>
          <a:prstGeom prst="rect">
            <a:avLst/>
          </a:prstGeom>
          <a:solidFill>
            <a:srgbClr val="c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200560" y="5707080"/>
            <a:ext cx="2884680" cy="7920"/>
          </a:xfrm>
          <a:prstGeom prst="rect">
            <a:avLst/>
          </a:prstGeom>
          <a:solidFill>
            <a:srgbClr val="c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200560" y="5715000"/>
            <a:ext cx="2884680" cy="9360"/>
          </a:xfrm>
          <a:prstGeom prst="rect">
            <a:avLst/>
          </a:prstGeom>
          <a:solidFill>
            <a:srgbClr val="c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200560" y="5724360"/>
            <a:ext cx="2884680" cy="8280"/>
          </a:xfrm>
          <a:prstGeom prst="rect">
            <a:avLst/>
          </a:prstGeom>
          <a:solidFill>
            <a:srgbClr val="c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00560" y="5732640"/>
            <a:ext cx="2884680" cy="9360"/>
          </a:xfrm>
          <a:prstGeom prst="rect">
            <a:avLst/>
          </a:prstGeom>
          <a:solidFill>
            <a:srgbClr val="c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200560" y="5742000"/>
            <a:ext cx="2884680" cy="7920"/>
          </a:xfrm>
          <a:prstGeom prst="rect">
            <a:avLst/>
          </a:prstGeom>
          <a:solidFill>
            <a:srgbClr val="c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200560" y="5749920"/>
            <a:ext cx="2884680" cy="9360"/>
          </a:xfrm>
          <a:prstGeom prst="rect">
            <a:avLst/>
          </a:prstGeom>
          <a:solidFill>
            <a:srgbClr val="b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200560" y="5759280"/>
            <a:ext cx="2884680" cy="8280"/>
          </a:xfrm>
          <a:prstGeom prst="rect">
            <a:avLst/>
          </a:prstGeom>
          <a:solidFill>
            <a:srgbClr val="b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00560" y="5767560"/>
            <a:ext cx="2884680" cy="9360"/>
          </a:xfrm>
          <a:prstGeom prst="rect">
            <a:avLst/>
          </a:prstGeom>
          <a:solidFill>
            <a:srgbClr val="b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200560" y="5776920"/>
            <a:ext cx="2884680" cy="7920"/>
          </a:xfrm>
          <a:prstGeom prst="rect">
            <a:avLst/>
          </a:prstGeom>
          <a:solidFill>
            <a:srgbClr val="b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200560" y="5784840"/>
            <a:ext cx="2884680" cy="7920"/>
          </a:xfrm>
          <a:prstGeom prst="rect">
            <a:avLst/>
          </a:prstGeom>
          <a:solidFill>
            <a:srgbClr val="b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00560" y="5792760"/>
            <a:ext cx="2884680" cy="972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200560" y="5802480"/>
            <a:ext cx="2884680" cy="7920"/>
          </a:xfrm>
          <a:prstGeom prst="rect">
            <a:avLst/>
          </a:prstGeom>
          <a:solidFill>
            <a:srgbClr val="b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00560" y="5810400"/>
            <a:ext cx="2884680" cy="9360"/>
          </a:xfrm>
          <a:prstGeom prst="rect">
            <a:avLst/>
          </a:prstGeom>
          <a:solidFill>
            <a:srgbClr val="b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200560" y="5819760"/>
            <a:ext cx="2884680" cy="7920"/>
          </a:xfrm>
          <a:prstGeom prst="rect">
            <a:avLst/>
          </a:prstGeom>
          <a:solidFill>
            <a:srgbClr val="b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200560" y="5827680"/>
            <a:ext cx="2884680" cy="9720"/>
          </a:xfrm>
          <a:prstGeom prst="rect">
            <a:avLst/>
          </a:prstGeom>
          <a:solidFill>
            <a:srgbClr val="b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00560" y="5837400"/>
            <a:ext cx="2884680" cy="7920"/>
          </a:xfrm>
          <a:prstGeom prst="rect">
            <a:avLst/>
          </a:prstGeom>
          <a:solidFill>
            <a:srgbClr val="b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200560" y="5845320"/>
            <a:ext cx="2884680" cy="9360"/>
          </a:xfrm>
          <a:prstGeom prst="rect">
            <a:avLst/>
          </a:prstGeom>
          <a:solidFill>
            <a:srgbClr val="b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200560" y="5854680"/>
            <a:ext cx="2884680" cy="7920"/>
          </a:xfrm>
          <a:prstGeom prst="rect">
            <a:avLst/>
          </a:prstGeom>
          <a:solidFill>
            <a:srgbClr val="a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200560" y="5862600"/>
            <a:ext cx="2884680" cy="79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200560" y="5870520"/>
            <a:ext cx="2884680" cy="9720"/>
          </a:xfrm>
          <a:prstGeom prst="rect">
            <a:avLst/>
          </a:prstGeom>
          <a:solidFill>
            <a:srgbClr val="a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00560" y="5880240"/>
            <a:ext cx="2884680" cy="7920"/>
          </a:xfrm>
          <a:prstGeom prst="rect">
            <a:avLst/>
          </a:prstGeom>
          <a:solidFill>
            <a:srgbClr val="a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00560" y="5888160"/>
            <a:ext cx="2884680" cy="9360"/>
          </a:xfrm>
          <a:prstGeom prst="rect">
            <a:avLst/>
          </a:prstGeom>
          <a:solidFill>
            <a:srgbClr val="a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200560" y="5897520"/>
            <a:ext cx="2884680" cy="7920"/>
          </a:xfrm>
          <a:prstGeom prst="rect">
            <a:avLst/>
          </a:prstGeom>
          <a:solidFill>
            <a:srgbClr val="a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200560" y="5905440"/>
            <a:ext cx="2884680" cy="9720"/>
          </a:xfrm>
          <a:prstGeom prst="rect">
            <a:avLst/>
          </a:prstGeom>
          <a:solidFill>
            <a:srgbClr val="a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200560" y="5915160"/>
            <a:ext cx="2884680" cy="7920"/>
          </a:xfrm>
          <a:prstGeom prst="rect">
            <a:avLst/>
          </a:prstGeom>
          <a:solidFill>
            <a:srgbClr val="a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200560" y="5923080"/>
            <a:ext cx="2884680" cy="7920"/>
          </a:xfrm>
          <a:prstGeom prst="rect">
            <a:avLst/>
          </a:prstGeom>
          <a:solidFill>
            <a:srgbClr val="a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00560" y="5931000"/>
            <a:ext cx="2884680" cy="9360"/>
          </a:xfrm>
          <a:prstGeom prst="rect">
            <a:avLst/>
          </a:prstGeom>
          <a:solidFill>
            <a:srgbClr val="a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200560" y="5940360"/>
            <a:ext cx="2884680" cy="7920"/>
          </a:xfrm>
          <a:prstGeom prst="rect">
            <a:avLst/>
          </a:prstGeom>
          <a:solidFill>
            <a:srgbClr val="a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200560" y="5948280"/>
            <a:ext cx="2884680" cy="9720"/>
          </a:xfrm>
          <a:prstGeom prst="rect">
            <a:avLst/>
          </a:prstGeom>
          <a:solidFill>
            <a:srgbClr val="a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00560" y="5958000"/>
            <a:ext cx="2884680" cy="7920"/>
          </a:xfrm>
          <a:prstGeom prst="rect">
            <a:avLst/>
          </a:prstGeom>
          <a:solidFill>
            <a:srgbClr val="9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200560" y="5965920"/>
            <a:ext cx="2884680" cy="9360"/>
          </a:xfrm>
          <a:prstGeom prst="rect">
            <a:avLst/>
          </a:prstGeom>
          <a:solidFill>
            <a:srgbClr val="9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200560" y="5975280"/>
            <a:ext cx="2884680" cy="7920"/>
          </a:xfrm>
          <a:prstGeom prst="rect">
            <a:avLst/>
          </a:prstGeom>
          <a:solidFill>
            <a:srgbClr val="9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00560" y="5983200"/>
            <a:ext cx="2884680" cy="9720"/>
          </a:xfrm>
          <a:prstGeom prst="rect">
            <a:avLst/>
          </a:prstGeom>
          <a:solidFill>
            <a:srgbClr val="9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00560" y="5992920"/>
            <a:ext cx="2884680" cy="792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200560" y="6000840"/>
            <a:ext cx="2884680" cy="7920"/>
          </a:xfrm>
          <a:prstGeom prst="rect">
            <a:avLst/>
          </a:prstGeom>
          <a:solidFill>
            <a:srgbClr val="9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200560" y="6008760"/>
            <a:ext cx="2884680" cy="9360"/>
          </a:xfrm>
          <a:prstGeom prst="rect">
            <a:avLst/>
          </a:prstGeom>
          <a:solidFill>
            <a:srgbClr val="9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200560" y="6018120"/>
            <a:ext cx="2884680" cy="7920"/>
          </a:xfrm>
          <a:prstGeom prst="rect">
            <a:avLst/>
          </a:prstGeom>
          <a:solidFill>
            <a:srgbClr val="9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200560" y="6026040"/>
            <a:ext cx="2884680" cy="9720"/>
          </a:xfrm>
          <a:prstGeom prst="rect">
            <a:avLst/>
          </a:prstGeom>
          <a:solidFill>
            <a:srgbClr val="9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200560" y="6035760"/>
            <a:ext cx="2884680" cy="7920"/>
          </a:xfrm>
          <a:prstGeom prst="rect">
            <a:avLst/>
          </a:prstGeom>
          <a:solidFill>
            <a:srgbClr val="9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200560" y="6043680"/>
            <a:ext cx="2884680" cy="9360"/>
          </a:xfrm>
          <a:prstGeom prst="rect">
            <a:avLst/>
          </a:prstGeom>
          <a:solidFill>
            <a:srgbClr val="9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200560" y="6053040"/>
            <a:ext cx="2884680" cy="7920"/>
          </a:xfrm>
          <a:prstGeom prst="rect">
            <a:avLst/>
          </a:prstGeom>
          <a:solidFill>
            <a:srgbClr val="9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200560" y="6060960"/>
            <a:ext cx="2884680" cy="7920"/>
          </a:xfrm>
          <a:prstGeom prst="rect">
            <a:avLst/>
          </a:prstGeom>
          <a:solidFill>
            <a:srgbClr val="8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200560" y="6068880"/>
            <a:ext cx="2884680" cy="972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00560" y="6078600"/>
            <a:ext cx="2884680" cy="7920"/>
          </a:xfrm>
          <a:prstGeom prst="rect">
            <a:avLst/>
          </a:prstGeom>
          <a:solidFill>
            <a:srgbClr val="8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200560" y="6086520"/>
            <a:ext cx="2884680" cy="9360"/>
          </a:xfrm>
          <a:prstGeom prst="rect">
            <a:avLst/>
          </a:prstGeom>
          <a:solidFill>
            <a:srgbClr val="8a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200560" y="6095880"/>
            <a:ext cx="2884680" cy="7920"/>
          </a:xfrm>
          <a:prstGeom prst="rect">
            <a:avLst/>
          </a:prstGeom>
          <a:solidFill>
            <a:srgbClr val="8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200560" y="6103800"/>
            <a:ext cx="2884680" cy="9720"/>
          </a:xfrm>
          <a:prstGeom prst="rect">
            <a:avLst/>
          </a:prstGeom>
          <a:solidFill>
            <a:srgbClr val="88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200560" y="6113520"/>
            <a:ext cx="2884680" cy="7920"/>
          </a:xfrm>
          <a:prstGeom prst="rect">
            <a:avLst/>
          </a:prstGeom>
          <a:solidFill>
            <a:srgbClr val="8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200560" y="6121440"/>
            <a:ext cx="2884680" cy="9360"/>
          </a:xfrm>
          <a:prstGeom prst="rect">
            <a:avLst/>
          </a:prstGeom>
          <a:solidFill>
            <a:srgbClr val="8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200560" y="6130800"/>
            <a:ext cx="2884680" cy="7920"/>
          </a:xfrm>
          <a:prstGeom prst="rect">
            <a:avLst/>
          </a:prstGeom>
          <a:solidFill>
            <a:srgbClr val="84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00560" y="6138720"/>
            <a:ext cx="2884680" cy="7920"/>
          </a:xfrm>
          <a:prstGeom prst="rect">
            <a:avLst/>
          </a:prstGeom>
          <a:solidFill>
            <a:srgbClr val="82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200560" y="6146640"/>
            <a:ext cx="2884680" cy="9720"/>
          </a:xfrm>
          <a:prstGeom prst="rect">
            <a:avLst/>
          </a:prstGeom>
          <a:solidFill>
            <a:srgbClr val="8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200560" y="5180040"/>
            <a:ext cx="297504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966280" y="5180040"/>
            <a:ext cx="144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ONTROL PANEL  &lt;XP Rel. 3.2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630400" y="601668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247720" y="5880240"/>
            <a:ext cx="25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1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844600" y="5880240"/>
            <a:ext cx="25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7.8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39360" y="5518080"/>
            <a:ext cx="1075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75" y="3152"/>
                </a:moveTo>
                <a:arcTo wR="10800" hR="10800" stAng="-8094914" swAng="5382740"/>
                <a:lnTo>
                  <a:pt x="10800" y="10800"/>
                </a:lnTo>
                <a:close/>
              </a:path>
              <a:path fill="none" w="21600" h="21600">
                <a:moveTo>
                  <a:pt x="3175" y="3152"/>
                </a:moveTo>
                <a:arcTo wR="10800" hR="10800" stAng="-8094914" swAng="5382740"/>
              </a:path>
            </a:pathLst>
          </a:custGeom>
          <a:solidFill>
            <a:srgbClr val="c0c0c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675400" y="5526000"/>
            <a:ext cx="1440" cy="449280"/>
          </a:xfrm>
          <a:prstGeom prst="line">
            <a:avLst/>
          </a:prstGeom>
          <a:ln w="11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462640" y="5560920"/>
            <a:ext cx="212760" cy="414360"/>
          </a:xfrm>
          <a:prstGeom prst="line">
            <a:avLst/>
          </a:prstGeom>
          <a:ln w="11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675040" y="5560920"/>
            <a:ext cx="212760" cy="414360"/>
          </a:xfrm>
          <a:prstGeom prst="line">
            <a:avLst/>
          </a:prstGeom>
          <a:ln w="11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654520" y="5508720"/>
            <a:ext cx="41400" cy="466560"/>
          </a:xfrm>
          <a:custGeom>
            <a:avLst/>
            <a:gdLst/>
            <a:ahLst/>
            <a:rect l="l" t="t" r="r" b="b"/>
            <a:pathLst>
              <a:path w="26" h="294">
                <a:moveTo>
                  <a:pt x="13" y="0"/>
                </a:moveTo>
                <a:lnTo>
                  <a:pt x="0" y="294"/>
                </a:lnTo>
                <a:lnTo>
                  <a:pt x="26" y="294"/>
                </a:lnTo>
                <a:lnTo>
                  <a:pt x="13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59560" y="5952960"/>
            <a:ext cx="31680" cy="255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32120" y="5335560"/>
            <a:ext cx="285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14.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421320" y="60166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ak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203880" y="5880240"/>
            <a:ext cx="20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6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862680" y="5880240"/>
            <a:ext cx="20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9.8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101640" y="5518080"/>
            <a:ext cx="10731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85" y="3142"/>
                </a:moveTo>
                <a:arcTo wR="10800" hR="10800" stAng="-8090368" swAng="5380735"/>
                <a:lnTo>
                  <a:pt x="10800" y="10800"/>
                </a:lnTo>
                <a:close/>
              </a:path>
              <a:path fill="none" w="21600" h="21600">
                <a:moveTo>
                  <a:pt x="3185" y="3142"/>
                </a:moveTo>
                <a:arcTo wR="10800" hR="10800" stAng="-8090368" swAng="5380735"/>
              </a:path>
            </a:pathLst>
          </a:custGeom>
          <a:solidFill>
            <a:srgbClr val="c0c0c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37320" y="5526000"/>
            <a:ext cx="1440" cy="449280"/>
          </a:xfrm>
          <a:prstGeom prst="line">
            <a:avLst/>
          </a:prstGeom>
          <a:ln w="11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424560" y="5560920"/>
            <a:ext cx="212760" cy="414360"/>
          </a:xfrm>
          <a:prstGeom prst="line">
            <a:avLst/>
          </a:prstGeom>
          <a:ln w="11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6636960" y="5560920"/>
            <a:ext cx="212760" cy="414360"/>
          </a:xfrm>
          <a:prstGeom prst="line">
            <a:avLst/>
          </a:prstGeom>
          <a:ln w="11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16800" y="5508720"/>
            <a:ext cx="41040" cy="466560"/>
          </a:xfrm>
          <a:custGeom>
            <a:avLst/>
            <a:gdLst/>
            <a:ahLst/>
            <a:rect l="l" t="t" r="r" b="b"/>
            <a:pathLst>
              <a:path w="26" h="294">
                <a:moveTo>
                  <a:pt x="13" y="0"/>
                </a:moveTo>
                <a:lnTo>
                  <a:pt x="0" y="294"/>
                </a:lnTo>
                <a:lnTo>
                  <a:pt x="26" y="294"/>
                </a:lnTo>
                <a:lnTo>
                  <a:pt x="13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621480" y="5952960"/>
            <a:ext cx="31680" cy="255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520320" y="5335560"/>
            <a:ext cx="23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8.2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26360" y="6016680"/>
            <a:ext cx="54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ff SLOC (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163640" y="58802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6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51240" y="58802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92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61760" y="5518080"/>
            <a:ext cx="1075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75" y="3152"/>
                </a:moveTo>
                <a:arcTo wR="10800" hR="10800" stAng="-8094914" swAng="5382740"/>
                <a:lnTo>
                  <a:pt x="10800" y="10800"/>
                </a:lnTo>
                <a:close/>
              </a:path>
              <a:path fill="none" w="21600" h="21600">
                <a:moveTo>
                  <a:pt x="3175" y="3152"/>
                </a:moveTo>
                <a:arcTo wR="10800" hR="10800" stAng="-8094914" swAng="5382740"/>
              </a:path>
            </a:pathLst>
          </a:custGeom>
          <a:solidFill>
            <a:srgbClr val="c0c0c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599240" y="5526000"/>
            <a:ext cx="1800" cy="449280"/>
          </a:xfrm>
          <a:prstGeom prst="line">
            <a:avLst/>
          </a:prstGeom>
          <a:ln w="11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386480" y="5560920"/>
            <a:ext cx="212760" cy="414360"/>
          </a:xfrm>
          <a:prstGeom prst="line">
            <a:avLst/>
          </a:prstGeom>
          <a:ln w="11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7598880" y="5560920"/>
            <a:ext cx="212760" cy="414360"/>
          </a:xfrm>
          <a:prstGeom prst="line">
            <a:avLst/>
          </a:prstGeom>
          <a:ln w="11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78720" y="5508720"/>
            <a:ext cx="41400" cy="466560"/>
          </a:xfrm>
          <a:custGeom>
            <a:avLst/>
            <a:gdLst/>
            <a:ahLst/>
            <a:rect l="l" t="t" r="r" b="b"/>
            <a:pathLst>
              <a:path w="26" h="294">
                <a:moveTo>
                  <a:pt x="13" y="0"/>
                </a:moveTo>
                <a:lnTo>
                  <a:pt x="0" y="294"/>
                </a:lnTo>
                <a:lnTo>
                  <a:pt x="26" y="294"/>
                </a:lnTo>
                <a:lnTo>
                  <a:pt x="13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83400" y="5952960"/>
            <a:ext cx="31680" cy="255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495200" y="5335560"/>
            <a:ext cx="20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76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67080" y="6400800"/>
            <a:ext cx="628920" cy="173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267080" y="6477120"/>
            <a:ext cx="689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80"/>
                </a:solidFill>
                <a:latin typeface="Arial Narrow"/>
              </a:rPr>
              <a:t>Project: Elan 3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8088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igitized Replica Using SLIM</a:t>
            </a:r>
            <a:r>
              <a:rPr b="1" lang="en-US" sz="2800" spc="-1" strike="noStrike" baseline="60000">
                <a:solidFill>
                  <a:srgbClr val="000066"/>
                </a:solidFill>
                <a:latin typeface="Arial Narrow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9C2-0981-411F-BFD2-944C1DD2FA3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F0B93-32D9-49B4-8F28-F34BB338CEFF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838080" y="1371600"/>
            <a:ext cx="7453440" cy="5257800"/>
          </a:xfrm>
          <a:prstGeom prst="rect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930240" y="1454040"/>
            <a:ext cx="7196040" cy="4756320"/>
          </a:xfrm>
          <a:prstGeom prst="roundRect">
            <a:avLst>
              <a:gd name="adj" fmla="val 25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93880" y="1420920"/>
            <a:ext cx="7196040" cy="4755960"/>
          </a:xfrm>
          <a:prstGeom prst="roundRect">
            <a:avLst>
              <a:gd name="adj" fmla="val 25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07200" y="1527120"/>
            <a:ext cx="202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80"/>
                </a:solidFill>
                <a:latin typeface="Arial"/>
              </a:rPr>
              <a:t>C&amp;T Duration (Months) vs Effective SLO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368440" y="1708200"/>
            <a:ext cx="42544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368440" y="5718240"/>
            <a:ext cx="1800" cy="65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320920" y="5783400"/>
            <a:ext cx="9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01140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38616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5292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5452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2912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6556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29408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39596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95680" y="5718240"/>
            <a:ext cx="1800" cy="65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23680" y="578340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13720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51340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78016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98176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5636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29280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42132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523200" y="571824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622920" y="5718240"/>
            <a:ext cx="1800" cy="65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28240" y="5783400"/>
            <a:ext cx="189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62292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62292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62292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62292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62292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62292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62292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622920" y="5718240"/>
            <a:ext cx="180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958560" y="5948280"/>
            <a:ext cx="1268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Effective SLOC (thousan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22920" y="571824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90600" y="565164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22920" y="511812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22920" y="476424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22920" y="451008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622920" y="4313160"/>
            <a:ext cx="36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622920" y="4156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622920" y="402588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22920" y="3909960"/>
            <a:ext cx="36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622920" y="380376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622920" y="3713040"/>
            <a:ext cx="36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689880" y="3648240"/>
            <a:ext cx="9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622920" y="3112920"/>
            <a:ext cx="36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622920" y="276084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622920" y="250524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2920" y="230832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622920" y="21528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622920" y="202104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622920" y="190512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22920" y="1798560"/>
            <a:ext cx="36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622920" y="1708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693840" y="16430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2920" y="1708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622920" y="1708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622920" y="1708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622920" y="1708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622920" y="1708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622920" y="1708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622920" y="1708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622920" y="1708200"/>
            <a:ext cx="36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rot="5400000">
            <a:off x="6421680" y="3791880"/>
            <a:ext cx="104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C&amp;T Duration (Month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368440" y="1707840"/>
            <a:ext cx="1800" cy="40100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4495680" y="1707840"/>
            <a:ext cx="1800" cy="40100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6622920" y="1707840"/>
            <a:ext cx="1800" cy="40100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368440" y="5718240"/>
            <a:ext cx="425448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368440" y="3713040"/>
            <a:ext cx="4254480" cy="180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368440" y="1708200"/>
            <a:ext cx="425448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784760" y="3529080"/>
            <a:ext cx="46080" cy="39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692680" y="2928960"/>
            <a:ext cx="46080" cy="39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06880" y="4137120"/>
            <a:ext cx="46080" cy="39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446720" y="3611520"/>
            <a:ext cx="44280" cy="39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317760" y="4538520"/>
            <a:ext cx="46080" cy="39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087800" y="4119480"/>
            <a:ext cx="824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27640" y="3594240"/>
            <a:ext cx="824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300480" y="4522680"/>
            <a:ext cx="8100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2368440" y="4615920"/>
            <a:ext cx="854280" cy="4352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3222720" y="4181400"/>
            <a:ext cx="852480" cy="4348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075200" y="3754440"/>
            <a:ext cx="842760" cy="4269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917960" y="3319560"/>
            <a:ext cx="852480" cy="4348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770440" y="2890440"/>
            <a:ext cx="852480" cy="4287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622920" y="289080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2368440" y="4140360"/>
            <a:ext cx="854280" cy="43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3222720" y="3712680"/>
            <a:ext cx="852480" cy="42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4075200" y="3278160"/>
            <a:ext cx="842760" cy="43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4917960" y="2841120"/>
            <a:ext cx="852480" cy="43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5770440" y="2414520"/>
            <a:ext cx="85248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622920" y="241452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368440" y="3664080"/>
            <a:ext cx="854280" cy="4348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3222720" y="3236400"/>
            <a:ext cx="852480" cy="4273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4075200" y="2800440"/>
            <a:ext cx="842760" cy="4363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4917960" y="2373480"/>
            <a:ext cx="852480" cy="4269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5770440" y="1937880"/>
            <a:ext cx="852480" cy="4352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622920" y="193824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73480" y="1712880"/>
            <a:ext cx="4244760" cy="400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221000" y="4238640"/>
            <a:ext cx="37656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184640" y="4205160"/>
            <a:ext cx="42228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84640" y="4205160"/>
            <a:ext cx="412920" cy="165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292640" y="42386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Agile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51320" y="4649760"/>
            <a:ext cx="37620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14600" y="4616280"/>
            <a:ext cx="42084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14600" y="4616280"/>
            <a:ext cx="412920" cy="165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22600" y="46497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Agile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560840" y="3736800"/>
            <a:ext cx="37476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524480" y="3705120"/>
            <a:ext cx="420480" cy="1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524480" y="3705120"/>
            <a:ext cx="411120" cy="163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629240" y="373680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Agile 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770440" y="3063960"/>
            <a:ext cx="65088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734080" y="3030480"/>
            <a:ext cx="69696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734080" y="3030480"/>
            <a:ext cx="687240" cy="165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871240" y="3063960"/>
            <a:ext cx="52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Traditional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54680" y="3441600"/>
            <a:ext cx="65088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17960" y="3408480"/>
            <a:ext cx="696960" cy="17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917960" y="3408480"/>
            <a:ext cx="687600" cy="164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055480" y="3441600"/>
            <a:ext cx="52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Traditional 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21000" y="4238640"/>
            <a:ext cx="37656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84640" y="4205160"/>
            <a:ext cx="42228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184640" y="4205160"/>
            <a:ext cx="412920" cy="165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292640" y="42386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Agile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51320" y="4649760"/>
            <a:ext cx="37620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14600" y="4616280"/>
            <a:ext cx="42084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4600" y="4616280"/>
            <a:ext cx="412920" cy="165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22600" y="46497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Agile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60840" y="3736800"/>
            <a:ext cx="37476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524480" y="3705120"/>
            <a:ext cx="420480" cy="1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524480" y="3705120"/>
            <a:ext cx="411120" cy="163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29240" y="373680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Agile 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770440" y="3063960"/>
            <a:ext cx="65088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34080" y="3030480"/>
            <a:ext cx="69696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734080" y="3030480"/>
            <a:ext cx="687240" cy="165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71240" y="3063960"/>
            <a:ext cx="52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Traditional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954680" y="3441600"/>
            <a:ext cx="65088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917960" y="3408480"/>
            <a:ext cx="696960" cy="17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917960" y="3408480"/>
            <a:ext cx="687600" cy="164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055480" y="3441600"/>
            <a:ext cx="52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Traditional 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727280" y="6424560"/>
            <a:ext cx="570240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690560" y="6391440"/>
            <a:ext cx="571212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690560" y="6391440"/>
            <a:ext cx="5702400" cy="196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741320" y="6470640"/>
            <a:ext cx="46080" cy="39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118240" y="6432480"/>
            <a:ext cx="381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80"/>
                </a:solidFill>
                <a:latin typeface="Arial Narrow"/>
              </a:rPr>
              <a:t>All Syste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851200" y="6453360"/>
            <a:ext cx="8100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262320" y="6432480"/>
            <a:ext cx="48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80"/>
                </a:solidFill>
                <a:latin typeface="Arial Narrow"/>
              </a:rPr>
              <a:t>Special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83040" y="6489720"/>
            <a:ext cx="293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415400" y="6432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80"/>
                </a:solidFill>
                <a:latin typeface="Arial Narrow"/>
              </a:rPr>
              <a:t>QSM 2002 Scientif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110200" y="6489720"/>
            <a:ext cx="293760" cy="14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519520" y="6432480"/>
            <a:ext cx="48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80"/>
                </a:solidFill>
                <a:latin typeface="Arial Narrow"/>
              </a:rPr>
              <a:t>Avg. Line Sty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237360" y="6489720"/>
            <a:ext cx="293760" cy="1440"/>
          </a:xfrm>
          <a:prstGeom prst="line">
            <a:avLst/>
          </a:prstGeom>
          <a:ln w="93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665400" y="643248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80"/>
                </a:solidFill>
                <a:latin typeface="Arial Narrow"/>
              </a:rPr>
              <a:t>1 Sigma Line Sty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04240" y="1905120"/>
            <a:ext cx="4245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Swis721 BlkCn BT"/>
              </a:rPr>
              <a:t>Fast Schedules on Traditional Projects</a:t>
            </a:r>
            <a:br>
              <a:rPr sz="1800"/>
            </a:br>
            <a:r>
              <a:rPr b="0" lang="en-US" sz="1800" spc="-1" strike="noStrike">
                <a:solidFill>
                  <a:srgbClr val="990099"/>
                </a:solidFill>
                <a:latin typeface="Swis721 BlkCn BT"/>
              </a:rPr>
              <a:t>Even Faster on Agile Projects</a:t>
            </a:r>
            <a:r>
              <a:rPr b="0" lang="en-US" sz="2400" spc="-1" strike="noStrike">
                <a:solidFill>
                  <a:srgbClr val="990099"/>
                </a:solidFill>
                <a:latin typeface="Swis721 BlkC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Schedule Comparison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2" name=""/>
          <p:cNvSpPr/>
          <p:nvPr/>
        </p:nvSpPr>
        <p:spPr>
          <a:xfrm>
            <a:off x="4800600" y="64008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5DE-91CE-4AE2-BB8D-D5B2C940107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D1820-A28C-4985-A351-4ED5544A0597}" type="datetime1">
              <a:rPr lang="en-US"/>
              <a:t>07/30/26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Mah</dc:creator>
  <dc:description/>
  <dc:language>en-US</dc:language>
  <cp:lastModifiedBy> </cp:lastModifiedBy>
  <cp:lastPrinted>2001-12-21T18:45:56Z</cp:lastPrinted>
  <dcterms:modified xsi:type="dcterms:W3CDTF">2006-09-14T20:16:55Z</dcterms:modified>
  <cp:revision>305</cp:revision>
  <dc:subject>QSM User Conference</dc:subject>
  <dc:title>Agile Measurement</dc:title>
</cp:coreProperties>
</file>