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2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3.png" ContentType="image/png"/>
  <Override PartName="/ppt/media/image34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28.jpeg" ContentType="image/jpeg"/>
  <Override PartName="/ppt/media/image39.wmf" ContentType="image/x-wmf"/>
  <Override PartName="/ppt/media/image41.png" ContentType="image/png"/>
  <Override PartName="/ppt/media/image9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8FC-336A-4ADF-A91C-70C56C4D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74C-C190-4D46-813B-64817310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CEF-1866-42A3-8486-C3789C3B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037-6EDA-4365-AA87-705BBE25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D80-71DC-42E9-8618-85334AA2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BE8-0309-43C5-9D20-DA7B9196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19C-7D2B-4780-9D60-D59DB141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A2C-FDFB-4D4B-ABA5-FFB726E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AB7-ADA4-42BA-BCD2-2DC6DECF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3C0-9ED0-4F2A-83ED-8B93474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2EC-73F9-4595-B448-93776C3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586-5ADD-4DBC-AC19-F7D4FEA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BB35-F0A4-49AC-949E-5C711794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wmf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image" Target="../media/image30.jpe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image" Target="../media/image35.jpeg"/><Relationship Id="rId27" Type="http://schemas.openxmlformats.org/officeDocument/2006/relationships/image" Target="../media/image36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QSM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M User conferenc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32000" y="1665360"/>
            <a:ext cx="6192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150336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SM Customers 2005 en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60960" y="2492280"/>
            <a:ext cx="2543400" cy="538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478320" y="6053040"/>
            <a:ext cx="2361960" cy="650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516720" y="5734080"/>
            <a:ext cx="1954080" cy="49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1485720" cy="83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516720" y="3068640"/>
            <a:ext cx="1179360" cy="1106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250920" y="2781360"/>
            <a:ext cx="1415880" cy="722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7596360" y="836640"/>
            <a:ext cx="1366560" cy="1087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3635280" y="5229360"/>
            <a:ext cx="2330640" cy="6667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3492360" y="4292640"/>
            <a:ext cx="2387880" cy="772920"/>
            <a:chOff x="3492360" y="4292640"/>
            <a:chExt cx="2387880" cy="77292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3492360" y="4292640"/>
              <a:ext cx="194184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1"/>
            <a:stretch/>
          </p:blipFill>
          <p:spPr>
            <a:xfrm>
              <a:off x="3492360" y="4462560"/>
              <a:ext cx="2387880" cy="60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6916680" y="2025720"/>
            <a:ext cx="2073240" cy="598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6443640" y="5157720"/>
            <a:ext cx="2079720" cy="34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8185320" y="3213000"/>
            <a:ext cx="958680" cy="160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179280" y="1197000"/>
            <a:ext cx="1908360" cy="619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1766880" y="4253040"/>
            <a:ext cx="1639800" cy="371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>
            <a:off x="272880" y="4559400"/>
            <a:ext cx="1454400" cy="587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8"/>
          <a:stretch/>
        </p:blipFill>
        <p:spPr>
          <a:xfrm>
            <a:off x="4500720" y="981000"/>
            <a:ext cx="2520720" cy="965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100080"/>
            <a:ext cx="850752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54"/>
                </a:solidFill>
                <a:latin typeface="Arial"/>
              </a:rPr>
              <a:t>               </a:t>
            </a:r>
            <a:r>
              <a:rPr b="0" lang="nl-NL" sz="4400" spc="-1" strike="noStrike">
                <a:solidFill>
                  <a:srgbClr val="000054"/>
                </a:solidFill>
                <a:latin typeface="Arial"/>
              </a:rPr>
              <a:t>Europe Tool Cust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9"/>
          <a:stretch/>
        </p:blipFill>
        <p:spPr>
          <a:xfrm>
            <a:off x="2916360" y="1197000"/>
            <a:ext cx="1257120" cy="863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0"/>
          <a:stretch/>
        </p:blipFill>
        <p:spPr>
          <a:xfrm>
            <a:off x="6877080" y="4292640"/>
            <a:ext cx="83340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1"/>
          <a:stretch/>
        </p:blipFill>
        <p:spPr>
          <a:xfrm>
            <a:off x="4716360" y="3284640"/>
            <a:ext cx="1422360" cy="74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2"/>
          <a:stretch/>
        </p:blipFill>
        <p:spPr>
          <a:xfrm>
            <a:off x="3059280" y="2349360"/>
            <a:ext cx="2736720" cy="471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3"/>
          <a:stretch/>
        </p:blipFill>
        <p:spPr>
          <a:xfrm>
            <a:off x="1763640" y="3429000"/>
            <a:ext cx="1314360" cy="671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4"/>
          <a:stretch/>
        </p:blipFill>
        <p:spPr>
          <a:xfrm>
            <a:off x="179280" y="1844640"/>
            <a:ext cx="2340000" cy="57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5"/>
          <a:stretch/>
        </p:blipFill>
        <p:spPr>
          <a:xfrm>
            <a:off x="1908000" y="2492280"/>
            <a:ext cx="1008360" cy="868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6"/>
          <a:stretch/>
        </p:blipFill>
        <p:spPr>
          <a:xfrm>
            <a:off x="46080" y="6073920"/>
            <a:ext cx="3273480" cy="68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7"/>
          <a:stretch/>
        </p:blipFill>
        <p:spPr>
          <a:xfrm>
            <a:off x="3132000" y="3141720"/>
            <a:ext cx="1366920" cy="768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8"/>
          <a:stretch/>
        </p:blipFill>
        <p:spPr>
          <a:xfrm>
            <a:off x="252360" y="5300640"/>
            <a:ext cx="1571760" cy="65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9"/>
          <a:stretch/>
        </p:blipFill>
        <p:spPr>
          <a:xfrm>
            <a:off x="2179800" y="4791240"/>
            <a:ext cx="900000" cy="109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SM Europ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nue grow over the last 5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749600"/>
            <a:ext cx="8496360" cy="461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y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789200"/>
            <a:ext cx="914400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 for the coming years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ools customers 10-15 per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to a more robust organiz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do this we are making the organization less dependant on one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ng on the revenue growth we will invest in more personnel to support the business in other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own people in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own people and partners in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 for the coming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herlands as our hom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second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ocus on the Nordic countries , England, Germany, Belgium, Norway, Denmark, Sweden, Switzerl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ocused on selling tools, as our most important revenue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the independent estimating company supporting customers with second opinions, scope management and benchma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more consultants and 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growth, tool revenue will be the basis for hiring new consul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94000" y="0"/>
            <a:ext cx="63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we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ey from Tower Club to QSM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stom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growth over the last few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target for the coming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we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vate held compan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ed to QSM in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is to build up a QSM business in Europ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ed in 199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ly 7 people employed in the compan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w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276200"/>
            <a:ext cx="94489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unt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276200"/>
            <a:ext cx="94489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therlands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276200"/>
            <a:ext cx="94489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uk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276200"/>
            <a:ext cx="94489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SM Europe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265400"/>
            <a:ext cx="9468000" cy="559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300720" y="1197000"/>
            <a:ext cx="3121200" cy="234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812000" y="2349360"/>
            <a:ext cx="1152720" cy="503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2708280"/>
            <a:ext cx="115236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14:10Z</dcterms:created>
  <dc:creator>Hans Vonk</dc:creator>
  <dc:description/>
  <dc:language>en-US</dc:language>
  <cp:lastModifiedBy>Doug Putnam</cp:lastModifiedBy>
  <dcterms:modified xsi:type="dcterms:W3CDTF">2006-09-25T20:13:32Z</dcterms:modified>
  <cp:revision>7</cp:revision>
  <dc:subject/>
  <dc:title>Introducing QSM Europe</dc:title>
</cp:coreProperties>
</file>