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334-4BBE-4DB7-A521-426DACB9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109-5E98-4409-B35B-B8BBD56B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51C-C6A6-43B6-AA07-91A4F046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61F-005A-4EFA-B2F9-8BB855BD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F5C-03E0-4113-8424-A70774BB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9D0-8350-4CDA-8BD9-36C0E900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589-126D-4E60-A722-1B370840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267-8AB7-4449-AA51-F7DF1E34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FF1-9BA9-47BF-B11C-28C213D6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4CE-5007-48E5-B585-6C4BA293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CBD-D670-420B-8B68-5F416AF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CC1-F26F-4C90-BB75-E3558E1A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6164-EE42-4B10-813E-7362DDAEA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to Metric Driven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SM Use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760" y="182880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chmark for broad distribution across th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overall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nds release over release by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s of measuring MBO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666880" cy="1447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057400" y="1828800"/>
            <a:ext cx="6324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M Quarterl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pass: Compare projects using project’s 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ed difficult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s to be “PI ter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743200" y="3352680"/>
            <a:ext cx="5486400" cy="3276720"/>
            <a:chOff x="2743200" y="3352680"/>
            <a:chExt cx="5486400" cy="3276720"/>
          </a:xfrm>
        </p:grpSpPr>
        <p:sp>
          <p:nvSpPr>
            <p:cNvPr id="69" name=""/>
            <p:cNvSpPr/>
            <p:nvPr/>
          </p:nvSpPr>
          <p:spPr>
            <a:xfrm>
              <a:off x="2743200" y="3352680"/>
              <a:ext cx="5486400" cy="3276720"/>
            </a:xfrm>
            <a:prstGeom prst="roundRect">
              <a:avLst>
                <a:gd name="adj" fmla="val 2657"/>
              </a:avLst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54280" y="3454200"/>
              <a:ext cx="233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PI vs. Reference Trend Line (0 = Industry Mean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6200" y="3673440"/>
              <a:ext cx="3244680" cy="2603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02240" y="6291000"/>
              <a:ext cx="1440" cy="795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96240" y="6370560"/>
              <a:ext cx="602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PI Std Devi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16480" y="6291000"/>
              <a:ext cx="60480" cy="32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57600" y="6210360"/>
              <a:ext cx="14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-2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16480" y="5864040"/>
              <a:ext cx="60480" cy="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257600" y="5778360"/>
              <a:ext cx="14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-1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16480" y="5430600"/>
              <a:ext cx="604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57600" y="5349600"/>
              <a:ext cx="14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-1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6480" y="4989240"/>
              <a:ext cx="60480" cy="32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57600" y="4910040"/>
              <a:ext cx="14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-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16480" y="4562280"/>
              <a:ext cx="604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45000" y="4476600"/>
              <a:ext cx="11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0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16480" y="4130640"/>
              <a:ext cx="604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45000" y="4046400"/>
              <a:ext cx="11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16480" y="3687480"/>
              <a:ext cx="60480" cy="32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45000" y="3608280"/>
              <a:ext cx="11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16480" y="3687480"/>
              <a:ext cx="60480" cy="32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16480" y="3687480"/>
              <a:ext cx="60480" cy="32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5400000">
              <a:off x="7054920" y="5174280"/>
              <a:ext cx="1152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Average Deviation Sig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68560" y="6291000"/>
              <a:ext cx="3247920" cy="3240"/>
            </a:xfrm>
            <a:prstGeom prst="line">
              <a:avLst/>
            </a:prstGeom>
            <a:ln w="111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68560" y="5864040"/>
              <a:ext cx="3247920" cy="0"/>
            </a:xfrm>
            <a:prstGeom prst="line">
              <a:avLst/>
            </a:prstGeom>
            <a:ln w="111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68560" y="5430600"/>
              <a:ext cx="3247920" cy="1800"/>
            </a:xfrm>
            <a:prstGeom prst="line">
              <a:avLst/>
            </a:prstGeom>
            <a:ln w="111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68560" y="4989240"/>
              <a:ext cx="3247920" cy="3240"/>
            </a:xfrm>
            <a:prstGeom prst="line">
              <a:avLst/>
            </a:prstGeom>
            <a:ln w="111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68560" y="4562280"/>
              <a:ext cx="3247920" cy="1800"/>
            </a:xfrm>
            <a:prstGeom prst="line">
              <a:avLst/>
            </a:prstGeom>
            <a:ln w="111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68560" y="4130640"/>
              <a:ext cx="3247920" cy="1440"/>
            </a:xfrm>
            <a:prstGeom prst="line">
              <a:avLst/>
            </a:prstGeom>
            <a:ln w="111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68560" y="3687480"/>
              <a:ext cx="3247920" cy="3240"/>
            </a:xfrm>
            <a:prstGeom prst="line">
              <a:avLst/>
            </a:prstGeom>
            <a:ln w="111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8560" y="3687480"/>
              <a:ext cx="3247920" cy="3240"/>
            </a:xfrm>
            <a:prstGeom prst="line">
              <a:avLst/>
            </a:prstGeom>
            <a:ln w="111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68560" y="3687480"/>
              <a:ext cx="3247920" cy="3240"/>
            </a:xfrm>
            <a:prstGeom prst="line">
              <a:avLst/>
            </a:prstGeom>
            <a:ln w="111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05160" y="4579920"/>
              <a:ext cx="609480" cy="312480"/>
            </a:xfrm>
            <a:prstGeom prst="rect">
              <a:avLst/>
            </a:prstGeom>
            <a:solidFill>
              <a:srgbClr val="00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57480" y="4579920"/>
              <a:ext cx="606600" cy="565200"/>
            </a:xfrm>
            <a:prstGeom prst="rect">
              <a:avLst/>
            </a:prstGeom>
            <a:solidFill>
              <a:srgbClr val="8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08360" y="4579920"/>
              <a:ext cx="605160" cy="752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57800" y="4579920"/>
              <a:ext cx="606240" cy="1077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45280" y="493236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-0.4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64800" y="568476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-1.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5600" y="536256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-0.9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040" y="518940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-0.7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45280" y="493236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-0.4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64800" y="568476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-1.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5600" y="536256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-0.9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99040" y="518940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-0.7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316400" y="5883120"/>
              <a:ext cx="2380320" cy="244080"/>
              <a:chOff x="4316400" y="5883120"/>
              <a:chExt cx="2380320" cy="244080"/>
            </a:xfrm>
          </p:grpSpPr>
          <p:sp>
            <p:nvSpPr>
              <p:cNvPr id="113" name=""/>
              <p:cNvSpPr/>
              <p:nvPr/>
            </p:nvSpPr>
            <p:spPr>
              <a:xfrm>
                <a:off x="5614200" y="5925960"/>
                <a:ext cx="433440" cy="19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555520" y="5883120"/>
                <a:ext cx="507600" cy="24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68840" y="5883120"/>
                <a:ext cx="491760" cy="233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21400" y="5941440"/>
                <a:ext cx="439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00"/>
                    </a:solidFill>
                    <a:latin typeface="Arial"/>
                  </a:rPr>
                  <a:t>3Q0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72920" y="5925960"/>
                <a:ext cx="437400" cy="19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16400" y="5883120"/>
                <a:ext cx="507600" cy="24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16400" y="5883120"/>
                <a:ext cx="494280" cy="233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42320" y="5941440"/>
                <a:ext cx="477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00"/>
                    </a:solidFill>
                    <a:latin typeface="Arial"/>
                  </a:rPr>
                  <a:t>1Q0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8680" y="5925960"/>
                <a:ext cx="433440" cy="19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52520" y="5883120"/>
                <a:ext cx="505080" cy="24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39200" y="5883120"/>
                <a:ext cx="490320" cy="233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67640" y="5941440"/>
                <a:ext cx="472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00"/>
                    </a:solidFill>
                    <a:latin typeface="Arial"/>
                  </a:rPr>
                  <a:t>2Q0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48520" y="5925960"/>
                <a:ext cx="435600" cy="19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91640" y="5883120"/>
                <a:ext cx="505080" cy="24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191640" y="5883120"/>
                <a:ext cx="492480" cy="233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6000" y="5941440"/>
                <a:ext cx="429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00"/>
                    </a:solidFill>
                    <a:latin typeface="Arial"/>
                  </a:rPr>
                  <a:t>4Q0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2057400"/>
            <a:ext cx="6248520" cy="4572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119480"/>
            <a:ext cx="5219640" cy="180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3968640"/>
            <a:ext cx="5219640" cy="180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6093000"/>
            <a:ext cx="1440" cy="871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56880" y="618012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112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568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380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6880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9264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9416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8452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62640" y="6093000"/>
            <a:ext cx="1440" cy="871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66160" y="6180120"/>
            <a:ext cx="11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996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8488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880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7692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1336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2460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2612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1648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94600" y="6093000"/>
            <a:ext cx="1440" cy="871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64280" y="6180120"/>
            <a:ext cx="17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2308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2800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4076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1032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5648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6916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6924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59600" y="6093000"/>
            <a:ext cx="180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39160" y="6093000"/>
            <a:ext cx="1440" cy="871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57720" y="618012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1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3916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3916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3916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3916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3916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3916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3916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39160" y="6093000"/>
            <a:ext cx="1440" cy="428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2920" y="6324480"/>
            <a:ext cx="173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Effective SLOC (thousand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39160" y="609300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93880" y="600696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39160" y="594216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39160" y="579132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93880" y="570564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39160" y="564048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39160" y="548964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93880" y="540396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39160" y="533880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39160" y="5176800"/>
            <a:ext cx="44280" cy="180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93880" y="509112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39160" y="5025960"/>
            <a:ext cx="44280" cy="180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39160" y="4875120"/>
            <a:ext cx="44280" cy="180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93880" y="478800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39160" y="4724280"/>
            <a:ext cx="44280" cy="180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039160" y="4573440"/>
            <a:ext cx="44280" cy="180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93520" y="4486320"/>
            <a:ext cx="11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39160" y="442116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39160" y="4270320"/>
            <a:ext cx="44280" cy="180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93520" y="4184640"/>
            <a:ext cx="11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39160" y="4119480"/>
            <a:ext cx="44280" cy="180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39160" y="3968640"/>
            <a:ext cx="44280" cy="180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93520" y="3882960"/>
            <a:ext cx="11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039160" y="3817800"/>
            <a:ext cx="44280" cy="180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39160" y="3666960"/>
            <a:ext cx="44280" cy="180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93520" y="3581280"/>
            <a:ext cx="11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39160" y="350532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39160" y="335448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93520" y="3268800"/>
            <a:ext cx="11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39160" y="320364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39160" y="305280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93520" y="2965320"/>
            <a:ext cx="11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39160" y="290196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39160" y="275112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93520" y="2664000"/>
            <a:ext cx="11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 Narrow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39160" y="259884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39160" y="2448000"/>
            <a:ext cx="4428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8246880" y="4249080"/>
            <a:ext cx="13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P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609300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594216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579132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64048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48964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533880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5176800"/>
            <a:ext cx="5219640" cy="180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5025960"/>
            <a:ext cx="5219640" cy="180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4875120"/>
            <a:ext cx="5219640" cy="180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4724280"/>
            <a:ext cx="5219640" cy="180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4573440"/>
            <a:ext cx="5219640" cy="180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442116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4270320"/>
            <a:ext cx="5219640" cy="180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3817800"/>
            <a:ext cx="5219640" cy="180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19520" y="3666960"/>
            <a:ext cx="5219640" cy="180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50532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335448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320364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305280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290196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75112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2590920"/>
            <a:ext cx="5219640" cy="144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2438280"/>
            <a:ext cx="5219640" cy="1800"/>
          </a:xfrm>
          <a:prstGeom prst="line">
            <a:avLst/>
          </a:prstGeom>
          <a:ln w="11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27680" y="4006800"/>
            <a:ext cx="57240" cy="5400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41960" y="4038480"/>
            <a:ext cx="58680" cy="5580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35720" y="3865680"/>
            <a:ext cx="56880" cy="5544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0000" y="5224320"/>
            <a:ext cx="58680" cy="5580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61080" y="4275000"/>
            <a:ext cx="56880" cy="5580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51520" y="4371840"/>
            <a:ext cx="56880" cy="5400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61080" y="4761000"/>
            <a:ext cx="56880" cy="5544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43480" y="4243320"/>
            <a:ext cx="58680" cy="5580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41960" y="4599000"/>
            <a:ext cx="58680" cy="5544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81880" y="3618000"/>
            <a:ext cx="56880" cy="5544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26080" y="4987800"/>
            <a:ext cx="56880" cy="5400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64280" y="3811680"/>
            <a:ext cx="58680" cy="5544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81960" y="4038480"/>
            <a:ext cx="58680" cy="55800"/>
          </a:xfrm>
          <a:prstGeom prst="ellipse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819520" y="5662080"/>
            <a:ext cx="1046160" cy="290520"/>
          </a:xfrm>
          <a:prstGeom prst="line">
            <a:avLst/>
          </a:prstGeom>
          <a:ln w="111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865680" y="5370120"/>
            <a:ext cx="1046160" cy="291960"/>
          </a:xfrm>
          <a:prstGeom prst="line">
            <a:avLst/>
          </a:prstGeom>
          <a:ln w="111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911840" y="5079600"/>
            <a:ext cx="1035000" cy="290520"/>
          </a:xfrm>
          <a:prstGeom prst="line">
            <a:avLst/>
          </a:prstGeom>
          <a:ln w="111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946840" y="4778280"/>
            <a:ext cx="1046160" cy="301680"/>
          </a:xfrm>
          <a:prstGeom prst="line">
            <a:avLst/>
          </a:prstGeom>
          <a:ln w="111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93000" y="4485960"/>
            <a:ext cx="1046160" cy="291960"/>
          </a:xfrm>
          <a:prstGeom prst="line">
            <a:avLst/>
          </a:prstGeom>
          <a:ln w="111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39160" y="448632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911840" y="4323960"/>
            <a:ext cx="1035000" cy="291960"/>
          </a:xfrm>
          <a:prstGeom prst="line">
            <a:avLst/>
          </a:prstGeom>
          <a:ln w="11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819520" y="4906800"/>
            <a:ext cx="1046160" cy="301680"/>
          </a:xfrm>
          <a:prstGeom prst="line">
            <a:avLst/>
          </a:prstGeom>
          <a:ln w="11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865680" y="4615920"/>
            <a:ext cx="1046160" cy="290520"/>
          </a:xfrm>
          <a:prstGeom prst="line">
            <a:avLst/>
          </a:prstGeom>
          <a:ln w="11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946840" y="4033440"/>
            <a:ext cx="1046160" cy="290520"/>
          </a:xfrm>
          <a:prstGeom prst="line">
            <a:avLst/>
          </a:prstGeom>
          <a:ln w="11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993000" y="3741480"/>
            <a:ext cx="1046160" cy="291960"/>
          </a:xfrm>
          <a:prstGeom prst="line">
            <a:avLst/>
          </a:prstGeom>
          <a:ln w="11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39160" y="374184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819520" y="4162320"/>
            <a:ext cx="1046160" cy="292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65680" y="3871440"/>
            <a:ext cx="1046160" cy="290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911840" y="3570120"/>
            <a:ext cx="1035000" cy="301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946840" y="3277800"/>
            <a:ext cx="1046160" cy="291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993000" y="2987280"/>
            <a:ext cx="1046160" cy="290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39160" y="2987640"/>
            <a:ext cx="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819520" y="3408120"/>
            <a:ext cx="1046160" cy="290520"/>
          </a:xfrm>
          <a:prstGeom prst="line">
            <a:avLst/>
          </a:prstGeom>
          <a:ln w="11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65680" y="3117600"/>
            <a:ext cx="1046160" cy="290520"/>
          </a:xfrm>
          <a:prstGeom prst="line">
            <a:avLst/>
          </a:prstGeom>
          <a:ln w="11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11840" y="2825640"/>
            <a:ext cx="1035000" cy="292320"/>
          </a:xfrm>
          <a:prstGeom prst="line">
            <a:avLst/>
          </a:prstGeom>
          <a:ln w="11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946840" y="2534760"/>
            <a:ext cx="1046160" cy="290520"/>
          </a:xfrm>
          <a:prstGeom prst="line">
            <a:avLst/>
          </a:prstGeom>
          <a:ln w="11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819520" y="2663640"/>
            <a:ext cx="1046160" cy="291960"/>
          </a:xfrm>
          <a:prstGeom prst="line">
            <a:avLst/>
          </a:prstGeom>
          <a:ln w="111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67720" y="50594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-1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67720" y="57913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-2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29560" y="3581280"/>
            <a:ext cx="5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+1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29560" y="2819520"/>
            <a:ext cx="5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+2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19600" y="2286000"/>
            <a:ext cx="138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80"/>
                </a:solidFill>
                <a:latin typeface="Arial"/>
              </a:rPr>
              <a:t>PI vs Effective SLO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772240" y="2999880"/>
            <a:ext cx="0" cy="291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0.14705 -0.05833 E">
                                      <p:cBhvr>
                                        <p:cTn id="1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L 0.11251 -0.04306 E">
                                      <p:cBhvr>
                                        <p:cTn id="1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6296E-006 L 0.09775 -0.03704 E">
                                      <p:cBhvr>
                                        <p:cTn id="14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07407E-006 L 0.07691 -0.03125 E">
                                      <p:cBhvr>
                                        <p:cTn id="1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09775 -0.03796 E">
                                      <p:cBhvr>
                                        <p:cTn id="1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14341 -0.05648 E">
                                      <p:cBhvr>
                                        <p:cTn id="20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4479 0.01852 E">
                                      <p:cBhvr>
                                        <p:cTn id="2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L -0.04236 0.01666 E">
                                      <p:cBhvr>
                                        <p:cTn id="2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96296E-006 L -0.04236 0.01574 E">
                                      <p:cBhvr>
                                        <p:cTn id="2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33333E-006 L -0.10642 0.03912 E">
                                      <p:cBhvr>
                                        <p:cTn id="2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0.02396 -0.01157 E">
                                      <p:cBhvr>
                                        <p:cTn id="3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6 L -0.09045 0.03565 E">
                                      <p:cBhvr>
                                        <p:cTn id="32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96296E-006 L -0.19982 0.075 E">
                                      <p:cBhvr>
                                        <p:cTn id="3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1722600" y="1749600"/>
            <a:ext cx="7406640" cy="5108040"/>
            <a:chOff x="1722600" y="1749600"/>
            <a:chExt cx="7406640" cy="5108040"/>
          </a:xfrm>
        </p:grpSpPr>
        <p:sp>
          <p:nvSpPr>
            <p:cNvPr id="279" name=""/>
            <p:cNvSpPr/>
            <p:nvPr/>
          </p:nvSpPr>
          <p:spPr>
            <a:xfrm>
              <a:off x="4219560" y="1782360"/>
              <a:ext cx="2581560" cy="21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82480" y="1749600"/>
              <a:ext cx="2581560" cy="21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44480" y="1782360"/>
              <a:ext cx="235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Quarterly Productivity Meas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60040" y="2128680"/>
              <a:ext cx="7369200" cy="4459680"/>
            </a:xfrm>
            <a:prstGeom prst="roundRect">
              <a:avLst>
                <a:gd name="adj" fmla="val 258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22600" y="2095920"/>
              <a:ext cx="7369200" cy="4459320"/>
            </a:xfrm>
            <a:prstGeom prst="roundRect">
              <a:avLst>
                <a:gd name="adj" fmla="val 258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8440" y="2202840"/>
              <a:ext cx="73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Produc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33880" y="2384280"/>
              <a:ext cx="4355640" cy="38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2240" y="6258600"/>
              <a:ext cx="1080" cy="65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71400" y="632484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 Narrow"/>
                </a:rPr>
                <a:t>Adjusted P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89880" y="6258600"/>
              <a:ext cx="374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52160" y="6192720"/>
              <a:ext cx="5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 Narrow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89880" y="5706360"/>
              <a:ext cx="374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52160" y="5640480"/>
              <a:ext cx="5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 Narrow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89880" y="5154120"/>
              <a:ext cx="374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52160" y="5088240"/>
              <a:ext cx="5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 Narrow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89880" y="4601880"/>
              <a:ext cx="374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52160" y="4535640"/>
              <a:ext cx="5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 Narrow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89880" y="4049280"/>
              <a:ext cx="374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52160" y="3983400"/>
              <a:ext cx="5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 Narrow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9880" y="3497040"/>
              <a:ext cx="374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54680" y="3431160"/>
              <a:ext cx="104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 Narrow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89880" y="2944800"/>
              <a:ext cx="374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54680" y="2877480"/>
              <a:ext cx="104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 Narrow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89880" y="2384280"/>
              <a:ext cx="374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54680" y="2318400"/>
              <a:ext cx="104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Arial Narrow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7393680" y="4262760"/>
              <a:ext cx="93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Avg. Adjusted 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33880" y="6258600"/>
              <a:ext cx="435564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33880" y="5706360"/>
              <a:ext cx="435564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33880" y="5154120"/>
              <a:ext cx="435564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33880" y="4601880"/>
              <a:ext cx="435564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33880" y="4049280"/>
              <a:ext cx="435564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33880" y="3497040"/>
              <a:ext cx="435564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33880" y="2944800"/>
              <a:ext cx="435564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33880" y="2384280"/>
              <a:ext cx="435564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70560" y="3319920"/>
              <a:ext cx="844560" cy="293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74760" y="31672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 Narrow"/>
                </a:rPr>
                <a:t>11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43560" y="3319920"/>
              <a:ext cx="844560" cy="29343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47400" y="31672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 Narrow"/>
                </a:rPr>
                <a:t>11.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16560" y="3130200"/>
              <a:ext cx="844560" cy="3124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20760" y="29764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 Narrow"/>
                </a:rPr>
                <a:t>12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89560" y="2899440"/>
              <a:ext cx="844920" cy="33552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93760" y="27471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 Narrow"/>
                </a:rPr>
                <a:t>13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38560" y="2388600"/>
              <a:ext cx="4346640" cy="38660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15080" y="6184440"/>
              <a:ext cx="65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(Normalize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15080" y="6184440"/>
              <a:ext cx="65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(Normalize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20160" y="6660000"/>
              <a:ext cx="1943280" cy="19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82360" y="6626880"/>
              <a:ext cx="1952640" cy="20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82360" y="6626880"/>
              <a:ext cx="1943280" cy="197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24840" y="6672240"/>
              <a:ext cx="65520" cy="115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67040" y="6669360"/>
              <a:ext cx="31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 Narrow"/>
                </a:rPr>
                <a:t>FY06Q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94280" y="6672240"/>
              <a:ext cx="65520" cy="1155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36480" y="6669360"/>
              <a:ext cx="31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 Narrow"/>
                </a:rPr>
                <a:t>FY06Q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63360" y="6672240"/>
              <a:ext cx="65520" cy="115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04840" y="6669360"/>
              <a:ext cx="31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 Narrow"/>
                </a:rPr>
                <a:t>FY06Q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32800" y="6672240"/>
              <a:ext cx="65520" cy="11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75000" y="6669360"/>
              <a:ext cx="31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 Narrow"/>
                </a:rPr>
                <a:t>FY06Q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203040" y="1731960"/>
            <a:ext cx="8812080" cy="5033520"/>
            <a:chOff x="203040" y="1731960"/>
            <a:chExt cx="8812080" cy="5033520"/>
          </a:xfrm>
        </p:grpSpPr>
        <p:sp>
          <p:nvSpPr>
            <p:cNvPr id="337" name=""/>
            <p:cNvSpPr/>
            <p:nvPr/>
          </p:nvSpPr>
          <p:spPr>
            <a:xfrm>
              <a:off x="3270240" y="1764360"/>
              <a:ext cx="2877840" cy="18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25960" y="1731960"/>
              <a:ext cx="2877480" cy="18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46440" y="1762920"/>
              <a:ext cx="21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Arial"/>
                </a:rPr>
                <a:t>Quarterly Productivity Measu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680" y="2056680"/>
              <a:ext cx="4227480" cy="2240640"/>
            </a:xfrm>
            <a:prstGeom prst="roundRect">
              <a:avLst>
                <a:gd name="adj" fmla="val 27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3040" y="2024280"/>
              <a:ext cx="4227480" cy="2240640"/>
            </a:xfrm>
            <a:prstGeom prst="roundRect">
              <a:avLst>
                <a:gd name="adj" fmla="val 271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63600" y="2097360"/>
              <a:ext cx="41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Dur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2000" y="2259720"/>
              <a:ext cx="2520360" cy="176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22720" y="4029480"/>
              <a:ext cx="1440" cy="56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13480" y="4086360"/>
              <a:ext cx="61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Adj. Days/KL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2720" y="402948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61200" y="397296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82720" y="373716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61200" y="36792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2720" y="343692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61200" y="33800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82720" y="314460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61200" y="30877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2720" y="285264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61200" y="27943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2720" y="255204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68400" y="24948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82720" y="225972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68400" y="22028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3535560" y="3137760"/>
              <a:ext cx="77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Avg. Days/KL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2000" y="4029480"/>
              <a:ext cx="2520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2000" y="3737160"/>
              <a:ext cx="2520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2000" y="3436920"/>
              <a:ext cx="2520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62000" y="3144600"/>
              <a:ext cx="2520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62000" y="2852640"/>
              <a:ext cx="2520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62000" y="2552040"/>
              <a:ext cx="2520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62000" y="2259720"/>
              <a:ext cx="2520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24440" y="2629080"/>
              <a:ext cx="468360" cy="139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82480" y="2494800"/>
              <a:ext cx="16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9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25920" y="2653200"/>
              <a:ext cx="468360" cy="1372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84320" y="2520720"/>
              <a:ext cx="16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9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28120" y="2783520"/>
              <a:ext cx="468360" cy="1242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84360" y="2649240"/>
              <a:ext cx="16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8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29600" y="2904840"/>
              <a:ext cx="468720" cy="11206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88000" y="2771280"/>
              <a:ext cx="16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7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4720" y="3956760"/>
              <a:ext cx="58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Normalize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720" y="3956760"/>
              <a:ext cx="58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Normalize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87640" y="2056680"/>
              <a:ext cx="4227480" cy="2240640"/>
            </a:xfrm>
            <a:prstGeom prst="roundRect">
              <a:avLst>
                <a:gd name="adj" fmla="val 27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48400" y="2028240"/>
              <a:ext cx="4215960" cy="2232720"/>
            </a:xfrm>
            <a:prstGeom prst="roundRect">
              <a:avLst>
                <a:gd name="adj" fmla="val 271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69800" y="209736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Eff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07720" y="2263680"/>
              <a:ext cx="2509560" cy="176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62320" y="4029480"/>
              <a:ext cx="1440" cy="56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85840" y="408636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Adj. Hrs/KL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122680" y="402948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02960" y="397296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22680" y="373716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13040" y="36792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22680" y="343692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13040" y="3380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22680" y="314460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13040" y="3087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22680" y="285264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3040" y="27943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22680" y="255204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13040" y="24948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2680" y="225972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13040" y="22028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8112240" y="3138480"/>
              <a:ext cx="812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Avg. Hours/KL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01600" y="402948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01600" y="3737160"/>
              <a:ext cx="252072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01600" y="343692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01600" y="314460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01600" y="285264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01600" y="255204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01600" y="225972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4040" y="2661480"/>
              <a:ext cx="468360" cy="136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57640" y="25275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464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65880" y="2580120"/>
              <a:ext cx="468360" cy="14450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59840" y="24465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491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67720" y="2718360"/>
              <a:ext cx="468720" cy="1307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62400" y="258444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447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69920" y="2953800"/>
              <a:ext cx="468360" cy="10717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64240" y="2819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365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07720" y="2263680"/>
              <a:ext cx="2509560" cy="17618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2080" y="3956760"/>
              <a:ext cx="58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Normalize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42080" y="3956760"/>
              <a:ext cx="58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Normalize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7680" y="4524840"/>
              <a:ext cx="4227480" cy="2240640"/>
            </a:xfrm>
            <a:prstGeom prst="roundRect">
              <a:avLst>
                <a:gd name="adj" fmla="val 27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8800" y="4496400"/>
              <a:ext cx="4215960" cy="2232720"/>
            </a:xfrm>
            <a:prstGeom prst="roundRect">
              <a:avLst>
                <a:gd name="adj" fmla="val 271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51800" y="456552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Co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67400" y="4732200"/>
              <a:ext cx="2509560" cy="176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22720" y="6497640"/>
              <a:ext cx="1440" cy="56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36840" y="6555960"/>
              <a:ext cx="156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DC&amp;T $ / Eff  SLOC (Phase 3 Cost/Efuni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82720" y="649764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1200" y="64411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82720" y="614052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61200" y="60850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82720" y="579132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68400" y="57333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2720" y="543420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68400" y="537732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82720" y="508536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68400" y="502812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82720" y="472788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68400" y="466992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3273480" y="5569200"/>
              <a:ext cx="1176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Avg. Cost ($) per Line of C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62000" y="6497640"/>
              <a:ext cx="2520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62000" y="6140520"/>
              <a:ext cx="2520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62000" y="5791320"/>
              <a:ext cx="2520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62000" y="5434200"/>
              <a:ext cx="2520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62000" y="5085360"/>
              <a:ext cx="2520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62000" y="4727880"/>
              <a:ext cx="2520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24440" y="5243400"/>
              <a:ext cx="468360" cy="125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51880" y="510948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17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25920" y="5154120"/>
              <a:ext cx="468360" cy="13395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52280" y="502020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19.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28120" y="5381280"/>
              <a:ext cx="468360" cy="1112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54480" y="524772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15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29600" y="5625000"/>
              <a:ext cx="468720" cy="8686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59200" y="549108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12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67400" y="4732200"/>
              <a:ext cx="2509560" cy="1761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86080" y="6416640"/>
              <a:ext cx="35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Actua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6080" y="6416640"/>
              <a:ext cx="35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Actua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87640" y="4524840"/>
              <a:ext cx="4227480" cy="2240640"/>
            </a:xfrm>
            <a:prstGeom prst="roundRect">
              <a:avLst>
                <a:gd name="adj" fmla="val 27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48400" y="4496400"/>
              <a:ext cx="4215960" cy="2232720"/>
            </a:xfrm>
            <a:prstGeom prst="roundRect">
              <a:avLst>
                <a:gd name="adj" fmla="val 271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733800" y="4565520"/>
              <a:ext cx="34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Qual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07720" y="4732200"/>
              <a:ext cx="2509560" cy="176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62320" y="6497640"/>
              <a:ext cx="1440" cy="56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509880" y="6555960"/>
              <a:ext cx="70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Adj. Defects/KL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22680" y="649764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02960" y="64411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122680" y="624600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02960" y="61894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22680" y="599472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202960" y="59378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22680" y="574308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02960" y="56858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22680" y="548316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02960" y="54262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22680" y="523152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02960" y="51732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22680" y="497988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02960" y="4922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122680" y="472788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02960" y="46699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5400000">
              <a:off x="7962480" y="5612760"/>
              <a:ext cx="889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Avg. Defects/KL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01600" y="6497640"/>
              <a:ext cx="252072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01600" y="624600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01600" y="599472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01600" y="574308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01600" y="548316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01600" y="523152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01600" y="4979880"/>
              <a:ext cx="252072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01600" y="4727880"/>
              <a:ext cx="252072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4040" y="4991760"/>
              <a:ext cx="468360" cy="150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21360" y="4857840"/>
              <a:ext cx="16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6.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65880" y="4902480"/>
              <a:ext cx="468360" cy="1591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23200" y="4768560"/>
              <a:ext cx="16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6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67720" y="4991760"/>
              <a:ext cx="468720" cy="150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26120" y="4857840"/>
              <a:ext cx="16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6.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69920" y="5495400"/>
              <a:ext cx="468360" cy="998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29760" y="5362560"/>
              <a:ext cx="16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 Narrow"/>
                </a:rPr>
                <a:t>4.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07720" y="4732200"/>
              <a:ext cx="2509560" cy="1761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42080" y="6416640"/>
              <a:ext cx="58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Normalize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42080" y="6416640"/>
              <a:ext cx="58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Normalize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649680" y="1779480"/>
            <a:ext cx="3651120" cy="2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613320" y="1747800"/>
            <a:ext cx="365112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738240" y="1779480"/>
            <a:ext cx="353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Lab vs Date of Full Operational Capability (FO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787400" y="2112840"/>
            <a:ext cx="7237440" cy="4556160"/>
          </a:xfrm>
          <a:prstGeom prst="roundRect">
            <a:avLst>
              <a:gd name="adj" fmla="val 261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51040" y="2081160"/>
            <a:ext cx="7237440" cy="4556160"/>
          </a:xfrm>
          <a:prstGeom prst="roundRect">
            <a:avLst>
              <a:gd name="adj" fmla="val 2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70800" y="2185920"/>
            <a:ext cx="278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PI vs Date of Full Operational Capability (FO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35320" y="2359080"/>
            <a:ext cx="42782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235320" y="6192720"/>
            <a:ext cx="144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4316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6/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02080" y="6192720"/>
            <a:ext cx="144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0992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9/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70280" y="6192720"/>
            <a:ext cx="180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653280" y="6253200"/>
            <a:ext cx="23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1/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037040" y="6192720"/>
            <a:ext cx="144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4344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05240" y="6192720"/>
            <a:ext cx="180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21344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3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6192720"/>
            <a:ext cx="144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7840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5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38760" y="6192720"/>
            <a:ext cx="144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74840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8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106960" y="6192720"/>
            <a:ext cx="144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991400" y="6253200"/>
            <a:ext cx="23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0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73720" y="6192720"/>
            <a:ext cx="144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256720" y="6253200"/>
            <a:ext cx="23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2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641920" y="6192720"/>
            <a:ext cx="180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54832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2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08680" y="6192720"/>
            <a:ext cx="144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1364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4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76880" y="6192720"/>
            <a:ext cx="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328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7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443640" y="6192720"/>
            <a:ext cx="144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5148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9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710400" y="6192720"/>
            <a:ext cx="144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93400" y="6253200"/>
            <a:ext cx="23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1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78600" y="6192720"/>
            <a:ext cx="180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8644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/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45360" y="6192720"/>
            <a:ext cx="144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15176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3/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513560" y="6192720"/>
            <a:ext cx="1800" cy="6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421760" y="62532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5/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16320" y="64152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FOC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513560" y="6192720"/>
            <a:ext cx="36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72240" y="6129360"/>
            <a:ext cx="5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13560" y="543096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72240" y="5365800"/>
            <a:ext cx="5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13560" y="466092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72960" y="4599000"/>
            <a:ext cx="5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13560" y="3898800"/>
            <a:ext cx="36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75840" y="383544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13560" y="312912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575480" y="306540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13560" y="235908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75480" y="229536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5400000">
            <a:off x="7453800" y="4214520"/>
            <a:ext cx="64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Adjusted 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235320" y="6192720"/>
            <a:ext cx="4278240" cy="180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35320" y="5430960"/>
            <a:ext cx="427824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35320" y="4660920"/>
            <a:ext cx="427824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35320" y="3898800"/>
            <a:ext cx="4278240" cy="180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35320" y="3129120"/>
            <a:ext cx="427824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35320" y="2359080"/>
            <a:ext cx="427824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78200" y="3102120"/>
            <a:ext cx="46080" cy="39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24480" y="5038560"/>
            <a:ext cx="46080" cy="39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250040" y="3165480"/>
            <a:ext cx="46080" cy="39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94280" y="4260960"/>
            <a:ext cx="46080" cy="39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35320" y="3676680"/>
            <a:ext cx="857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92480" y="3676680"/>
            <a:ext cx="85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50000" y="3676680"/>
            <a:ext cx="857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807160" y="3676680"/>
            <a:ext cx="849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656400" y="3676680"/>
            <a:ext cx="857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513560" y="367668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40000" y="2363760"/>
            <a:ext cx="4268880" cy="3826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950000" y="3811680"/>
            <a:ext cx="109692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913280" y="3780000"/>
            <a:ext cx="1257480" cy="38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13280" y="3780000"/>
            <a:ext cx="1257480" cy="380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11560" y="3811680"/>
            <a:ext cx="70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Laboratory 6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030640" y="3921120"/>
            <a:ext cx="109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FOC Date = 04/29/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16960" y="4033800"/>
            <a:ext cx="878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Adjusted PI = 10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63600" y="60213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80"/>
                </a:solidFill>
                <a:latin typeface="Arial"/>
              </a:rPr>
              <a:t>(Normaliz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78120" y="2684520"/>
            <a:ext cx="109692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41760" y="2652840"/>
            <a:ext cx="1257120" cy="38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41760" y="2652840"/>
            <a:ext cx="1266840" cy="380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741840" y="2681280"/>
            <a:ext cx="70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Laboratory 5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757680" y="2795760"/>
            <a:ext cx="109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FOC Date = 06/30/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47240" y="2906640"/>
            <a:ext cx="878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Adjusted PI = 1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51320" y="4565520"/>
            <a:ext cx="1096920" cy="34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313160" y="4533840"/>
            <a:ext cx="1235160" cy="38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13160" y="4533840"/>
            <a:ext cx="123516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416480" y="4565520"/>
            <a:ext cx="78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Laboratory 5.4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430520" y="4676760"/>
            <a:ext cx="109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FOC Date = 12/31/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419720" y="4789440"/>
            <a:ext cx="82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Adjusted PI = 8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240600" y="2747880"/>
            <a:ext cx="98712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203880" y="2716200"/>
            <a:ext cx="1147680" cy="38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03880" y="2716200"/>
            <a:ext cx="1147680" cy="380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302520" y="2747880"/>
            <a:ext cx="70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Laboratory 6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19080" y="2857680"/>
            <a:ext cx="97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FOC Date = 4/1/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07560" y="2970360"/>
            <a:ext cx="878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Adjusted PI = 12.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182520" y="1730520"/>
            <a:ext cx="8841960" cy="5127120"/>
            <a:chOff x="182520" y="1730520"/>
            <a:chExt cx="8841960" cy="5127120"/>
          </a:xfrm>
        </p:grpSpPr>
        <p:sp>
          <p:nvSpPr>
            <p:cNvPr id="594" name=""/>
            <p:cNvSpPr/>
            <p:nvPr/>
          </p:nvSpPr>
          <p:spPr>
            <a:xfrm>
              <a:off x="2644560" y="1765080"/>
              <a:ext cx="4107240" cy="19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9920" y="1730520"/>
              <a:ext cx="4107600" cy="19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29480" y="1765080"/>
              <a:ext cx="3248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Arial"/>
                </a:rPr>
                <a:t>Lab vs Date of Full Operational Capability (FOC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7160" y="2076840"/>
              <a:ext cx="4241880" cy="2269080"/>
            </a:xfrm>
            <a:prstGeom prst="roundRect">
              <a:avLst>
                <a:gd name="adj" fmla="val 286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82520" y="2042280"/>
              <a:ext cx="4241880" cy="2269080"/>
            </a:xfrm>
            <a:prstGeom prst="roundRect">
              <a:avLst>
                <a:gd name="adj" fmla="val 28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47400" y="2120040"/>
              <a:ext cx="41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Dur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44360" y="2293200"/>
              <a:ext cx="2529000" cy="16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4436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6156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6/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096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6872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62520" y="396504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1/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2532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8228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0056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3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3888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9584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1124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8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5244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0940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00680" y="396504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2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6564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3376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5204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4/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9036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4732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6380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9/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0356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6016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7772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/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1712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7372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9020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5/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50280" y="4120920"/>
              <a:ext cx="45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FOC D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73720" y="390420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55440" y="38437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73720" y="367056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55440" y="36100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73720" y="344520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55440" y="33847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73720" y="321156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55440" y="315216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73720" y="297756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655440" y="29170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73720" y="275220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60480" y="269172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73720" y="251856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660480" y="245808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73720" y="229320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60480" y="223272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5400000">
              <a:off x="3542040" y="3094200"/>
              <a:ext cx="745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Adj. Days/KL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44360" y="3904200"/>
              <a:ext cx="25290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44360" y="3670560"/>
              <a:ext cx="252900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44360" y="3445200"/>
              <a:ext cx="252900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44360" y="3211560"/>
              <a:ext cx="252900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044360" y="2977560"/>
              <a:ext cx="25290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44360" y="2752200"/>
              <a:ext cx="25290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44360" y="2518560"/>
              <a:ext cx="252900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44360" y="2293200"/>
              <a:ext cx="252900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89280" y="3172680"/>
              <a:ext cx="5616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25600" y="2332440"/>
              <a:ext cx="5616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11720" y="3198600"/>
              <a:ext cx="5580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05680" y="2747880"/>
              <a:ext cx="5580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44360" y="2891160"/>
              <a:ext cx="5148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559160" y="2891160"/>
              <a:ext cx="5032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62800" y="2891160"/>
              <a:ext cx="503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66440" y="2891160"/>
              <a:ext cx="503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070080" y="2891160"/>
              <a:ext cx="5032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73720" y="2891160"/>
              <a:ext cx="18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50120" y="2297520"/>
              <a:ext cx="2518200" cy="16020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57920" y="3177000"/>
              <a:ext cx="39168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12920" y="3142080"/>
              <a:ext cx="447480" cy="23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12920" y="3142080"/>
              <a:ext cx="43632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02200" y="316656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5.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85640" y="32634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7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9920" y="3826440"/>
              <a:ext cx="58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Normalize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27280" y="2362680"/>
              <a:ext cx="4809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82280" y="2328120"/>
              <a:ext cx="537120" cy="23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82280" y="2328120"/>
              <a:ext cx="52560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74080" y="235404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5.4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55720" y="244908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14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23040" y="2509920"/>
              <a:ext cx="39204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78400" y="2475360"/>
              <a:ext cx="447480" cy="23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78400" y="2475360"/>
              <a:ext cx="43632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68760" y="250128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6.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53640" y="259524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10.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3480" y="3081600"/>
              <a:ext cx="39168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68480" y="3047040"/>
              <a:ext cx="447840" cy="23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68480" y="3047040"/>
              <a:ext cx="43632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57760" y="307260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6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941200" y="31665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6.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82600" y="2076840"/>
              <a:ext cx="4241880" cy="2269080"/>
            </a:xfrm>
            <a:prstGeom prst="roundRect">
              <a:avLst>
                <a:gd name="adj" fmla="val 286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43360" y="2046600"/>
              <a:ext cx="4230360" cy="2260440"/>
            </a:xfrm>
            <a:prstGeom prst="roundRect">
              <a:avLst>
                <a:gd name="adj" fmla="val 28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71960" y="212004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Eff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05200" y="2297520"/>
              <a:ext cx="2518200" cy="160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944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1592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6/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5640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2416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15080" y="396504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1/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8076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3736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5384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3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39432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5092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6956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8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0788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6412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57200" y="396504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2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2072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8884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0748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4/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34580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0204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2068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9/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65900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1560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3208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/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972200" y="3904200"/>
              <a:ext cx="180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129160" y="3904200"/>
              <a:ext cx="1440" cy="60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046360" y="396504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5/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6800" y="4120920"/>
              <a:ext cx="45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FOC D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129160" y="390420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207640" y="38437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129160" y="358380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218440" y="35233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29160" y="326340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218440" y="32025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29160" y="293436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218440" y="28738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29160" y="261396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218440" y="25531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29160" y="229320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22400" y="223272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,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5400000">
              <a:off x="8268840" y="3089160"/>
              <a:ext cx="67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Adj. Hrs/KL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99440" y="3904200"/>
              <a:ext cx="2529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99440" y="3583800"/>
              <a:ext cx="2529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99440" y="3263400"/>
              <a:ext cx="2529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99440" y="2934360"/>
              <a:ext cx="2529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599440" y="2613960"/>
              <a:ext cx="2529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99440" y="2293200"/>
              <a:ext cx="2529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44720" y="2903760"/>
              <a:ext cx="5580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81040" y="2574720"/>
              <a:ext cx="5580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966800" y="2791440"/>
              <a:ext cx="5616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0760" y="2696040"/>
              <a:ext cx="5616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99440" y="3107520"/>
              <a:ext cx="51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14240" y="3107520"/>
              <a:ext cx="50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18240" y="3107520"/>
              <a:ext cx="50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21880" y="3107520"/>
              <a:ext cx="50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25160" y="3107520"/>
              <a:ext cx="50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29160" y="31075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05200" y="2297520"/>
              <a:ext cx="2518200" cy="16020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901840" y="2847600"/>
              <a:ext cx="39168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57200" y="2813040"/>
              <a:ext cx="447480" cy="23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57200" y="2813040"/>
              <a:ext cx="436320" cy="224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944320" y="283896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5.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933520" y="2934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60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26600" y="3808800"/>
              <a:ext cx="58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Normalize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71200" y="2405880"/>
              <a:ext cx="4809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226200" y="2371320"/>
              <a:ext cx="537120" cy="234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26200" y="2371320"/>
              <a:ext cx="52560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18360" y="239760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5.4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03960" y="24926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8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97600" y="2813040"/>
              <a:ext cx="39168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53320" y="2778480"/>
              <a:ext cx="447480" cy="23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53320" y="2778480"/>
              <a:ext cx="43596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42240" y="280440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6.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929640" y="28994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7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602840" y="2553120"/>
              <a:ext cx="39168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57840" y="2518560"/>
              <a:ext cx="447840" cy="23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57840" y="2518560"/>
              <a:ext cx="43632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45680" y="254448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6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635600" y="26398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67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7160" y="4588560"/>
              <a:ext cx="4241880" cy="2269080"/>
            </a:xfrm>
            <a:prstGeom prst="roundRect">
              <a:avLst>
                <a:gd name="adj" fmla="val 286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8280" y="4558320"/>
              <a:ext cx="4230360" cy="2260440"/>
            </a:xfrm>
            <a:prstGeom prst="roundRect">
              <a:avLst>
                <a:gd name="adj" fmla="val 28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34160" y="463176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Co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50120" y="4809240"/>
              <a:ext cx="2518200" cy="160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4436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6156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6/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0096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6872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262520" y="647640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1/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52532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68228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60056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3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3888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99584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1124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8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5244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0940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00680" y="647640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2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6564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3376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5204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4/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9036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4732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6380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9/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0356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6016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7772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/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1712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57372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9020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5/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50280" y="6632640"/>
              <a:ext cx="45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FOC D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573720" y="641592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55440" y="63554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573720" y="609552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60480" y="60350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3720" y="577512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60480" y="571428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73720" y="544608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60480" y="53856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73720" y="512568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60480" y="50648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73720" y="480492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60480" y="47444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5400000">
              <a:off x="3418560" y="5622840"/>
              <a:ext cx="992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Cost per Line of C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44360" y="6415920"/>
              <a:ext cx="25290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044360" y="6095520"/>
              <a:ext cx="25290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44360" y="5775120"/>
              <a:ext cx="25290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44360" y="5446080"/>
              <a:ext cx="252900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44360" y="5125680"/>
              <a:ext cx="252900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44360" y="4804920"/>
              <a:ext cx="252900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89280" y="5840280"/>
              <a:ext cx="5616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25600" y="4956480"/>
              <a:ext cx="5616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411720" y="5909040"/>
              <a:ext cx="5580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605680" y="5918040"/>
              <a:ext cx="5580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44360" y="5809680"/>
              <a:ext cx="51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59160" y="5809680"/>
              <a:ext cx="50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2800" y="5809680"/>
              <a:ext cx="50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66440" y="5809680"/>
              <a:ext cx="50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70080" y="5809680"/>
              <a:ext cx="50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73720" y="5809680"/>
              <a:ext cx="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50120" y="4809240"/>
              <a:ext cx="2518200" cy="16020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04600" y="4883040"/>
              <a:ext cx="4809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659960" y="4848120"/>
              <a:ext cx="537120" cy="234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59960" y="4848120"/>
              <a:ext cx="52560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751760" y="487440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5.4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42400" y="496980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$44.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09400" y="6035040"/>
              <a:ext cx="39168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64400" y="6000120"/>
              <a:ext cx="447480" cy="234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264400" y="6000120"/>
              <a:ext cx="43632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351880" y="602460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6.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46840" y="612180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$14.9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13720" y="5939640"/>
              <a:ext cx="39168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368720" y="5905080"/>
              <a:ext cx="447480" cy="234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68720" y="5905080"/>
              <a:ext cx="43632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456200" y="593100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5.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51160" y="602460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$17.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160" y="6363720"/>
              <a:ext cx="35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Actua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81240" y="6035040"/>
              <a:ext cx="39168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36240" y="6000120"/>
              <a:ext cx="447840" cy="234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036240" y="6000120"/>
              <a:ext cx="43632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23720" y="602460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6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17240" y="612180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$15.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82600" y="4588560"/>
              <a:ext cx="4241880" cy="2269080"/>
            </a:xfrm>
            <a:prstGeom prst="roundRect">
              <a:avLst>
                <a:gd name="adj" fmla="val 286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43360" y="4558320"/>
              <a:ext cx="4230360" cy="2260440"/>
            </a:xfrm>
            <a:prstGeom prst="roundRect">
              <a:avLst>
                <a:gd name="adj" fmla="val 28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34880" y="4631760"/>
              <a:ext cx="34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Qual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05200" y="4809240"/>
              <a:ext cx="2518200" cy="160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9944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51592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6/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5640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2416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15080" y="647640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1/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076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23736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15384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3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39432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092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46956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8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0788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6412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57200" y="647640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2/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2072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8884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10748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4/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4580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0204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2068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9/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5900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1560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3208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/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972200" y="6415920"/>
              <a:ext cx="180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129160" y="6415920"/>
              <a:ext cx="1440" cy="60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046360" y="647640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5/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06800" y="6632640"/>
              <a:ext cx="45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FOC D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129160" y="641592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207640" y="63554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129160" y="618228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07640" y="61218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129160" y="595692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07640" y="58964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129160" y="572328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207640" y="56624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129160" y="549792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207640" y="54360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129160" y="526392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214840" y="52034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129160" y="5038920"/>
              <a:ext cx="44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214840" y="497808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129160" y="4804920"/>
              <a:ext cx="4464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214840" y="47444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5400000">
              <a:off x="8040240" y="5612040"/>
              <a:ext cx="86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Adj. Defects/KL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99440" y="6415920"/>
              <a:ext cx="2529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99440" y="6182280"/>
              <a:ext cx="2529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99440" y="5956920"/>
              <a:ext cx="2529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99440" y="5723280"/>
              <a:ext cx="2529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99440" y="5497920"/>
              <a:ext cx="2529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599440" y="5263920"/>
              <a:ext cx="2529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99440" y="5038920"/>
              <a:ext cx="2529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99440" y="4804920"/>
              <a:ext cx="2529360" cy="108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444720" y="5727600"/>
              <a:ext cx="5580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81040" y="5623560"/>
              <a:ext cx="5580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66800" y="5978520"/>
              <a:ext cx="5616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60760" y="4939200"/>
              <a:ext cx="56160" cy="4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99440" y="5749200"/>
              <a:ext cx="5148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114240" y="5749200"/>
              <a:ext cx="503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18240" y="5749200"/>
              <a:ext cx="503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21880" y="5749200"/>
              <a:ext cx="5032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25160" y="5749200"/>
              <a:ext cx="503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29160" y="5749200"/>
              <a:ext cx="1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05200" y="4809240"/>
              <a:ext cx="2518200" cy="16020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37360" y="5852880"/>
              <a:ext cx="391680" cy="19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93080" y="5818680"/>
              <a:ext cx="447480" cy="23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193080" y="5818680"/>
              <a:ext cx="43596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282000" y="584424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5.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65800" y="593964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5.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907160" y="6346800"/>
              <a:ext cx="58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(Normalize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05920" y="5402880"/>
              <a:ext cx="48132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61640" y="5367960"/>
              <a:ext cx="537120" cy="23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461640" y="5367960"/>
              <a:ext cx="52560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53440" y="539388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5.4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534360" y="548928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6.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651360" y="4874400"/>
              <a:ext cx="39168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607080" y="4839840"/>
              <a:ext cx="447480" cy="23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07080" y="4839840"/>
              <a:ext cx="43596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94200" y="486432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6.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82320" y="496080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12.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591680" y="6112800"/>
              <a:ext cx="39168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547040" y="6078240"/>
              <a:ext cx="447480" cy="234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47040" y="6078240"/>
              <a:ext cx="436320" cy="22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37040" y="610416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Lab 6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19760" y="61995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3.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1905120" y="19051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023920" y="1755720"/>
            <a:ext cx="6815160" cy="31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ing Baseline PI for New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 for new a project based on previou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 goal: 10%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PI that would be required to achieve “Productivity +10%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PI for size estimate of new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905120" y="19051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043000" y="1793880"/>
            <a:ext cx="67960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reference (completed) project into SLIM-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productivity of referenc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arget percent improvement in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PI until target productivity is displa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 is the reference baseline PI for a new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PI for estimated size of new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SLIM-Estimate PI calculator to adjust for complexity, skill se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" descr=""/>
          <p:cNvPicPr/>
          <p:nvPr/>
        </p:nvPicPr>
        <p:blipFill>
          <a:blip r:embed="rId2"/>
          <a:srcRect l="22217" t="5653" r="8887" b="70108"/>
          <a:stretch/>
        </p:blipFill>
        <p:spPr>
          <a:xfrm>
            <a:off x="2017800" y="2400480"/>
            <a:ext cx="6858000" cy="183960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5819760" y="3765600"/>
            <a:ext cx="635040" cy="368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6360840" y="3490920"/>
            <a:ext cx="135000" cy="227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17800" y="4233960"/>
            <a:ext cx="6858000" cy="1963800"/>
            <a:chOff x="2017800" y="4233960"/>
            <a:chExt cx="6858000" cy="1963800"/>
          </a:xfrm>
        </p:grpSpPr>
        <p:pic>
          <p:nvPicPr>
            <p:cNvPr id="947" name="" descr=""/>
            <p:cNvPicPr/>
            <p:nvPr/>
          </p:nvPicPr>
          <p:blipFill>
            <a:blip r:embed="rId3"/>
            <a:srcRect l="0" t="73500" r="31103" b="0"/>
            <a:stretch/>
          </p:blipFill>
          <p:spPr>
            <a:xfrm>
              <a:off x="2017800" y="4233960"/>
              <a:ext cx="6858000" cy="19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>
              <a:off x="5627880" y="4761000"/>
              <a:ext cx="635040" cy="368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07120" y="4908600"/>
              <a:ext cx="119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ctual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689720" y="4937040"/>
              <a:ext cx="711360" cy="8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6477120" y="289548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ference project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ane Randal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r. Project Manage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duct Developm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sys Hospit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" descr=""/>
          <p:cNvPicPr/>
          <p:nvPr/>
        </p:nvPicPr>
        <p:blipFill>
          <a:blip r:embed="rId2"/>
          <a:srcRect l="22217" t="5653" r="8887" b="70108"/>
          <a:stretch/>
        </p:blipFill>
        <p:spPr>
          <a:xfrm>
            <a:off x="2017800" y="2400480"/>
            <a:ext cx="6856200" cy="1842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5740560" y="3719520"/>
            <a:ext cx="78552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3"/>
          <a:srcRect l="0" t="73500" r="31103" b="0"/>
          <a:stretch/>
        </p:blipFill>
        <p:spPr>
          <a:xfrm>
            <a:off x="2021040" y="4221000"/>
            <a:ext cx="6854760" cy="197172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5553000" y="4672080"/>
            <a:ext cx="7844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514600" y="4800600"/>
            <a:ext cx="28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just PI until targ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ductivity is re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075280" y="4940280"/>
            <a:ext cx="376200" cy="155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4565520" y="4105440"/>
            <a:ext cx="1087560" cy="698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just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057400" y="2057400"/>
            <a:ext cx="6815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culate Baseline PI for New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size and PI of referenc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estimated size of new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89000" y="3741840"/>
            <a:ext cx="2990880" cy="21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472000" y="3741840"/>
            <a:ext cx="2990880" cy="21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989000" y="3949560"/>
            <a:ext cx="299088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472000" y="3949560"/>
            <a:ext cx="299088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989000" y="4734000"/>
            <a:ext cx="299088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472000" y="4734000"/>
            <a:ext cx="299088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989000" y="4941720"/>
            <a:ext cx="2990880" cy="5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472000" y="4941720"/>
            <a:ext cx="2990880" cy="570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063960" y="4152960"/>
            <a:ext cx="101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0,5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064960" y="4749840"/>
            <a:ext cx="248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nter Size of Estimated Project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062080" y="3755880"/>
            <a:ext cx="249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ter Size of Reference Project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138480" y="5146560"/>
            <a:ext cx="855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8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544720" y="3755880"/>
            <a:ext cx="232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ter PI of Reference Project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697800" y="4152960"/>
            <a:ext cx="7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544360" y="4749840"/>
            <a:ext cx="2954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valent PI for 98,000 M14SLOC i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675480" y="5153040"/>
            <a:ext cx="7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14.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011320" y="3718080"/>
            <a:ext cx="298764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011320" y="3941640"/>
            <a:ext cx="2941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011320" y="3941640"/>
            <a:ext cx="2941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011320" y="4492800"/>
            <a:ext cx="298764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965240" y="3718080"/>
            <a:ext cx="46080" cy="82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450040" y="3718080"/>
            <a:ext cx="44280" cy="82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011320" y="4711680"/>
            <a:ext cx="298764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952880" y="3763800"/>
            <a:ext cx="46080" cy="77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011320" y="4933800"/>
            <a:ext cx="2941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011320" y="4933800"/>
            <a:ext cx="294156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437680" y="3763800"/>
            <a:ext cx="44280" cy="77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11320" y="5486400"/>
            <a:ext cx="2987640" cy="4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965240" y="4711680"/>
            <a:ext cx="46080" cy="81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450040" y="4711680"/>
            <a:ext cx="44280" cy="81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952880" y="4757760"/>
            <a:ext cx="46080" cy="77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437680" y="4757760"/>
            <a:ext cx="44280" cy="77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494320" y="3718080"/>
            <a:ext cx="298764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494320" y="3941640"/>
            <a:ext cx="294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494320" y="3941640"/>
            <a:ext cx="29433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494320" y="4492800"/>
            <a:ext cx="298764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494320" y="4711680"/>
            <a:ext cx="298764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494320" y="4933800"/>
            <a:ext cx="294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94320" y="4933800"/>
            <a:ext cx="294336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494320" y="5486400"/>
            <a:ext cx="2987640" cy="4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2438280" y="1828800"/>
            <a:ext cx="5562720" cy="4876920"/>
          </a:xfrm>
          <a:prstGeom prst="roundRect">
            <a:avLst>
              <a:gd name="adj" fmla="val 2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587480" y="1941480"/>
            <a:ext cx="124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PI vs Effective SL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978280" y="2131920"/>
            <a:ext cx="4416120" cy="4087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987640" y="2139840"/>
            <a:ext cx="440676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987640" y="2149560"/>
            <a:ext cx="4406760" cy="792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987640" y="2157480"/>
            <a:ext cx="4406760" cy="936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987640" y="2166840"/>
            <a:ext cx="4406760" cy="792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987640" y="2174760"/>
            <a:ext cx="4406760" cy="9720"/>
          </a:xfrm>
          <a:prstGeom prst="rect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87640" y="2184480"/>
            <a:ext cx="4406760" cy="7920"/>
          </a:xfrm>
          <a:prstGeom prst="rect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987640" y="2192400"/>
            <a:ext cx="4406760" cy="9360"/>
          </a:xfrm>
          <a:prstGeom prst="rect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987640" y="2201760"/>
            <a:ext cx="4406760" cy="7920"/>
          </a:xfrm>
          <a:prstGeom prst="rect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987640" y="2209680"/>
            <a:ext cx="4406760" cy="9720"/>
          </a:xfrm>
          <a:prstGeom prst="rect">
            <a:avLst/>
          </a:prstGeom>
          <a:solidFill>
            <a:srgbClr val="f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987640" y="2219400"/>
            <a:ext cx="4406760" cy="7920"/>
          </a:xfrm>
          <a:prstGeom prst="rect">
            <a:avLst/>
          </a:prstGeom>
          <a:solidFill>
            <a:srgbClr val="f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987640" y="2227320"/>
            <a:ext cx="4406760" cy="7920"/>
          </a:xfrm>
          <a:prstGeom prst="rect">
            <a:avLst/>
          </a:prstGeom>
          <a:solidFill>
            <a:srgbClr val="f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87640" y="2235240"/>
            <a:ext cx="4406760" cy="9360"/>
          </a:xfrm>
          <a:prstGeom prst="rect">
            <a:avLst/>
          </a:prstGeom>
          <a:solidFill>
            <a:srgbClr val="f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987640" y="2244600"/>
            <a:ext cx="4406760" cy="7920"/>
          </a:xfrm>
          <a:prstGeom prst="rect">
            <a:avLst/>
          </a:prstGeom>
          <a:solidFill>
            <a:srgbClr val="f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87640" y="2252520"/>
            <a:ext cx="4406760" cy="9720"/>
          </a:xfrm>
          <a:prstGeom prst="rect">
            <a:avLst/>
          </a:prstGeom>
          <a:solidFill>
            <a:srgbClr val="f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987640" y="2262240"/>
            <a:ext cx="4406760" cy="7920"/>
          </a:xfrm>
          <a:prstGeom prst="rect">
            <a:avLst/>
          </a:prstGeom>
          <a:solidFill>
            <a:srgbClr val="f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987640" y="2270160"/>
            <a:ext cx="4406760" cy="9360"/>
          </a:xfrm>
          <a:prstGeom prst="rect">
            <a:avLst/>
          </a:prstGeom>
          <a:solidFill>
            <a:srgbClr val="f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987640" y="2279520"/>
            <a:ext cx="4406760" cy="7920"/>
          </a:xfrm>
          <a:prstGeom prst="rect">
            <a:avLst/>
          </a:prstGeom>
          <a:solidFill>
            <a:srgbClr val="f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987640" y="2287440"/>
            <a:ext cx="4406760" cy="9720"/>
          </a:xfrm>
          <a:prstGeom prst="rect">
            <a:avLst/>
          </a:prstGeom>
          <a:solidFill>
            <a:srgbClr val="f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987640" y="2297160"/>
            <a:ext cx="4406760" cy="7920"/>
          </a:xfrm>
          <a:prstGeom prst="rect">
            <a:avLst/>
          </a:prstGeom>
          <a:solidFill>
            <a:srgbClr val="f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987640" y="2305080"/>
            <a:ext cx="4406760" cy="9360"/>
          </a:xfrm>
          <a:prstGeom prst="rect">
            <a:avLst/>
          </a:prstGeom>
          <a:solidFill>
            <a:srgbClr val="f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987640" y="2314440"/>
            <a:ext cx="4406760" cy="7920"/>
          </a:xfrm>
          <a:prstGeom prst="rect">
            <a:avLst/>
          </a:prstGeom>
          <a:solidFill>
            <a:srgbClr val="f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987640" y="2322360"/>
            <a:ext cx="4406760" cy="7920"/>
          </a:xfrm>
          <a:prstGeom prst="rect">
            <a:avLst/>
          </a:prstGeom>
          <a:solidFill>
            <a:srgbClr val="f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987640" y="2330280"/>
            <a:ext cx="4406760" cy="9720"/>
          </a:xfrm>
          <a:prstGeom prst="rect">
            <a:avLst/>
          </a:prstGeom>
          <a:solidFill>
            <a:srgbClr val="f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987640" y="2340000"/>
            <a:ext cx="4406760" cy="7920"/>
          </a:xfrm>
          <a:prstGeom prst="rect">
            <a:avLst/>
          </a:prstGeom>
          <a:solidFill>
            <a:srgbClr val="f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987640" y="2347920"/>
            <a:ext cx="4406760" cy="9360"/>
          </a:xfrm>
          <a:prstGeom prst="rect">
            <a:avLst/>
          </a:prstGeom>
          <a:solidFill>
            <a:srgbClr val="f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987640" y="2357280"/>
            <a:ext cx="4406760" cy="7920"/>
          </a:xfrm>
          <a:prstGeom prst="rect">
            <a:avLst/>
          </a:prstGeom>
          <a:solidFill>
            <a:srgbClr val="f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87640" y="2365200"/>
            <a:ext cx="4406760" cy="9720"/>
          </a:xfrm>
          <a:prstGeom prst="rect">
            <a:avLst/>
          </a:prstGeom>
          <a:solidFill>
            <a:srgbClr val="f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87640" y="2374920"/>
            <a:ext cx="4406760" cy="7920"/>
          </a:xfrm>
          <a:prstGeom prst="rect">
            <a:avLst/>
          </a:prstGeom>
          <a:solidFill>
            <a:srgbClr val="f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987640" y="2382840"/>
            <a:ext cx="4406760" cy="9360"/>
          </a:xfrm>
          <a:prstGeom prst="rect">
            <a:avLst/>
          </a:prstGeom>
          <a:solidFill>
            <a:srgbClr val="f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987640" y="2392200"/>
            <a:ext cx="4406760" cy="8280"/>
          </a:xfrm>
          <a:prstGeom prst="rect">
            <a:avLst/>
          </a:prstGeom>
          <a:solidFill>
            <a:srgbClr val="f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987640" y="2400480"/>
            <a:ext cx="4406760" cy="9360"/>
          </a:xfrm>
          <a:prstGeom prst="rect">
            <a:avLst/>
          </a:prstGeom>
          <a:solidFill>
            <a:srgbClr val="f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987640" y="2409840"/>
            <a:ext cx="4406760" cy="7920"/>
          </a:xfrm>
          <a:prstGeom prst="rect">
            <a:avLst/>
          </a:prstGeom>
          <a:solidFill>
            <a:srgbClr val="f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987640" y="2417760"/>
            <a:ext cx="4406760" cy="7920"/>
          </a:xfrm>
          <a:prstGeom prst="rect">
            <a:avLst/>
          </a:prstGeom>
          <a:solidFill>
            <a:srgbClr val="f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987640" y="2425680"/>
            <a:ext cx="4406760" cy="9720"/>
          </a:xfrm>
          <a:prstGeom prst="rect">
            <a:avLst/>
          </a:prstGeom>
          <a:solidFill>
            <a:srgbClr val="f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87640" y="2435400"/>
            <a:ext cx="4406760" cy="7920"/>
          </a:xfrm>
          <a:prstGeom prst="rect">
            <a:avLst/>
          </a:prstGeom>
          <a:solidFill>
            <a:srgbClr val="f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987640" y="2443320"/>
            <a:ext cx="4406760" cy="9360"/>
          </a:xfrm>
          <a:prstGeom prst="rect">
            <a:avLst/>
          </a:prstGeom>
          <a:solidFill>
            <a:srgbClr val="f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987640" y="2452680"/>
            <a:ext cx="4406760" cy="7920"/>
          </a:xfrm>
          <a:prstGeom prst="rect">
            <a:avLst/>
          </a:prstGeom>
          <a:solidFill>
            <a:srgbClr val="f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987640" y="2460600"/>
            <a:ext cx="4406760" cy="9720"/>
          </a:xfrm>
          <a:prstGeom prst="rect">
            <a:avLst/>
          </a:prstGeom>
          <a:solidFill>
            <a:srgbClr val="f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87640" y="2470320"/>
            <a:ext cx="4406760" cy="7920"/>
          </a:xfrm>
          <a:prstGeom prst="rect">
            <a:avLst/>
          </a:prstGeom>
          <a:solidFill>
            <a:srgbClr val="f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987640" y="2478240"/>
            <a:ext cx="4406760" cy="9360"/>
          </a:xfrm>
          <a:prstGeom prst="rect">
            <a:avLst/>
          </a:prstGeom>
          <a:solidFill>
            <a:srgbClr val="f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987640" y="2487600"/>
            <a:ext cx="4406760" cy="7920"/>
          </a:xfrm>
          <a:prstGeom prst="rect">
            <a:avLst/>
          </a:prstGeom>
          <a:solidFill>
            <a:srgbClr val="f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987640" y="2495520"/>
            <a:ext cx="4406760" cy="972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987640" y="2505240"/>
            <a:ext cx="4406760" cy="792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987640" y="2513160"/>
            <a:ext cx="4406760" cy="936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987640" y="2522520"/>
            <a:ext cx="4406760" cy="792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987640" y="2530440"/>
            <a:ext cx="4406760" cy="7920"/>
          </a:xfrm>
          <a:prstGeom prst="rect">
            <a:avLst/>
          </a:prstGeom>
          <a:solidFill>
            <a:srgbClr val="f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987640" y="2538360"/>
            <a:ext cx="4406760" cy="9720"/>
          </a:xfrm>
          <a:prstGeom prst="rect">
            <a:avLst/>
          </a:prstGeom>
          <a:solidFill>
            <a:srgbClr val="f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987640" y="2548080"/>
            <a:ext cx="4406760" cy="7920"/>
          </a:xfrm>
          <a:prstGeom prst="rect">
            <a:avLst/>
          </a:prstGeom>
          <a:solidFill>
            <a:srgbClr val="f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987640" y="2556000"/>
            <a:ext cx="4406760" cy="9360"/>
          </a:xfrm>
          <a:prstGeom prst="rect">
            <a:avLst/>
          </a:prstGeom>
          <a:solidFill>
            <a:srgbClr val="f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87640" y="2565360"/>
            <a:ext cx="4406760" cy="7920"/>
          </a:xfrm>
          <a:prstGeom prst="rect">
            <a:avLst/>
          </a:prstGeom>
          <a:solidFill>
            <a:srgbClr val="f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987640" y="2573280"/>
            <a:ext cx="4406760" cy="9720"/>
          </a:xfrm>
          <a:prstGeom prst="rect">
            <a:avLst/>
          </a:prstGeom>
          <a:solidFill>
            <a:srgbClr val="f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987640" y="2583000"/>
            <a:ext cx="4406760" cy="7920"/>
          </a:xfrm>
          <a:prstGeom prst="rect">
            <a:avLst/>
          </a:prstGeom>
          <a:solidFill>
            <a:srgbClr val="f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987640" y="2590920"/>
            <a:ext cx="4406760" cy="9360"/>
          </a:xfrm>
          <a:prstGeom prst="rect">
            <a:avLst/>
          </a:prstGeom>
          <a:solidFill>
            <a:srgbClr val="f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87640" y="2600280"/>
            <a:ext cx="4406760" cy="7920"/>
          </a:xfrm>
          <a:prstGeom prst="rect">
            <a:avLst/>
          </a:prstGeom>
          <a:solidFill>
            <a:srgbClr val="f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987640" y="2608200"/>
            <a:ext cx="4406760" cy="9720"/>
          </a:xfrm>
          <a:prstGeom prst="rect">
            <a:avLst/>
          </a:prstGeom>
          <a:solidFill>
            <a:srgbClr val="f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987640" y="2617920"/>
            <a:ext cx="4406760" cy="7920"/>
          </a:xfrm>
          <a:prstGeom prst="rect">
            <a:avLst/>
          </a:prstGeom>
          <a:solidFill>
            <a:srgbClr val="f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987640" y="2625840"/>
            <a:ext cx="4406760" cy="7920"/>
          </a:xfrm>
          <a:prstGeom prst="rect">
            <a:avLst/>
          </a:prstGeom>
          <a:solidFill>
            <a:srgbClr val="e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987640" y="2633760"/>
            <a:ext cx="4406760" cy="9360"/>
          </a:xfrm>
          <a:prstGeom prst="rect">
            <a:avLst/>
          </a:prstGeom>
          <a:solidFill>
            <a:srgbClr val="e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987640" y="2643120"/>
            <a:ext cx="4406760" cy="7920"/>
          </a:xfrm>
          <a:prstGeom prst="rect">
            <a:avLst/>
          </a:prstGeom>
          <a:solidFill>
            <a:srgbClr val="e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987640" y="2651040"/>
            <a:ext cx="4406760" cy="9720"/>
          </a:xfrm>
          <a:prstGeom prst="rect">
            <a:avLst/>
          </a:prstGeom>
          <a:solidFill>
            <a:srgbClr val="e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987640" y="2660760"/>
            <a:ext cx="4406760" cy="7920"/>
          </a:xfrm>
          <a:prstGeom prst="rect">
            <a:avLst/>
          </a:prstGeom>
          <a:solidFill>
            <a:srgbClr val="e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987640" y="2668680"/>
            <a:ext cx="4406760" cy="9360"/>
          </a:xfrm>
          <a:prstGeom prst="rect">
            <a:avLst/>
          </a:prstGeom>
          <a:solidFill>
            <a:srgbClr val="e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987640" y="2678040"/>
            <a:ext cx="4406760" cy="7920"/>
          </a:xfrm>
          <a:prstGeom prst="rect">
            <a:avLst/>
          </a:prstGeom>
          <a:solidFill>
            <a:srgbClr val="e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987640" y="2685960"/>
            <a:ext cx="4406760" cy="9720"/>
          </a:xfrm>
          <a:prstGeom prst="rect">
            <a:avLst/>
          </a:prstGeom>
          <a:solidFill>
            <a:srgbClr val="e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987640" y="2695680"/>
            <a:ext cx="4406760" cy="7920"/>
          </a:xfrm>
          <a:prstGeom prst="rect">
            <a:avLst/>
          </a:prstGeom>
          <a:solidFill>
            <a:srgbClr val="e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987640" y="2703600"/>
            <a:ext cx="4406760" cy="9360"/>
          </a:xfrm>
          <a:prstGeom prst="rect">
            <a:avLst/>
          </a:prstGeom>
          <a:solidFill>
            <a:srgbClr val="e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987640" y="2712960"/>
            <a:ext cx="4406760" cy="7920"/>
          </a:xfrm>
          <a:prstGeom prst="rect">
            <a:avLst/>
          </a:prstGeom>
          <a:solidFill>
            <a:srgbClr val="e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987640" y="2720880"/>
            <a:ext cx="4406760" cy="7920"/>
          </a:xfrm>
          <a:prstGeom prst="rect">
            <a:avLst/>
          </a:prstGeom>
          <a:solidFill>
            <a:srgbClr val="e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987640" y="2728800"/>
            <a:ext cx="4406760" cy="9720"/>
          </a:xfrm>
          <a:prstGeom prst="rect">
            <a:avLst/>
          </a:prstGeom>
          <a:solidFill>
            <a:srgbClr val="e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987640" y="2738520"/>
            <a:ext cx="4406760" cy="7920"/>
          </a:xfrm>
          <a:prstGeom prst="rect">
            <a:avLst/>
          </a:prstGeom>
          <a:solidFill>
            <a:srgbClr val="e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87640" y="2746440"/>
            <a:ext cx="4406760" cy="9360"/>
          </a:xfrm>
          <a:prstGeom prst="rect">
            <a:avLst/>
          </a:prstGeom>
          <a:solidFill>
            <a:srgbClr val="e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987640" y="2755800"/>
            <a:ext cx="4406760" cy="792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987640" y="2763720"/>
            <a:ext cx="4406760" cy="972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987640" y="2773440"/>
            <a:ext cx="4406760" cy="792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987640" y="2781360"/>
            <a:ext cx="4406760" cy="936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987640" y="2790720"/>
            <a:ext cx="4406760" cy="7920"/>
          </a:xfrm>
          <a:prstGeom prst="rect">
            <a:avLst/>
          </a:prstGeom>
          <a:solidFill>
            <a:srgbClr val="e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987640" y="2798640"/>
            <a:ext cx="4406760" cy="9720"/>
          </a:xfrm>
          <a:prstGeom prst="rect">
            <a:avLst/>
          </a:prstGeom>
          <a:solidFill>
            <a:srgbClr val="e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987640" y="2808360"/>
            <a:ext cx="4406760" cy="7920"/>
          </a:xfrm>
          <a:prstGeom prst="rect">
            <a:avLst/>
          </a:prstGeom>
          <a:solidFill>
            <a:srgbClr val="e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987640" y="2816280"/>
            <a:ext cx="4406760" cy="7920"/>
          </a:xfrm>
          <a:prstGeom prst="rect">
            <a:avLst/>
          </a:prstGeom>
          <a:solidFill>
            <a:srgbClr val="e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987640" y="2824200"/>
            <a:ext cx="4406760" cy="9360"/>
          </a:xfrm>
          <a:prstGeom prst="rect">
            <a:avLst/>
          </a:prstGeom>
          <a:solidFill>
            <a:srgbClr val="e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87640" y="2833560"/>
            <a:ext cx="4406760" cy="7920"/>
          </a:xfrm>
          <a:prstGeom prst="rect">
            <a:avLst/>
          </a:prstGeom>
          <a:solidFill>
            <a:srgbClr val="e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987640" y="2841480"/>
            <a:ext cx="4406760" cy="9720"/>
          </a:xfrm>
          <a:prstGeom prst="rect">
            <a:avLst/>
          </a:prstGeom>
          <a:solidFill>
            <a:srgbClr val="e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987640" y="2851200"/>
            <a:ext cx="4406760" cy="7920"/>
          </a:xfrm>
          <a:prstGeom prst="rect">
            <a:avLst/>
          </a:prstGeom>
          <a:solidFill>
            <a:srgbClr val="e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987640" y="2859120"/>
            <a:ext cx="4406760" cy="9360"/>
          </a:xfrm>
          <a:prstGeom prst="rect">
            <a:avLst/>
          </a:prstGeom>
          <a:solidFill>
            <a:srgbClr val="e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987640" y="2868480"/>
            <a:ext cx="4406760" cy="7920"/>
          </a:xfrm>
          <a:prstGeom prst="rect">
            <a:avLst/>
          </a:prstGeom>
          <a:solidFill>
            <a:srgbClr val="e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7640" y="2876400"/>
            <a:ext cx="4406760" cy="9720"/>
          </a:xfrm>
          <a:prstGeom prst="rect">
            <a:avLst/>
          </a:prstGeom>
          <a:solidFill>
            <a:srgbClr val="e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987640" y="2886120"/>
            <a:ext cx="4406760" cy="7920"/>
          </a:xfrm>
          <a:prstGeom prst="rect">
            <a:avLst/>
          </a:prstGeom>
          <a:solidFill>
            <a:srgbClr val="e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987640" y="2894040"/>
            <a:ext cx="4406760" cy="9360"/>
          </a:xfrm>
          <a:prstGeom prst="rect">
            <a:avLst/>
          </a:prstGeom>
          <a:solidFill>
            <a:srgbClr val="e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987640" y="2903400"/>
            <a:ext cx="4406760" cy="7920"/>
          </a:xfrm>
          <a:prstGeom prst="rect">
            <a:avLst/>
          </a:prstGeom>
          <a:solidFill>
            <a:srgbClr val="e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987640" y="2911320"/>
            <a:ext cx="4406760" cy="9720"/>
          </a:xfrm>
          <a:prstGeom prst="rect">
            <a:avLst/>
          </a:prstGeom>
          <a:solidFill>
            <a:srgbClr val="e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987640" y="2921040"/>
            <a:ext cx="4406760" cy="7920"/>
          </a:xfrm>
          <a:prstGeom prst="rect">
            <a:avLst/>
          </a:prstGeom>
          <a:solidFill>
            <a:srgbClr val="e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987640" y="2928960"/>
            <a:ext cx="4406760" cy="7920"/>
          </a:xfrm>
          <a:prstGeom prst="rect">
            <a:avLst/>
          </a:prstGeom>
          <a:solidFill>
            <a:srgbClr val="e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987640" y="2936880"/>
            <a:ext cx="4406760" cy="9360"/>
          </a:xfrm>
          <a:prstGeom prst="rect">
            <a:avLst/>
          </a:prstGeom>
          <a:solidFill>
            <a:srgbClr val="e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7640" y="2946240"/>
            <a:ext cx="4406760" cy="792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987640" y="2954160"/>
            <a:ext cx="4406760" cy="972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987640" y="2963880"/>
            <a:ext cx="4406760" cy="792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987640" y="2971800"/>
            <a:ext cx="4406760" cy="936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987640" y="2981160"/>
            <a:ext cx="4406760" cy="8280"/>
          </a:xfrm>
          <a:prstGeom prst="rect">
            <a:avLst/>
          </a:prstGeom>
          <a:solidFill>
            <a:srgbClr val="e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87640" y="2989440"/>
            <a:ext cx="4406760" cy="9360"/>
          </a:xfrm>
          <a:prstGeom prst="rect">
            <a:avLst/>
          </a:prstGeom>
          <a:solidFill>
            <a:srgbClr val="e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987640" y="2998800"/>
            <a:ext cx="4406760" cy="7920"/>
          </a:xfrm>
          <a:prstGeom prst="rect">
            <a:avLst/>
          </a:prstGeom>
          <a:solidFill>
            <a:srgbClr val="e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987640" y="3006720"/>
            <a:ext cx="4406760" cy="9360"/>
          </a:xfrm>
          <a:prstGeom prst="rect">
            <a:avLst/>
          </a:prstGeom>
          <a:solidFill>
            <a:srgbClr val="e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987640" y="3016080"/>
            <a:ext cx="4406760" cy="8280"/>
          </a:xfrm>
          <a:prstGeom prst="rect">
            <a:avLst/>
          </a:prstGeom>
          <a:solidFill>
            <a:srgbClr val="e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987640" y="3024360"/>
            <a:ext cx="4406760" cy="7920"/>
          </a:xfrm>
          <a:prstGeom prst="rect">
            <a:avLst/>
          </a:prstGeom>
          <a:solidFill>
            <a:srgbClr val="e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987640" y="3032280"/>
            <a:ext cx="4406760" cy="9360"/>
          </a:xfrm>
          <a:prstGeom prst="rect">
            <a:avLst/>
          </a:prstGeom>
          <a:solidFill>
            <a:srgbClr val="e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987640" y="3041640"/>
            <a:ext cx="4406760" cy="7920"/>
          </a:xfrm>
          <a:prstGeom prst="rect">
            <a:avLst/>
          </a:prstGeom>
          <a:solidFill>
            <a:srgbClr val="e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987640" y="3049560"/>
            <a:ext cx="4406760" cy="9720"/>
          </a:xfrm>
          <a:prstGeom prst="rect">
            <a:avLst/>
          </a:prstGeom>
          <a:solidFill>
            <a:srgbClr val="e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987640" y="3059280"/>
            <a:ext cx="4406760" cy="7920"/>
          </a:xfrm>
          <a:prstGeom prst="rect">
            <a:avLst/>
          </a:prstGeom>
          <a:solidFill>
            <a:srgbClr val="e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987640" y="3067200"/>
            <a:ext cx="4406760" cy="9360"/>
          </a:xfrm>
          <a:prstGeom prst="rect">
            <a:avLst/>
          </a:prstGeom>
          <a:solidFill>
            <a:srgbClr val="e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987640" y="3076560"/>
            <a:ext cx="4406760" cy="7920"/>
          </a:xfrm>
          <a:prstGeom prst="rect">
            <a:avLst/>
          </a:prstGeom>
          <a:solidFill>
            <a:srgbClr val="e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987640" y="3084480"/>
            <a:ext cx="4406760" cy="9720"/>
          </a:xfrm>
          <a:prstGeom prst="rect">
            <a:avLst/>
          </a:prstGeom>
          <a:solidFill>
            <a:srgbClr val="e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987640" y="3094200"/>
            <a:ext cx="4406760" cy="7920"/>
          </a:xfrm>
          <a:prstGeom prst="rect">
            <a:avLst/>
          </a:prstGeom>
          <a:solidFill>
            <a:srgbClr val="e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987640" y="3102120"/>
            <a:ext cx="4406760" cy="9360"/>
          </a:xfrm>
          <a:prstGeom prst="rect">
            <a:avLst/>
          </a:prstGeom>
          <a:solidFill>
            <a:srgbClr val="e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987640" y="3111480"/>
            <a:ext cx="4406760" cy="7920"/>
          </a:xfrm>
          <a:prstGeom prst="rect">
            <a:avLst/>
          </a:prstGeom>
          <a:solidFill>
            <a:srgbClr val="e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987640" y="3119400"/>
            <a:ext cx="4406760" cy="7920"/>
          </a:xfrm>
          <a:prstGeom prst="rect">
            <a:avLst/>
          </a:prstGeom>
          <a:solidFill>
            <a:srgbClr val="e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87640" y="3127320"/>
            <a:ext cx="4406760" cy="9720"/>
          </a:xfrm>
          <a:prstGeom prst="rect">
            <a:avLst/>
          </a:prstGeom>
          <a:solidFill>
            <a:srgbClr val="e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987640" y="3137040"/>
            <a:ext cx="4406760" cy="7920"/>
          </a:xfrm>
          <a:prstGeom prst="rect">
            <a:avLst/>
          </a:prstGeom>
          <a:solidFill>
            <a:srgbClr val="d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987640" y="3144960"/>
            <a:ext cx="4406760" cy="9360"/>
          </a:xfrm>
          <a:prstGeom prst="rect">
            <a:avLst/>
          </a:prstGeom>
          <a:solidFill>
            <a:srgbClr val="d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987640" y="3154320"/>
            <a:ext cx="4406760" cy="7920"/>
          </a:xfrm>
          <a:prstGeom prst="rect">
            <a:avLst/>
          </a:prstGeom>
          <a:solidFill>
            <a:srgbClr val="d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987640" y="3162240"/>
            <a:ext cx="4406760" cy="9720"/>
          </a:xfrm>
          <a:prstGeom prst="rect">
            <a:avLst/>
          </a:prstGeom>
          <a:solidFill>
            <a:srgbClr val="d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987640" y="3171960"/>
            <a:ext cx="4406760" cy="7920"/>
          </a:xfrm>
          <a:prstGeom prst="rect">
            <a:avLst/>
          </a:prstGeom>
          <a:solidFill>
            <a:srgbClr val="d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987640" y="3179880"/>
            <a:ext cx="4406760" cy="9360"/>
          </a:xfrm>
          <a:prstGeom prst="rect">
            <a:avLst/>
          </a:prstGeom>
          <a:solidFill>
            <a:srgbClr val="d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987640" y="3189240"/>
            <a:ext cx="4406760" cy="7920"/>
          </a:xfrm>
          <a:prstGeom prst="rect">
            <a:avLst/>
          </a:prstGeom>
          <a:solidFill>
            <a:srgbClr val="d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987640" y="3197160"/>
            <a:ext cx="4406760" cy="9720"/>
          </a:xfrm>
          <a:prstGeom prst="rect">
            <a:avLst/>
          </a:prstGeom>
          <a:solidFill>
            <a:srgbClr val="d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987640" y="3206880"/>
            <a:ext cx="4406760" cy="7920"/>
          </a:xfrm>
          <a:prstGeom prst="rect">
            <a:avLst/>
          </a:prstGeom>
          <a:solidFill>
            <a:srgbClr val="d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987640" y="3214800"/>
            <a:ext cx="4406760" cy="7920"/>
          </a:xfrm>
          <a:prstGeom prst="rect">
            <a:avLst/>
          </a:prstGeom>
          <a:solidFill>
            <a:srgbClr val="d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987640" y="3222720"/>
            <a:ext cx="4406760" cy="9360"/>
          </a:xfrm>
          <a:prstGeom prst="rect">
            <a:avLst/>
          </a:prstGeom>
          <a:solidFill>
            <a:srgbClr val="d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987640" y="3232080"/>
            <a:ext cx="4406760" cy="7920"/>
          </a:xfrm>
          <a:prstGeom prst="rect">
            <a:avLst/>
          </a:prstGeom>
          <a:solidFill>
            <a:srgbClr val="d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987640" y="3240000"/>
            <a:ext cx="4406760" cy="9720"/>
          </a:xfrm>
          <a:prstGeom prst="rect">
            <a:avLst/>
          </a:prstGeom>
          <a:solidFill>
            <a:srgbClr val="d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987640" y="3249720"/>
            <a:ext cx="4406760" cy="7920"/>
          </a:xfrm>
          <a:prstGeom prst="rect">
            <a:avLst/>
          </a:prstGeom>
          <a:solidFill>
            <a:srgbClr val="d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987640" y="3257640"/>
            <a:ext cx="4406760" cy="9360"/>
          </a:xfrm>
          <a:prstGeom prst="rect">
            <a:avLst/>
          </a:prstGeom>
          <a:solidFill>
            <a:srgbClr val="d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987640" y="3267000"/>
            <a:ext cx="4406760" cy="7920"/>
          </a:xfrm>
          <a:prstGeom prst="rect">
            <a:avLst/>
          </a:prstGeom>
          <a:solidFill>
            <a:srgbClr val="d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987640" y="3274920"/>
            <a:ext cx="4406760" cy="9720"/>
          </a:xfrm>
          <a:prstGeom prst="rect">
            <a:avLst/>
          </a:prstGeom>
          <a:solidFill>
            <a:srgbClr val="d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987640" y="3284640"/>
            <a:ext cx="4406760" cy="7920"/>
          </a:xfrm>
          <a:prstGeom prst="rect">
            <a:avLst/>
          </a:prstGeom>
          <a:solidFill>
            <a:srgbClr val="d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987640" y="3292560"/>
            <a:ext cx="4406760" cy="9360"/>
          </a:xfrm>
          <a:prstGeom prst="rect">
            <a:avLst/>
          </a:prstGeom>
          <a:solidFill>
            <a:srgbClr val="d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987640" y="3301920"/>
            <a:ext cx="4406760" cy="7920"/>
          </a:xfrm>
          <a:prstGeom prst="rect">
            <a:avLst/>
          </a:prstGeom>
          <a:solidFill>
            <a:srgbClr val="d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87640" y="3309840"/>
            <a:ext cx="4406760" cy="9720"/>
          </a:xfrm>
          <a:prstGeom prst="rect">
            <a:avLst/>
          </a:prstGeom>
          <a:solidFill>
            <a:srgbClr val="d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87640" y="3319560"/>
            <a:ext cx="4406760" cy="7920"/>
          </a:xfrm>
          <a:prstGeom prst="rect">
            <a:avLst/>
          </a:prstGeom>
          <a:solidFill>
            <a:srgbClr val="d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987640" y="3327480"/>
            <a:ext cx="4406760" cy="7920"/>
          </a:xfrm>
          <a:prstGeom prst="rect">
            <a:avLst/>
          </a:prstGeom>
          <a:solidFill>
            <a:srgbClr val="d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987640" y="3335400"/>
            <a:ext cx="4406760" cy="936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987640" y="3344760"/>
            <a:ext cx="4406760" cy="792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987640" y="3352680"/>
            <a:ext cx="4406760" cy="972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987640" y="3362400"/>
            <a:ext cx="4406760" cy="7920"/>
          </a:xfrm>
          <a:prstGeom prst="rect">
            <a:avLst/>
          </a:pr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987640" y="3370320"/>
            <a:ext cx="4406760" cy="9360"/>
          </a:xfrm>
          <a:prstGeom prst="rect">
            <a:avLst/>
          </a:pr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987640" y="3379680"/>
            <a:ext cx="4406760" cy="7920"/>
          </a:xfrm>
          <a:prstGeom prst="rect">
            <a:avLst/>
          </a:pr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987640" y="3387600"/>
            <a:ext cx="4406760" cy="9720"/>
          </a:xfrm>
          <a:prstGeom prst="rect">
            <a:avLst/>
          </a:pr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987640" y="3397320"/>
            <a:ext cx="4406760" cy="7920"/>
          </a:xfrm>
          <a:prstGeom prst="rect">
            <a:avLst/>
          </a:prstGeom>
          <a:solidFill>
            <a:srgbClr val="d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987640" y="3405240"/>
            <a:ext cx="4406760" cy="9360"/>
          </a:xfrm>
          <a:prstGeom prst="rect">
            <a:avLst/>
          </a:prstGeom>
          <a:solidFill>
            <a:srgbClr val="d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987640" y="3414600"/>
            <a:ext cx="4406760" cy="7920"/>
          </a:xfrm>
          <a:prstGeom prst="rect">
            <a:avLst/>
          </a:prstGeom>
          <a:solidFill>
            <a:srgbClr val="d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987640" y="3422520"/>
            <a:ext cx="4406760" cy="7920"/>
          </a:xfrm>
          <a:prstGeom prst="rect">
            <a:avLst/>
          </a:prstGeom>
          <a:solidFill>
            <a:srgbClr val="d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987640" y="3430440"/>
            <a:ext cx="4406760" cy="9720"/>
          </a:xfrm>
          <a:prstGeom prst="rect">
            <a:avLst/>
          </a:prstGeom>
          <a:solidFill>
            <a:srgbClr val="d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987640" y="3440160"/>
            <a:ext cx="4406760" cy="7920"/>
          </a:xfrm>
          <a:prstGeom prst="rect">
            <a:avLst/>
          </a:prstGeom>
          <a:solidFill>
            <a:srgbClr val="d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987640" y="3448080"/>
            <a:ext cx="4406760" cy="9360"/>
          </a:xfrm>
          <a:prstGeom prst="rect">
            <a:avLst/>
          </a:prstGeom>
          <a:solidFill>
            <a:srgbClr val="d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987640" y="3457440"/>
            <a:ext cx="4406760" cy="7920"/>
          </a:xfrm>
          <a:prstGeom prst="rect">
            <a:avLst/>
          </a:prstGeom>
          <a:solidFill>
            <a:srgbClr val="d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987640" y="3465360"/>
            <a:ext cx="4406760" cy="9720"/>
          </a:xfrm>
          <a:prstGeom prst="rect">
            <a:avLst/>
          </a:prstGeom>
          <a:solidFill>
            <a:srgbClr val="d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987640" y="3475080"/>
            <a:ext cx="4406760" cy="7920"/>
          </a:xfrm>
          <a:prstGeom prst="rect">
            <a:avLst/>
          </a:prstGeom>
          <a:solidFill>
            <a:srgbClr val="d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987640" y="3483000"/>
            <a:ext cx="4406760" cy="9360"/>
          </a:xfrm>
          <a:prstGeom prst="rect">
            <a:avLst/>
          </a:prstGeom>
          <a:solidFill>
            <a:srgbClr val="d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987640" y="3492360"/>
            <a:ext cx="4406760" cy="7920"/>
          </a:xfrm>
          <a:prstGeom prst="rect">
            <a:avLst/>
          </a:prstGeom>
          <a:solidFill>
            <a:srgbClr val="d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987640" y="3500280"/>
            <a:ext cx="4406760" cy="9720"/>
          </a:xfrm>
          <a:prstGeom prst="rect">
            <a:avLst/>
          </a:prstGeom>
          <a:solidFill>
            <a:srgbClr val="d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987640" y="3510000"/>
            <a:ext cx="4406760" cy="7920"/>
          </a:xfrm>
          <a:prstGeom prst="rect">
            <a:avLst/>
          </a:prstGeom>
          <a:solidFill>
            <a:srgbClr val="d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987640" y="3517920"/>
            <a:ext cx="4406760" cy="7920"/>
          </a:xfrm>
          <a:prstGeom prst="rect">
            <a:avLst/>
          </a:prstGeom>
          <a:solidFill>
            <a:srgbClr val="d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987640" y="3525840"/>
            <a:ext cx="4406760" cy="9360"/>
          </a:xfrm>
          <a:prstGeom prst="rect">
            <a:avLst/>
          </a:prstGeom>
          <a:solidFill>
            <a:srgbClr val="d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987640" y="3535200"/>
            <a:ext cx="4406760" cy="8280"/>
          </a:xfrm>
          <a:prstGeom prst="rect">
            <a:avLst/>
          </a:prstGeom>
          <a:solidFill>
            <a:srgbClr val="d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987640" y="3543480"/>
            <a:ext cx="4406760" cy="9360"/>
          </a:xfrm>
          <a:prstGeom prst="rect">
            <a:avLst/>
          </a:prstGeom>
          <a:solidFill>
            <a:srgbClr val="d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87640" y="3552840"/>
            <a:ext cx="4406760" cy="7920"/>
          </a:xfrm>
          <a:prstGeom prst="rect">
            <a:avLst/>
          </a:prstGeom>
          <a:solidFill>
            <a:srgbClr val="d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987640" y="3560760"/>
            <a:ext cx="4406760" cy="9360"/>
          </a:xfrm>
          <a:prstGeom prst="rect">
            <a:avLst/>
          </a:prstGeom>
          <a:solidFill>
            <a:srgbClr val="d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987640" y="3570120"/>
            <a:ext cx="4406760" cy="8280"/>
          </a:xfrm>
          <a:prstGeom prst="rect">
            <a:avLst/>
          </a:prstGeom>
          <a:solidFill>
            <a:srgbClr val="d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987640" y="3578400"/>
            <a:ext cx="4406760" cy="9360"/>
          </a:xfrm>
          <a:prstGeom prst="rect">
            <a:avLst/>
          </a:prstGeom>
          <a:solidFill>
            <a:srgbClr val="d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987640" y="3587760"/>
            <a:ext cx="4406760" cy="79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987640" y="3595680"/>
            <a:ext cx="4406760" cy="936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987640" y="3605040"/>
            <a:ext cx="4406760" cy="828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987640" y="3613320"/>
            <a:ext cx="4406760" cy="79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87640" y="3621240"/>
            <a:ext cx="4406760" cy="9360"/>
          </a:xfrm>
          <a:prstGeom prst="rect">
            <a:avLst/>
          </a:prstGeom>
          <a:solidFill>
            <a:srgbClr val="d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987640" y="3630600"/>
            <a:ext cx="4406760" cy="7920"/>
          </a:xfrm>
          <a:prstGeom prst="rect">
            <a:avLst/>
          </a:prstGeom>
          <a:solidFill>
            <a:srgbClr val="d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987640" y="3638520"/>
            <a:ext cx="4406760" cy="9720"/>
          </a:xfrm>
          <a:prstGeom prst="rect">
            <a:avLst/>
          </a:prstGeom>
          <a:solidFill>
            <a:srgbClr val="d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987640" y="3648240"/>
            <a:ext cx="4406760" cy="7920"/>
          </a:xfrm>
          <a:prstGeom prst="rect">
            <a:avLst/>
          </a:prstGeom>
          <a:solidFill>
            <a:srgbClr val="d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87640" y="3656160"/>
            <a:ext cx="4406760" cy="9360"/>
          </a:xfrm>
          <a:prstGeom prst="rect">
            <a:avLst/>
          </a:prstGeom>
          <a:solidFill>
            <a:srgbClr val="c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987640" y="3665520"/>
            <a:ext cx="4406760" cy="7920"/>
          </a:xfrm>
          <a:prstGeom prst="rect">
            <a:avLst/>
          </a:prstGeom>
          <a:solidFill>
            <a:srgbClr val="c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987640" y="3673440"/>
            <a:ext cx="4406760" cy="9720"/>
          </a:xfrm>
          <a:prstGeom prst="rect">
            <a:avLst/>
          </a:prstGeom>
          <a:solidFill>
            <a:srgbClr val="c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987640" y="3683160"/>
            <a:ext cx="4406760" cy="7920"/>
          </a:xfrm>
          <a:prstGeom prst="rect">
            <a:avLst/>
          </a:prstGeom>
          <a:solidFill>
            <a:srgbClr val="c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987640" y="3691080"/>
            <a:ext cx="4406760" cy="9360"/>
          </a:xfrm>
          <a:prstGeom prst="rect">
            <a:avLst/>
          </a:prstGeom>
          <a:solidFill>
            <a:srgbClr val="c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987640" y="3700440"/>
            <a:ext cx="4406760" cy="7920"/>
          </a:xfrm>
          <a:prstGeom prst="rect">
            <a:avLst/>
          </a:prstGeom>
          <a:solidFill>
            <a:srgbClr val="c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987640" y="3708360"/>
            <a:ext cx="4406760" cy="9720"/>
          </a:xfrm>
          <a:prstGeom prst="rect">
            <a:avLst/>
          </a:prstGeom>
          <a:solidFill>
            <a:srgbClr val="c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987640" y="3718080"/>
            <a:ext cx="4406760" cy="7920"/>
          </a:xfrm>
          <a:prstGeom prst="rect">
            <a:avLst/>
          </a:prstGeom>
          <a:solidFill>
            <a:srgbClr val="c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987640" y="3726000"/>
            <a:ext cx="4406760" cy="7920"/>
          </a:xfrm>
          <a:prstGeom prst="rect">
            <a:avLst/>
          </a:prstGeom>
          <a:solidFill>
            <a:srgbClr val="c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987640" y="3733920"/>
            <a:ext cx="4406760" cy="9360"/>
          </a:xfrm>
          <a:prstGeom prst="rect">
            <a:avLst/>
          </a:prstGeom>
          <a:solidFill>
            <a:srgbClr val="c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987640" y="3743280"/>
            <a:ext cx="4406760" cy="7920"/>
          </a:xfrm>
          <a:prstGeom prst="rect">
            <a:avLst/>
          </a:prstGeom>
          <a:solidFill>
            <a:srgbClr val="c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987640" y="3751200"/>
            <a:ext cx="4406760" cy="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987640" y="3760920"/>
            <a:ext cx="4406760" cy="7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987640" y="3768840"/>
            <a:ext cx="4406760" cy="9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987640" y="3778200"/>
            <a:ext cx="4406760" cy="7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987640" y="3786120"/>
            <a:ext cx="4406760" cy="9720"/>
          </a:xfrm>
          <a:prstGeom prst="rect">
            <a:avLst/>
          </a:prstGeom>
          <a:solidFill>
            <a:srgbClr val="c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987640" y="3795840"/>
            <a:ext cx="4406760" cy="7920"/>
          </a:xfrm>
          <a:prstGeom prst="rect">
            <a:avLst/>
          </a:prstGeom>
          <a:solidFill>
            <a:srgbClr val="c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987640" y="3803760"/>
            <a:ext cx="4406760" cy="9360"/>
          </a:xfrm>
          <a:prstGeom prst="rect">
            <a:avLst/>
          </a:prstGeom>
          <a:solidFill>
            <a:srgbClr val="c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987640" y="3813120"/>
            <a:ext cx="4406760" cy="7920"/>
          </a:xfrm>
          <a:prstGeom prst="rect">
            <a:avLst/>
          </a:prstGeom>
          <a:solidFill>
            <a:srgbClr val="c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987640" y="3821040"/>
            <a:ext cx="4406760" cy="7920"/>
          </a:xfrm>
          <a:prstGeom prst="rect">
            <a:avLst/>
          </a:prstGeom>
          <a:solidFill>
            <a:srgbClr val="c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2987640" y="3828960"/>
            <a:ext cx="4406760" cy="1733400"/>
            <a:chOff x="2987640" y="3828960"/>
            <a:chExt cx="4406760" cy="1733400"/>
          </a:xfrm>
        </p:grpSpPr>
        <p:sp>
          <p:nvSpPr>
            <p:cNvPr id="1202" name=""/>
            <p:cNvSpPr/>
            <p:nvPr/>
          </p:nvSpPr>
          <p:spPr>
            <a:xfrm>
              <a:off x="2987640" y="3828960"/>
              <a:ext cx="4406760" cy="8640"/>
            </a:xfrm>
            <a:prstGeom prst="rect">
              <a:avLst/>
            </a:prstGeom>
            <a:solidFill>
              <a:srgbClr val="c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987640" y="3837600"/>
              <a:ext cx="4406760" cy="8280"/>
            </a:xfrm>
            <a:prstGeom prst="rect">
              <a:avLst/>
            </a:prstGeom>
            <a:solidFill>
              <a:srgbClr val="c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987640" y="3846240"/>
              <a:ext cx="4406760" cy="8640"/>
            </a:xfrm>
            <a:prstGeom prst="rect">
              <a:avLst/>
            </a:pr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987640" y="3854880"/>
              <a:ext cx="4406760" cy="8280"/>
            </a:xfrm>
            <a:prstGeom prst="rect">
              <a:avLst/>
            </a:pr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987640" y="3863520"/>
              <a:ext cx="4406760" cy="8280"/>
            </a:xfrm>
            <a:prstGeom prst="rect">
              <a:avLst/>
            </a:pr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987640" y="3872160"/>
              <a:ext cx="4406760" cy="8640"/>
            </a:xfrm>
            <a:prstGeom prst="rect">
              <a:avLst/>
            </a:pr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987640" y="3880800"/>
              <a:ext cx="4406760" cy="8280"/>
            </a:xfrm>
            <a:prstGeom prst="rect">
              <a:avLst/>
            </a:prstGeom>
            <a:solidFill>
              <a:srgbClr val="c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987640" y="3889440"/>
              <a:ext cx="4406760" cy="8640"/>
            </a:xfrm>
            <a:prstGeom prst="rect">
              <a:avLst/>
            </a:prstGeom>
            <a:solidFill>
              <a:srgbClr val="c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987640" y="3898080"/>
              <a:ext cx="4406760" cy="8280"/>
            </a:xfrm>
            <a:prstGeom prst="rect">
              <a:avLst/>
            </a:prstGeom>
            <a:solidFill>
              <a:srgbClr val="c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87640" y="3906720"/>
              <a:ext cx="4406760" cy="8640"/>
            </a:xfrm>
            <a:prstGeom prst="rect">
              <a:avLst/>
            </a:pr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987640" y="3915720"/>
              <a:ext cx="4406760" cy="8280"/>
            </a:xfrm>
            <a:prstGeom prst="rect">
              <a:avLst/>
            </a:pr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987640" y="3924000"/>
              <a:ext cx="4406760" cy="8640"/>
            </a:xfrm>
            <a:prstGeom prst="rect">
              <a:avLst/>
            </a:pr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87640" y="3933000"/>
              <a:ext cx="4406760" cy="8280"/>
            </a:xfrm>
            <a:prstGeom prst="rect">
              <a:avLst/>
            </a:pr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987640" y="3941640"/>
              <a:ext cx="4406760" cy="8640"/>
            </a:xfrm>
            <a:prstGeom prst="rect">
              <a:avLst/>
            </a:pr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87640" y="3950280"/>
              <a:ext cx="4406760" cy="8280"/>
            </a:xfrm>
            <a:prstGeom prst="rect">
              <a:avLst/>
            </a:pr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987640" y="3958920"/>
              <a:ext cx="4406760" cy="8640"/>
            </a:xfrm>
            <a:prstGeom prst="rect">
              <a:avLst/>
            </a:pr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987640" y="3967560"/>
              <a:ext cx="4406760" cy="8280"/>
            </a:xfrm>
            <a:prstGeom prst="rect">
              <a:avLst/>
            </a:pr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987640" y="3976200"/>
              <a:ext cx="4406760" cy="8280"/>
            </a:xfrm>
            <a:prstGeom prst="rect">
              <a:avLst/>
            </a:pr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87640" y="3984840"/>
              <a:ext cx="4406760" cy="8640"/>
            </a:xfrm>
            <a:prstGeom prst="rect">
              <a:avLst/>
            </a:pr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87640" y="3993480"/>
              <a:ext cx="4406760" cy="8280"/>
            </a:xfrm>
            <a:prstGeom prst="rect">
              <a:avLst/>
            </a:pr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987640" y="4002120"/>
              <a:ext cx="4406760" cy="8640"/>
            </a:xfrm>
            <a:prstGeom prst="rect">
              <a:avLst/>
            </a:pr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987640" y="4010760"/>
              <a:ext cx="4406760" cy="8280"/>
            </a:xfrm>
            <a:prstGeom prst="rect">
              <a:avLst/>
            </a:prstGeom>
            <a:solidFill>
              <a:srgbClr val="c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87640" y="4019400"/>
              <a:ext cx="4406760" cy="8640"/>
            </a:xfrm>
            <a:prstGeom prst="rect">
              <a:avLst/>
            </a:prstGeom>
            <a:solidFill>
              <a:srgbClr val="c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87640" y="4028400"/>
              <a:ext cx="4406760" cy="8280"/>
            </a:xfrm>
            <a:prstGeom prst="rect">
              <a:avLst/>
            </a:prstGeom>
            <a:solidFill>
              <a:srgbClr val="c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87640" y="4036680"/>
              <a:ext cx="4406760" cy="8640"/>
            </a:xfrm>
            <a:prstGeom prst="rect">
              <a:avLst/>
            </a:pr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87640" y="4045680"/>
              <a:ext cx="4406760" cy="8280"/>
            </a:xfrm>
            <a:prstGeom prst="rect">
              <a:avLst/>
            </a:pr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7640" y="4054320"/>
              <a:ext cx="4406760" cy="8640"/>
            </a:xfrm>
            <a:prstGeom prst="rect">
              <a:avLst/>
            </a:pr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987640" y="4062960"/>
              <a:ext cx="4406760" cy="8280"/>
            </a:xfrm>
            <a:prstGeom prst="rect">
              <a:avLst/>
            </a:pr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987640" y="4071600"/>
              <a:ext cx="4406760" cy="8280"/>
            </a:xfrm>
            <a:prstGeom prst="rect">
              <a:avLst/>
            </a:prstGeom>
            <a:solidFill>
              <a:srgbClr val="c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987640" y="4080240"/>
              <a:ext cx="4406760" cy="8640"/>
            </a:xfrm>
            <a:prstGeom prst="rect">
              <a:avLst/>
            </a:prstGeom>
            <a:solidFill>
              <a:srgbClr val="c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987640" y="4088880"/>
              <a:ext cx="4406760" cy="8280"/>
            </a:xfrm>
            <a:prstGeom prst="rect">
              <a:avLst/>
            </a:prstGeom>
            <a:solidFill>
              <a:srgbClr val="c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987640" y="4097520"/>
              <a:ext cx="4406760" cy="8640"/>
            </a:xfrm>
            <a:prstGeom prst="rect">
              <a:avLst/>
            </a:prstGeom>
            <a:solidFill>
              <a:srgbClr val="c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987640" y="4106160"/>
              <a:ext cx="4406760" cy="8280"/>
            </a:xfrm>
            <a:prstGeom prst="rect">
              <a:avLst/>
            </a:pr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987640" y="4114800"/>
              <a:ext cx="4406760" cy="8640"/>
            </a:xfrm>
            <a:prstGeom prst="rect">
              <a:avLst/>
            </a:pr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987640" y="4123800"/>
              <a:ext cx="4406760" cy="8280"/>
            </a:xfrm>
            <a:prstGeom prst="rect">
              <a:avLst/>
            </a:pr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987640" y="4132080"/>
              <a:ext cx="4406760" cy="8640"/>
            </a:xfrm>
            <a:prstGeom prst="rect">
              <a:avLst/>
            </a:prstGeom>
            <a:solidFill>
              <a:srgbClr val="c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987640" y="4141080"/>
              <a:ext cx="4406760" cy="8280"/>
            </a:xfrm>
            <a:prstGeom prst="rect">
              <a:avLst/>
            </a:prstGeom>
            <a:solidFill>
              <a:srgbClr val="c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987640" y="4149360"/>
              <a:ext cx="4406760" cy="8640"/>
            </a:xfrm>
            <a:prstGeom prst="rect">
              <a:avLst/>
            </a:prstGeom>
            <a:solidFill>
              <a:srgbClr val="c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987640" y="4158360"/>
              <a:ext cx="4406760" cy="8280"/>
            </a:xfrm>
            <a:prstGeom prst="rect">
              <a:avLst/>
            </a:prstGeom>
            <a:solidFill>
              <a:srgbClr val="c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987640" y="4167000"/>
              <a:ext cx="4406760" cy="8640"/>
            </a:xfrm>
            <a:prstGeom prst="rect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987640" y="4175640"/>
              <a:ext cx="4406760" cy="8280"/>
            </a:xfrm>
            <a:prstGeom prst="rect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987640" y="4184280"/>
              <a:ext cx="4406760" cy="8280"/>
            </a:xfrm>
            <a:prstGeom prst="rect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987640" y="4192920"/>
              <a:ext cx="4406760" cy="8640"/>
            </a:xfrm>
            <a:prstGeom prst="rect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987640" y="4201560"/>
              <a:ext cx="4406760" cy="8280"/>
            </a:xfrm>
            <a:prstGeom prst="rect">
              <a:avLst/>
            </a:prstGeom>
            <a:solidFill>
              <a:srgbClr val="b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987640" y="4210200"/>
              <a:ext cx="4406760" cy="8640"/>
            </a:xfrm>
            <a:prstGeom prst="rect">
              <a:avLst/>
            </a:prstGeom>
            <a:solidFill>
              <a:srgbClr val="b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987640" y="4218840"/>
              <a:ext cx="4406760" cy="8280"/>
            </a:xfrm>
            <a:prstGeom prst="rect">
              <a:avLst/>
            </a:prstGeom>
            <a:solidFill>
              <a:srgbClr val="b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987640" y="4227480"/>
              <a:ext cx="4406760" cy="8640"/>
            </a:xfrm>
            <a:prstGeom prst="rect">
              <a:avLst/>
            </a:prstGeom>
            <a:solidFill>
              <a:srgbClr val="b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987640" y="4236480"/>
              <a:ext cx="4406760" cy="828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987640" y="4244760"/>
              <a:ext cx="4406760" cy="864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987640" y="4253760"/>
              <a:ext cx="4406760" cy="828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987640" y="4262400"/>
              <a:ext cx="4406760" cy="8640"/>
            </a:xfrm>
            <a:prstGeom prst="rect">
              <a:avLst/>
            </a:pr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987640" y="4271040"/>
              <a:ext cx="4406760" cy="8280"/>
            </a:xfrm>
            <a:prstGeom prst="rect">
              <a:avLst/>
            </a:pr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987640" y="4279680"/>
              <a:ext cx="4406760" cy="8280"/>
            </a:xfrm>
            <a:prstGeom prst="rect">
              <a:avLst/>
            </a:pr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987640" y="4287960"/>
              <a:ext cx="4406760" cy="8640"/>
            </a:xfrm>
            <a:prstGeom prst="rect">
              <a:avLst/>
            </a:pr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87640" y="4296960"/>
              <a:ext cx="4406760" cy="8280"/>
            </a:xfrm>
            <a:prstGeom prst="rect">
              <a:avLst/>
            </a:pr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87640" y="4305600"/>
              <a:ext cx="4406760" cy="8640"/>
            </a:xfrm>
            <a:prstGeom prst="rect">
              <a:avLst/>
            </a:pr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87640" y="4314240"/>
              <a:ext cx="4406760" cy="8280"/>
            </a:xfrm>
            <a:prstGeom prst="rect">
              <a:avLst/>
            </a:pr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87640" y="4322880"/>
              <a:ext cx="4406760" cy="8640"/>
            </a:xfrm>
            <a:prstGeom prst="rect">
              <a:avLst/>
            </a:pr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987640" y="4331520"/>
              <a:ext cx="4406760" cy="8280"/>
            </a:xfrm>
            <a:prstGeom prst="rect">
              <a:avLst/>
            </a:prstGeom>
            <a:solidFill>
              <a:srgbClr val="b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987640" y="4340160"/>
              <a:ext cx="4406760" cy="8640"/>
            </a:xfrm>
            <a:prstGeom prst="rect">
              <a:avLst/>
            </a:prstGeom>
            <a:solidFill>
              <a:srgbClr val="b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987640" y="4349160"/>
              <a:ext cx="4406760" cy="8280"/>
            </a:xfrm>
            <a:prstGeom prst="rect">
              <a:avLst/>
            </a:prstGeom>
            <a:solidFill>
              <a:srgbClr val="b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87640" y="4357440"/>
              <a:ext cx="4406760" cy="8640"/>
            </a:xfrm>
            <a:prstGeom prst="rect">
              <a:avLst/>
            </a:pr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987640" y="4366440"/>
              <a:ext cx="4406760" cy="8280"/>
            </a:xfrm>
            <a:prstGeom prst="rect">
              <a:avLst/>
            </a:pr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987640" y="4375080"/>
              <a:ext cx="4406760" cy="8640"/>
            </a:xfrm>
            <a:prstGeom prst="rect">
              <a:avLst/>
            </a:pr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987640" y="4383720"/>
              <a:ext cx="4406760" cy="8280"/>
            </a:xfrm>
            <a:prstGeom prst="rect">
              <a:avLst/>
            </a:pr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987640" y="4392360"/>
              <a:ext cx="4406760" cy="8280"/>
            </a:xfrm>
            <a:prstGeom prst="rect">
              <a:avLst/>
            </a:prstGeom>
            <a:solidFill>
              <a:srgbClr val="b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987640" y="4400640"/>
              <a:ext cx="4406760" cy="8640"/>
            </a:xfrm>
            <a:prstGeom prst="rect">
              <a:avLst/>
            </a:prstGeom>
            <a:solidFill>
              <a:srgbClr val="b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987640" y="4409640"/>
              <a:ext cx="4406760" cy="8280"/>
            </a:xfrm>
            <a:prstGeom prst="rect">
              <a:avLst/>
            </a:prstGeom>
            <a:solidFill>
              <a:srgbClr val="b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987640" y="4418280"/>
              <a:ext cx="4406760" cy="8640"/>
            </a:xfrm>
            <a:prstGeom prst="rect">
              <a:avLst/>
            </a:prstGeom>
            <a:solidFill>
              <a:srgbClr val="b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87640" y="4426920"/>
              <a:ext cx="4406760" cy="8280"/>
            </a:xfrm>
            <a:prstGeom prst="rect">
              <a:avLst/>
            </a:pr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987640" y="4435560"/>
              <a:ext cx="4406760" cy="8640"/>
            </a:xfrm>
            <a:prstGeom prst="rect">
              <a:avLst/>
            </a:pr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987640" y="4444560"/>
              <a:ext cx="4406760" cy="8280"/>
            </a:xfrm>
            <a:prstGeom prst="rect">
              <a:avLst/>
            </a:pr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987640" y="4452840"/>
              <a:ext cx="4406760" cy="8640"/>
            </a:xfrm>
            <a:prstGeom prst="rect">
              <a:avLst/>
            </a:pr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987640" y="4461840"/>
              <a:ext cx="4406760" cy="8280"/>
            </a:xfrm>
            <a:prstGeom prst="rect">
              <a:avLst/>
            </a:prstGeom>
            <a:solidFill>
              <a:srgbClr val="b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987640" y="4470120"/>
              <a:ext cx="4406760" cy="8640"/>
            </a:xfrm>
            <a:prstGeom prst="rect">
              <a:avLst/>
            </a:prstGeom>
            <a:solidFill>
              <a:srgbClr val="b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87640" y="4479120"/>
              <a:ext cx="4406760" cy="8280"/>
            </a:xfrm>
            <a:prstGeom prst="rect">
              <a:avLst/>
            </a:prstGeom>
            <a:solidFill>
              <a:srgbClr val="b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987640" y="4487760"/>
              <a:ext cx="4406760" cy="8280"/>
            </a:xfrm>
            <a:prstGeom prst="rect">
              <a:avLst/>
            </a:pr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987640" y="4496040"/>
              <a:ext cx="4406760" cy="8640"/>
            </a:xfrm>
            <a:prstGeom prst="rect">
              <a:avLst/>
            </a:pr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987640" y="4505040"/>
              <a:ext cx="4406760" cy="8280"/>
            </a:xfrm>
            <a:prstGeom prst="rect">
              <a:avLst/>
            </a:pr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987640" y="4513680"/>
              <a:ext cx="4406760" cy="8640"/>
            </a:xfrm>
            <a:prstGeom prst="rect">
              <a:avLst/>
            </a:pr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987640" y="4522320"/>
              <a:ext cx="4406760" cy="8280"/>
            </a:xfrm>
            <a:prstGeom prst="rect">
              <a:avLst/>
            </a:prstGeom>
            <a:solidFill>
              <a:srgbClr val="b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87640" y="4530960"/>
              <a:ext cx="4406760" cy="8640"/>
            </a:xfrm>
            <a:prstGeom prst="rect">
              <a:avLst/>
            </a:prstGeom>
            <a:solidFill>
              <a:srgbClr val="b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987640" y="4539600"/>
              <a:ext cx="4406760" cy="8280"/>
            </a:xfrm>
            <a:prstGeom prst="rect">
              <a:avLst/>
            </a:prstGeom>
            <a:solidFill>
              <a:srgbClr val="b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987640" y="4548240"/>
              <a:ext cx="4406760" cy="8640"/>
            </a:xfrm>
            <a:prstGeom prst="rect">
              <a:avLst/>
            </a:prstGeom>
            <a:solidFill>
              <a:srgbClr val="b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987640" y="4557240"/>
              <a:ext cx="4406760" cy="8280"/>
            </a:xfrm>
            <a:prstGeom prst="rect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987640" y="4565520"/>
              <a:ext cx="4406760" cy="8640"/>
            </a:xfrm>
            <a:prstGeom prst="rect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987640" y="4574520"/>
              <a:ext cx="4406760" cy="8280"/>
            </a:xfrm>
            <a:prstGeom prst="rect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987640" y="4582800"/>
              <a:ext cx="4406760" cy="8640"/>
            </a:xfrm>
            <a:prstGeom prst="rect">
              <a:avLst/>
            </a:pr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987640" y="4591800"/>
              <a:ext cx="4406760" cy="8280"/>
            </a:xfrm>
            <a:prstGeom prst="rect">
              <a:avLst/>
            </a:pr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987640" y="4600440"/>
              <a:ext cx="4406760" cy="8280"/>
            </a:xfrm>
            <a:prstGeom prst="rect">
              <a:avLst/>
            </a:pr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987640" y="4608720"/>
              <a:ext cx="4406760" cy="8640"/>
            </a:xfrm>
            <a:prstGeom prst="rect">
              <a:avLst/>
            </a:pr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987640" y="4617720"/>
              <a:ext cx="4406760" cy="8280"/>
            </a:xfrm>
            <a:prstGeom prst="rect">
              <a:avLst/>
            </a:pr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87640" y="4626360"/>
              <a:ext cx="4406760" cy="8640"/>
            </a:xfrm>
            <a:prstGeom prst="rect">
              <a:avLst/>
            </a:pr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87640" y="4635000"/>
              <a:ext cx="4406760" cy="8280"/>
            </a:xfrm>
            <a:prstGeom prst="rect">
              <a:avLst/>
            </a:pr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87640" y="4643640"/>
              <a:ext cx="4406760" cy="8640"/>
            </a:xfrm>
            <a:prstGeom prst="rect">
              <a:avLst/>
            </a:pr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87640" y="4652280"/>
              <a:ext cx="4406760" cy="8280"/>
            </a:xfrm>
            <a:prstGeom prst="rect">
              <a:avLst/>
            </a:pr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987640" y="4660920"/>
              <a:ext cx="4406760" cy="8640"/>
            </a:xfrm>
            <a:prstGeom prst="rect">
              <a:avLst/>
            </a:pr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987640" y="4669920"/>
              <a:ext cx="4406760" cy="8280"/>
            </a:xfrm>
            <a:prstGeom prst="rect">
              <a:avLst/>
            </a:pr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987640" y="4678200"/>
              <a:ext cx="4406760" cy="8640"/>
            </a:xfrm>
            <a:prstGeom prst="rect">
              <a:avLst/>
            </a:pr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987640" y="4687200"/>
              <a:ext cx="4406760" cy="8280"/>
            </a:xfrm>
            <a:prstGeom prst="rect">
              <a:avLst/>
            </a:pr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987640" y="4695840"/>
              <a:ext cx="4406760" cy="8280"/>
            </a:xfrm>
            <a:prstGeom prst="rect">
              <a:avLst/>
            </a:pr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987640" y="4704120"/>
              <a:ext cx="4406760" cy="8640"/>
            </a:xfrm>
            <a:prstGeom prst="rect">
              <a:avLst/>
            </a:pr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987640" y="4713120"/>
              <a:ext cx="4406760" cy="8280"/>
            </a:xfrm>
            <a:prstGeom prst="rect">
              <a:avLst/>
            </a:prstGeom>
            <a:solidFill>
              <a:srgbClr val="a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87640" y="4721400"/>
              <a:ext cx="4406760" cy="8640"/>
            </a:xfrm>
            <a:prstGeom prst="rect">
              <a:avLst/>
            </a:prstGeom>
            <a:solidFill>
              <a:srgbClr val="a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987640" y="4730400"/>
              <a:ext cx="4406760" cy="8280"/>
            </a:xfrm>
            <a:prstGeom prst="rect">
              <a:avLst/>
            </a:prstGeom>
            <a:solidFill>
              <a:srgbClr val="a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987640" y="4739040"/>
              <a:ext cx="4406760" cy="8640"/>
            </a:xfrm>
            <a:prstGeom prst="rect">
              <a:avLst/>
            </a:prstGeom>
            <a:solidFill>
              <a:srgbClr val="a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987640" y="4747680"/>
              <a:ext cx="4406760" cy="8280"/>
            </a:xfrm>
            <a:prstGeom prst="rect">
              <a:avLst/>
            </a:pr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987640" y="4756320"/>
              <a:ext cx="4406760" cy="8640"/>
            </a:xfrm>
            <a:prstGeom prst="rect">
              <a:avLst/>
            </a:pr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987640" y="4764960"/>
              <a:ext cx="4406760" cy="8280"/>
            </a:xfrm>
            <a:prstGeom prst="rect">
              <a:avLst/>
            </a:pr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987640" y="4773600"/>
              <a:ext cx="4406760" cy="8640"/>
            </a:xfrm>
            <a:prstGeom prst="rect">
              <a:avLst/>
            </a:pr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987640" y="4782600"/>
              <a:ext cx="4406760" cy="8280"/>
            </a:xfrm>
            <a:prstGeom prst="rect">
              <a:avLst/>
            </a:prstGeom>
            <a:solidFill>
              <a:srgbClr val="a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987640" y="4790880"/>
              <a:ext cx="4406760" cy="8640"/>
            </a:xfrm>
            <a:prstGeom prst="rect">
              <a:avLst/>
            </a:prstGeom>
            <a:solidFill>
              <a:srgbClr val="a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987640" y="4799880"/>
              <a:ext cx="4406760" cy="8280"/>
            </a:xfrm>
            <a:prstGeom prst="rect">
              <a:avLst/>
            </a:prstGeom>
            <a:solidFill>
              <a:srgbClr val="a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987640" y="4808520"/>
              <a:ext cx="4406760" cy="8280"/>
            </a:xfrm>
            <a:prstGeom prst="rect">
              <a:avLst/>
            </a:pr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87640" y="4816800"/>
              <a:ext cx="4406760" cy="8640"/>
            </a:xfrm>
            <a:prstGeom prst="rect">
              <a:avLst/>
            </a:pr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87640" y="4825800"/>
              <a:ext cx="4406760" cy="8280"/>
            </a:xfrm>
            <a:prstGeom prst="rect">
              <a:avLst/>
            </a:pr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87640" y="4834440"/>
              <a:ext cx="4406760" cy="8640"/>
            </a:xfrm>
            <a:prstGeom prst="rect">
              <a:avLst/>
            </a:pr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987640" y="4843080"/>
              <a:ext cx="4406760" cy="8280"/>
            </a:xfrm>
            <a:prstGeom prst="rect">
              <a:avLst/>
            </a:prstGeom>
            <a:solidFill>
              <a:srgbClr val="a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987640" y="4851720"/>
              <a:ext cx="4406760" cy="8640"/>
            </a:xfrm>
            <a:prstGeom prst="rect">
              <a:avLst/>
            </a:prstGeom>
            <a:solidFill>
              <a:srgbClr val="a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987640" y="4860360"/>
              <a:ext cx="4406760" cy="8280"/>
            </a:xfrm>
            <a:prstGeom prst="rect">
              <a:avLst/>
            </a:prstGeom>
            <a:solidFill>
              <a:srgbClr val="a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87640" y="4869000"/>
              <a:ext cx="4406760" cy="8640"/>
            </a:xfrm>
            <a:prstGeom prst="rect">
              <a:avLst/>
            </a:prstGeom>
            <a:solidFill>
              <a:srgbClr val="a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87640" y="4878000"/>
              <a:ext cx="4406760" cy="8280"/>
            </a:xfrm>
            <a:prstGeom prst="rect">
              <a:avLst/>
            </a:pr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987640" y="4886280"/>
              <a:ext cx="4406760" cy="8640"/>
            </a:xfrm>
            <a:prstGeom prst="rect">
              <a:avLst/>
            </a:pr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987640" y="4895280"/>
              <a:ext cx="4406760" cy="8280"/>
            </a:xfrm>
            <a:prstGeom prst="rect">
              <a:avLst/>
            </a:pr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987640" y="4903560"/>
              <a:ext cx="4406760" cy="8280"/>
            </a:xfrm>
            <a:prstGeom prst="rect">
              <a:avLst/>
            </a:prstGeom>
            <a:solidFill>
              <a:srgbClr val="a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87640" y="4912200"/>
              <a:ext cx="4406760" cy="8640"/>
            </a:xfrm>
            <a:prstGeom prst="rect">
              <a:avLst/>
            </a:prstGeom>
            <a:solidFill>
              <a:srgbClr val="a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87640" y="4921200"/>
              <a:ext cx="4406760" cy="8280"/>
            </a:xfrm>
            <a:prstGeom prst="rect">
              <a:avLst/>
            </a:prstGeom>
            <a:solidFill>
              <a:srgbClr val="a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87640" y="4929480"/>
              <a:ext cx="4406760" cy="8640"/>
            </a:xfrm>
            <a:prstGeom prst="rect">
              <a:avLst/>
            </a:prstGeom>
            <a:solidFill>
              <a:srgbClr val="a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987640" y="4938480"/>
              <a:ext cx="4406760" cy="8280"/>
            </a:xfrm>
            <a:prstGeom prst="rect">
              <a:avLst/>
            </a:pr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987640" y="4947120"/>
              <a:ext cx="4406760" cy="8640"/>
            </a:xfrm>
            <a:prstGeom prst="rect">
              <a:avLst/>
            </a:pr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987640" y="4955760"/>
              <a:ext cx="4406760" cy="8280"/>
            </a:xfrm>
            <a:prstGeom prst="rect">
              <a:avLst/>
            </a:pr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87640" y="4964400"/>
              <a:ext cx="4406760" cy="8640"/>
            </a:xfrm>
            <a:prstGeom prst="rect">
              <a:avLst/>
            </a:pr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987640" y="4973040"/>
              <a:ext cx="4406760" cy="8280"/>
            </a:xfrm>
            <a:prstGeom prst="rect">
              <a:avLst/>
            </a:prstGeom>
            <a:solidFill>
              <a:srgbClr val="a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987640" y="4981680"/>
              <a:ext cx="4406760" cy="8640"/>
            </a:xfrm>
            <a:prstGeom prst="rect">
              <a:avLst/>
            </a:prstGeom>
            <a:solidFill>
              <a:srgbClr val="a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987640" y="4990680"/>
              <a:ext cx="4406760" cy="8280"/>
            </a:xfrm>
            <a:prstGeom prst="rect">
              <a:avLst/>
            </a:prstGeom>
            <a:solidFill>
              <a:srgbClr val="a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987640" y="4998960"/>
              <a:ext cx="4406760" cy="8640"/>
            </a:xfrm>
            <a:prstGeom prst="rect">
              <a:avLst/>
            </a:prstGeom>
            <a:solidFill>
              <a:srgbClr val="a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987640" y="5007960"/>
              <a:ext cx="4406760" cy="8280"/>
            </a:xfrm>
            <a:prstGeom prst="rect">
              <a:avLst/>
            </a:pr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87640" y="5016600"/>
              <a:ext cx="4406760" cy="8280"/>
            </a:xfrm>
            <a:prstGeom prst="rect">
              <a:avLst/>
            </a:pr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987640" y="5024880"/>
              <a:ext cx="4406760" cy="8640"/>
            </a:xfrm>
            <a:prstGeom prst="rect">
              <a:avLst/>
            </a:pr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87640" y="5033880"/>
              <a:ext cx="4406760" cy="8280"/>
            </a:xfrm>
            <a:prstGeom prst="rect">
              <a:avLst/>
            </a:prstGeom>
            <a:solidFill>
              <a:srgbClr val="a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987640" y="5042160"/>
              <a:ext cx="4406760" cy="8640"/>
            </a:xfrm>
            <a:prstGeom prst="rect">
              <a:avLst/>
            </a:prstGeom>
            <a:solidFill>
              <a:srgbClr val="a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987640" y="5051160"/>
              <a:ext cx="4406760" cy="8280"/>
            </a:xfrm>
            <a:prstGeom prst="rect">
              <a:avLst/>
            </a:prstGeom>
            <a:solidFill>
              <a:srgbClr val="a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987640" y="5059800"/>
              <a:ext cx="4406760" cy="8640"/>
            </a:xfrm>
            <a:prstGeom prst="rect">
              <a:avLst/>
            </a:prstGeom>
            <a:solidFill>
              <a:srgbClr val="a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987640" y="5068440"/>
              <a:ext cx="4406760" cy="8280"/>
            </a:xfrm>
            <a:prstGeom prst="rect">
              <a:avLst/>
            </a:pr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987640" y="5077080"/>
              <a:ext cx="4406760" cy="8640"/>
            </a:xfrm>
            <a:prstGeom prst="rect">
              <a:avLst/>
            </a:pr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987640" y="5085720"/>
              <a:ext cx="4406760" cy="8280"/>
            </a:xfrm>
            <a:prstGeom prst="rect">
              <a:avLst/>
            </a:pr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87640" y="5094360"/>
              <a:ext cx="4406760" cy="8640"/>
            </a:xfrm>
            <a:prstGeom prst="rect">
              <a:avLst/>
            </a:pr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987640" y="5103360"/>
              <a:ext cx="4406760" cy="8280"/>
            </a:xfrm>
            <a:prstGeom prst="rect">
              <a:avLst/>
            </a:prstGeom>
            <a:solidFill>
              <a:srgbClr val="a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987640" y="5111640"/>
              <a:ext cx="4406760" cy="8280"/>
            </a:xfrm>
            <a:prstGeom prst="rect">
              <a:avLst/>
            </a:prstGeom>
            <a:solidFill>
              <a:srgbClr val="a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87640" y="5120280"/>
              <a:ext cx="4406760" cy="8640"/>
            </a:xfrm>
            <a:prstGeom prst="rect">
              <a:avLst/>
            </a:prstGeom>
            <a:solidFill>
              <a:srgbClr val="a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87640" y="5129280"/>
              <a:ext cx="4406760" cy="8280"/>
            </a:xfrm>
            <a:prstGeom prst="rect">
              <a:avLst/>
            </a:pr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987640" y="5137560"/>
              <a:ext cx="4406760" cy="8640"/>
            </a:xfrm>
            <a:prstGeom prst="rect">
              <a:avLst/>
            </a:pr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987640" y="5146560"/>
              <a:ext cx="4406760" cy="8280"/>
            </a:xfrm>
            <a:prstGeom prst="rect">
              <a:avLst/>
            </a:pr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987640" y="5154840"/>
              <a:ext cx="4406760" cy="8640"/>
            </a:xfrm>
            <a:prstGeom prst="rect">
              <a:avLst/>
            </a:pr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987640" y="5163840"/>
              <a:ext cx="4406760" cy="8280"/>
            </a:xfrm>
            <a:prstGeom prst="rect">
              <a:avLst/>
            </a:prstGeom>
            <a:solidFill>
              <a:srgbClr val="a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987640" y="5172480"/>
              <a:ext cx="4406760" cy="8640"/>
            </a:xfrm>
            <a:prstGeom prst="rect">
              <a:avLst/>
            </a:prstGeom>
            <a:solidFill>
              <a:srgbClr val="a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987640" y="5181120"/>
              <a:ext cx="4406760" cy="8280"/>
            </a:xfrm>
            <a:prstGeom prst="rect">
              <a:avLst/>
            </a:prstGeom>
            <a:solidFill>
              <a:srgbClr val="a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987640" y="5189760"/>
              <a:ext cx="4406760" cy="8640"/>
            </a:xfrm>
            <a:prstGeom prst="rect">
              <a:avLst/>
            </a:prstGeom>
            <a:solidFill>
              <a:srgbClr val="a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987640" y="5198760"/>
              <a:ext cx="4406760" cy="8280"/>
            </a:xfrm>
            <a:prstGeom prst="rect">
              <a:avLst/>
            </a:pr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987640" y="5207040"/>
              <a:ext cx="4406760" cy="8640"/>
            </a:xfrm>
            <a:prstGeom prst="rect">
              <a:avLst/>
            </a:pr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87640" y="5216040"/>
              <a:ext cx="4406760" cy="8280"/>
            </a:xfrm>
            <a:prstGeom prst="rect">
              <a:avLst/>
            </a:pr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87640" y="5224320"/>
              <a:ext cx="4406760" cy="8280"/>
            </a:xfrm>
            <a:prstGeom prst="rect">
              <a:avLst/>
            </a:pr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987640" y="5232960"/>
              <a:ext cx="4406760" cy="8640"/>
            </a:xfrm>
            <a:prstGeom prst="rect">
              <a:avLst/>
            </a:prstGeom>
            <a:solidFill>
              <a:srgbClr val="9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87640" y="5241960"/>
              <a:ext cx="4406760" cy="8280"/>
            </a:xfrm>
            <a:prstGeom prst="rect">
              <a:avLst/>
            </a:prstGeom>
            <a:solidFill>
              <a:srgbClr val="9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87640" y="5250240"/>
              <a:ext cx="4406760" cy="8640"/>
            </a:xfrm>
            <a:prstGeom prst="rect">
              <a:avLst/>
            </a:prstGeom>
            <a:solidFill>
              <a:srgbClr val="9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987640" y="5259240"/>
              <a:ext cx="4406760" cy="8280"/>
            </a:xfrm>
            <a:prstGeom prst="rect">
              <a:avLst/>
            </a:pr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87640" y="5267880"/>
              <a:ext cx="4406760" cy="8640"/>
            </a:xfrm>
            <a:prstGeom prst="rect">
              <a:avLst/>
            </a:pr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987640" y="5276520"/>
              <a:ext cx="4406760" cy="8280"/>
            </a:xfrm>
            <a:prstGeom prst="rect">
              <a:avLst/>
            </a:pr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987640" y="5285160"/>
              <a:ext cx="4406760" cy="8640"/>
            </a:xfrm>
            <a:prstGeom prst="rect">
              <a:avLst/>
            </a:pr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987640" y="5293800"/>
              <a:ext cx="4406760" cy="8280"/>
            </a:xfrm>
            <a:prstGeom prst="rect">
              <a:avLst/>
            </a:prstGeom>
            <a:solidFill>
              <a:srgbClr val="9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987640" y="5302440"/>
              <a:ext cx="4406760" cy="8640"/>
            </a:xfrm>
            <a:prstGeom prst="rect">
              <a:avLst/>
            </a:prstGeom>
            <a:solidFill>
              <a:srgbClr val="9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987640" y="5311440"/>
              <a:ext cx="4406760" cy="8280"/>
            </a:xfrm>
            <a:prstGeom prst="rect">
              <a:avLst/>
            </a:prstGeom>
            <a:solidFill>
              <a:srgbClr val="9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87640" y="5319720"/>
              <a:ext cx="4406760" cy="8280"/>
            </a:xfrm>
            <a:prstGeom prst="rect">
              <a:avLst/>
            </a:prstGeom>
            <a:solidFill>
              <a:srgbClr val="9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87640" y="5328360"/>
              <a:ext cx="4406760" cy="8640"/>
            </a:xfrm>
            <a:prstGeom prst="rect">
              <a:avLst/>
            </a:prstGeom>
            <a:solidFill>
              <a:srgbClr val="9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987640" y="5337000"/>
              <a:ext cx="4406760" cy="8280"/>
            </a:xfrm>
            <a:prstGeom prst="rect">
              <a:avLst/>
            </a:prstGeom>
            <a:solidFill>
              <a:srgbClr val="9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987640" y="5345640"/>
              <a:ext cx="4406760" cy="8640"/>
            </a:xfrm>
            <a:prstGeom prst="rect">
              <a:avLst/>
            </a:prstGeom>
            <a:solidFill>
              <a:srgbClr val="9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87640" y="5354640"/>
              <a:ext cx="4406760" cy="8280"/>
            </a:xfrm>
            <a:prstGeom prst="rect">
              <a:avLst/>
            </a:prstGeom>
            <a:solidFill>
              <a:srgbClr val="9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987640" y="5362920"/>
              <a:ext cx="4406760" cy="8640"/>
            </a:xfrm>
            <a:prstGeom prst="rect">
              <a:avLst/>
            </a:prstGeom>
            <a:solidFill>
              <a:srgbClr val="9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7640" y="5371920"/>
              <a:ext cx="4406760" cy="8280"/>
            </a:xfrm>
            <a:prstGeom prst="rect">
              <a:avLst/>
            </a:prstGeom>
            <a:solidFill>
              <a:srgbClr val="9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987640" y="5380560"/>
              <a:ext cx="4406760" cy="8640"/>
            </a:xfrm>
            <a:prstGeom prst="rect">
              <a:avLst/>
            </a:prstGeom>
            <a:solidFill>
              <a:srgbClr val="9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987640" y="5389200"/>
              <a:ext cx="4406760" cy="828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87640" y="5397840"/>
              <a:ext cx="4406760" cy="864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87640" y="5406480"/>
              <a:ext cx="4406760" cy="828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987640" y="5415120"/>
              <a:ext cx="4406760" cy="864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987640" y="5424120"/>
              <a:ext cx="4406760" cy="8280"/>
            </a:xfrm>
            <a:prstGeom prst="rect">
              <a:avLst/>
            </a:prstGeom>
            <a:solidFill>
              <a:srgbClr val="9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987640" y="5432400"/>
              <a:ext cx="4406760" cy="8280"/>
            </a:xfrm>
            <a:prstGeom prst="rect">
              <a:avLst/>
            </a:prstGeom>
            <a:solidFill>
              <a:srgbClr val="9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87640" y="5441040"/>
              <a:ext cx="4406760" cy="8640"/>
            </a:xfrm>
            <a:prstGeom prst="rect">
              <a:avLst/>
            </a:prstGeom>
            <a:solidFill>
              <a:srgbClr val="9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87640" y="5450040"/>
              <a:ext cx="4406760" cy="8280"/>
            </a:xfrm>
            <a:prstGeom prst="rect">
              <a:avLst/>
            </a:prstGeom>
            <a:solidFill>
              <a:srgbClr val="9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987640" y="5458320"/>
              <a:ext cx="4406760" cy="8640"/>
            </a:xfrm>
            <a:prstGeom prst="rect">
              <a:avLst/>
            </a:prstGeom>
            <a:solidFill>
              <a:srgbClr val="9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987640" y="5467320"/>
              <a:ext cx="4406760" cy="8280"/>
            </a:xfrm>
            <a:prstGeom prst="rect">
              <a:avLst/>
            </a:prstGeom>
            <a:solidFill>
              <a:srgbClr val="9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987640" y="5475600"/>
              <a:ext cx="4406760" cy="8640"/>
            </a:xfrm>
            <a:prstGeom prst="rect">
              <a:avLst/>
            </a:prstGeom>
            <a:solidFill>
              <a:srgbClr val="9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87640" y="5484600"/>
              <a:ext cx="4406760" cy="8280"/>
            </a:xfrm>
            <a:prstGeom prst="rect">
              <a:avLst/>
            </a:prstGeom>
            <a:solidFill>
              <a:srgbClr val="9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87640" y="5493240"/>
              <a:ext cx="4406760" cy="8640"/>
            </a:xfrm>
            <a:prstGeom prst="rect">
              <a:avLst/>
            </a:prstGeom>
            <a:solidFill>
              <a:srgbClr val="9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987640" y="5501880"/>
              <a:ext cx="4406760" cy="8280"/>
            </a:xfrm>
            <a:prstGeom prst="rect">
              <a:avLst/>
            </a:prstGeom>
            <a:solidFill>
              <a:srgbClr val="9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87640" y="5510520"/>
              <a:ext cx="4406760" cy="8640"/>
            </a:xfrm>
            <a:prstGeom prst="rect">
              <a:avLst/>
            </a:prstGeom>
            <a:solidFill>
              <a:srgbClr val="9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87640" y="5519160"/>
              <a:ext cx="4406760" cy="8280"/>
            </a:xfrm>
            <a:prstGeom prst="rect">
              <a:avLst/>
            </a:prstGeom>
            <a:solidFill>
              <a:srgbClr val="9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987640" y="5527800"/>
              <a:ext cx="4406760" cy="8280"/>
            </a:xfrm>
            <a:prstGeom prst="rect">
              <a:avLst/>
            </a:prstGeom>
            <a:solidFill>
              <a:srgbClr val="9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987640" y="5536440"/>
              <a:ext cx="4406760" cy="8640"/>
            </a:xfrm>
            <a:prstGeom prst="rect">
              <a:avLst/>
            </a:prstGeom>
            <a:solidFill>
              <a:srgbClr val="9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87640" y="5545080"/>
              <a:ext cx="4406760" cy="8280"/>
            </a:xfrm>
            <a:prstGeom prst="rect">
              <a:avLst/>
            </a:prstGeom>
            <a:solidFill>
              <a:srgbClr val="9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87640" y="5553720"/>
              <a:ext cx="4406760" cy="8640"/>
            </a:xfrm>
            <a:prstGeom prst="rect">
              <a:avLst/>
            </a:prstGeom>
            <a:solidFill>
              <a:srgbClr val="9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2987640" y="5562720"/>
            <a:ext cx="4406760" cy="7920"/>
          </a:xfrm>
          <a:prstGeom prst="rect">
            <a:avLst/>
          </a:prstGeom>
          <a:solidFill>
            <a:srgbClr val="9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987640" y="5570640"/>
            <a:ext cx="4406760" cy="9360"/>
          </a:xfrm>
          <a:prstGeom prst="rect">
            <a:avLst/>
          </a:prstGeom>
          <a:solidFill>
            <a:srgbClr val="9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987640" y="5580000"/>
            <a:ext cx="4406760" cy="7920"/>
          </a:xfrm>
          <a:prstGeom prst="rect">
            <a:avLst/>
          </a:prstGeom>
          <a:solidFill>
            <a:srgbClr val="9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987640" y="5587920"/>
            <a:ext cx="4406760" cy="9720"/>
          </a:xfrm>
          <a:prstGeom prst="rect">
            <a:avLst/>
          </a:prstGeom>
          <a:solidFill>
            <a:srgbClr val="9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987640" y="5597640"/>
            <a:ext cx="4406760" cy="7920"/>
          </a:xfrm>
          <a:prstGeom prst="rect">
            <a:avLst/>
          </a:prstGeom>
          <a:solidFill>
            <a:srgbClr val="9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987640" y="5605560"/>
            <a:ext cx="4406760" cy="9360"/>
          </a:xfrm>
          <a:prstGeom prst="rect">
            <a:avLst/>
          </a:prstGeom>
          <a:solidFill>
            <a:srgbClr val="9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987640" y="5614920"/>
            <a:ext cx="4406760" cy="7920"/>
          </a:xfrm>
          <a:prstGeom prst="rect">
            <a:avLst/>
          </a:prstGeom>
          <a:solidFill>
            <a:srgbClr val="9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987640" y="5622840"/>
            <a:ext cx="4406760" cy="9720"/>
          </a:xfrm>
          <a:prstGeom prst="rect">
            <a:avLst/>
          </a:prstGeom>
          <a:solidFill>
            <a:srgbClr val="9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987640" y="5632560"/>
            <a:ext cx="4406760" cy="7920"/>
          </a:xfrm>
          <a:prstGeom prst="rect">
            <a:avLst/>
          </a:prstGeom>
          <a:solidFill>
            <a:srgbClr val="9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87640" y="5640480"/>
            <a:ext cx="4406760" cy="9360"/>
          </a:xfrm>
          <a:prstGeom prst="rect">
            <a:avLst/>
          </a:prstGeom>
          <a:solidFill>
            <a:srgbClr val="9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987640" y="5649840"/>
            <a:ext cx="4406760" cy="7920"/>
          </a:xfrm>
          <a:prstGeom prst="rect">
            <a:avLst/>
          </a:prstGeom>
          <a:solidFill>
            <a:srgbClr val="9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987640" y="5657760"/>
            <a:ext cx="4406760" cy="7920"/>
          </a:xfrm>
          <a:prstGeom prst="rect">
            <a:avLst/>
          </a:prstGeom>
          <a:solidFill>
            <a:srgbClr val="9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987640" y="5665680"/>
            <a:ext cx="4406760" cy="9720"/>
          </a:xfrm>
          <a:prstGeom prst="rect">
            <a:avLst/>
          </a:prstGeom>
          <a:solidFill>
            <a:srgbClr val="9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987640" y="5675400"/>
            <a:ext cx="4406760" cy="7920"/>
          </a:xfrm>
          <a:prstGeom prst="rect">
            <a:avLst/>
          </a:prstGeom>
          <a:solidFill>
            <a:srgbClr val="9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987640" y="5683320"/>
            <a:ext cx="4406760" cy="9360"/>
          </a:xfrm>
          <a:prstGeom prst="rect">
            <a:avLst/>
          </a:prstGeom>
          <a:solidFill>
            <a:srgbClr val="9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87640" y="5692680"/>
            <a:ext cx="4406760" cy="7920"/>
          </a:xfrm>
          <a:prstGeom prst="rect">
            <a:avLst/>
          </a:prstGeom>
          <a:solidFill>
            <a:srgbClr val="9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987640" y="5700600"/>
            <a:ext cx="4406760" cy="9720"/>
          </a:xfrm>
          <a:prstGeom prst="rect">
            <a:avLst/>
          </a:prstGeom>
          <a:solidFill>
            <a:srgbClr val="9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987640" y="5710320"/>
            <a:ext cx="4406760" cy="7920"/>
          </a:xfrm>
          <a:prstGeom prst="rect">
            <a:avLst/>
          </a:prstGeom>
          <a:solidFill>
            <a:srgbClr val="8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987640" y="5718240"/>
            <a:ext cx="4406760" cy="9360"/>
          </a:xfrm>
          <a:prstGeom prst="rect">
            <a:avLst/>
          </a:prstGeom>
          <a:solidFill>
            <a:srgbClr val="8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987640" y="5727600"/>
            <a:ext cx="4406760" cy="7920"/>
          </a:xfrm>
          <a:prstGeom prst="rect">
            <a:avLst/>
          </a:prstGeom>
          <a:solidFill>
            <a:srgbClr val="8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987640" y="5735520"/>
            <a:ext cx="4406760" cy="9720"/>
          </a:xfrm>
          <a:prstGeom prst="rect">
            <a:avLst/>
          </a:prstGeom>
          <a:solidFill>
            <a:srgbClr val="8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987640" y="5745240"/>
            <a:ext cx="4406760" cy="7920"/>
          </a:xfrm>
          <a:prstGeom prst="rect">
            <a:avLst/>
          </a:prstGeom>
          <a:solidFill>
            <a:srgbClr val="8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987640" y="5753160"/>
            <a:ext cx="4406760" cy="7920"/>
          </a:xfrm>
          <a:prstGeom prst="rect">
            <a:avLst/>
          </a:prstGeom>
          <a:solidFill>
            <a:srgbClr val="8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987640" y="5761080"/>
            <a:ext cx="4406760" cy="9360"/>
          </a:xfrm>
          <a:prstGeom prst="rect">
            <a:avLst/>
          </a:prstGeom>
          <a:solidFill>
            <a:srgbClr val="8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987640" y="5770440"/>
            <a:ext cx="4406760" cy="7920"/>
          </a:xfrm>
          <a:prstGeom prst="rect">
            <a:avLst/>
          </a:prstGeom>
          <a:solidFill>
            <a:srgbClr val="8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987640" y="5778360"/>
            <a:ext cx="4406760" cy="9720"/>
          </a:xfrm>
          <a:prstGeom prst="rect">
            <a:avLst/>
          </a:prstGeom>
          <a:solidFill>
            <a:srgbClr val="8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987640" y="5788080"/>
            <a:ext cx="4406760" cy="7920"/>
          </a:xfrm>
          <a:prstGeom prst="rect">
            <a:avLst/>
          </a:prstGeom>
          <a:solidFill>
            <a:srgbClr val="8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987640" y="5796000"/>
            <a:ext cx="4406760" cy="9360"/>
          </a:xfrm>
          <a:prstGeom prst="rect">
            <a:avLst/>
          </a:prstGeom>
          <a:solidFill>
            <a:srgbClr val="8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987640" y="5805360"/>
            <a:ext cx="4406760" cy="7920"/>
          </a:xfrm>
          <a:prstGeom prst="rect">
            <a:avLst/>
          </a:prstGeom>
          <a:solidFill>
            <a:srgbClr val="8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987640" y="5813280"/>
            <a:ext cx="4406760" cy="9720"/>
          </a:xfrm>
          <a:prstGeom prst="rect">
            <a:avLst/>
          </a:prstGeom>
          <a:solidFill>
            <a:srgbClr val="8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987640" y="5823000"/>
            <a:ext cx="4406760" cy="7920"/>
          </a:xfrm>
          <a:prstGeom prst="rect">
            <a:avLst/>
          </a:prstGeom>
          <a:solidFill>
            <a:srgbClr val="8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987640" y="5830920"/>
            <a:ext cx="4406760" cy="9360"/>
          </a:xfrm>
          <a:prstGeom prst="rect">
            <a:avLst/>
          </a:prstGeom>
          <a:solidFill>
            <a:srgbClr val="8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987640" y="5840280"/>
            <a:ext cx="4406760" cy="7920"/>
          </a:xfrm>
          <a:prstGeom prst="rect">
            <a:avLst/>
          </a:prstGeom>
          <a:solidFill>
            <a:srgbClr val="8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987640" y="5848200"/>
            <a:ext cx="4406760" cy="9720"/>
          </a:xfrm>
          <a:prstGeom prst="rect">
            <a:avLst/>
          </a:prstGeom>
          <a:solidFill>
            <a:srgbClr val="8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987640" y="5857920"/>
            <a:ext cx="4406760" cy="7920"/>
          </a:xfrm>
          <a:prstGeom prst="rect">
            <a:avLst/>
          </a:prstGeom>
          <a:solidFill>
            <a:srgbClr val="8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987640" y="5865840"/>
            <a:ext cx="4406760" cy="7920"/>
          </a:xfrm>
          <a:prstGeom prst="rect">
            <a:avLst/>
          </a:prstGeom>
          <a:solidFill>
            <a:srgbClr val="8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987640" y="5873760"/>
            <a:ext cx="4406760" cy="9360"/>
          </a:xfrm>
          <a:prstGeom prst="rect">
            <a:avLst/>
          </a:prstGeom>
          <a:solidFill>
            <a:srgbClr val="8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2987640" y="5883120"/>
            <a:ext cx="4406760" cy="7920"/>
          </a:xfrm>
          <a:prstGeom prst="rect">
            <a:avLst/>
          </a:prstGeom>
          <a:solidFill>
            <a:srgbClr val="8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987640" y="5891040"/>
            <a:ext cx="4406760" cy="9720"/>
          </a:xfrm>
          <a:prstGeom prst="rect">
            <a:avLst/>
          </a:prstGeom>
          <a:solidFill>
            <a:srgbClr val="8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987640" y="5900760"/>
            <a:ext cx="4406760" cy="7920"/>
          </a:xfrm>
          <a:prstGeom prst="rect">
            <a:avLst/>
          </a:prstGeom>
          <a:solidFill>
            <a:srgbClr val="8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987640" y="5908680"/>
            <a:ext cx="4406760" cy="9360"/>
          </a:xfrm>
          <a:prstGeom prst="rect">
            <a:avLst/>
          </a:prstGeom>
          <a:solidFill>
            <a:srgbClr val="8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987640" y="5918040"/>
            <a:ext cx="4406760" cy="7920"/>
          </a:xfrm>
          <a:prstGeom prst="rect">
            <a:avLst/>
          </a:prstGeom>
          <a:solidFill>
            <a:srgbClr val="8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987640" y="5925960"/>
            <a:ext cx="4406760" cy="9720"/>
          </a:xfrm>
          <a:prstGeom prst="rect">
            <a:avLst/>
          </a:prstGeom>
          <a:solidFill>
            <a:srgbClr val="8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987640" y="5935680"/>
            <a:ext cx="4406760" cy="7920"/>
          </a:xfrm>
          <a:prstGeom prst="rect">
            <a:avLst/>
          </a:prstGeom>
          <a:solidFill>
            <a:srgbClr val="8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987640" y="5943600"/>
            <a:ext cx="4406760" cy="9360"/>
          </a:xfrm>
          <a:prstGeom prst="rect">
            <a:avLst/>
          </a:prstGeom>
          <a:solidFill>
            <a:srgbClr val="8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987640" y="5952960"/>
            <a:ext cx="4406760" cy="8280"/>
          </a:xfrm>
          <a:prstGeom prst="rect">
            <a:avLst/>
          </a:prstGeom>
          <a:solidFill>
            <a:srgbClr val="8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987640" y="5961240"/>
            <a:ext cx="4406760" cy="7920"/>
          </a:xfrm>
          <a:prstGeom prst="rect">
            <a:avLst/>
          </a:prstGeom>
          <a:solidFill>
            <a:srgbClr val="8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987640" y="5969160"/>
            <a:ext cx="4406760" cy="9360"/>
          </a:xfrm>
          <a:prstGeom prst="rect">
            <a:avLst/>
          </a:prstGeom>
          <a:solidFill>
            <a:srgbClr val="8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987640" y="5978520"/>
            <a:ext cx="4406760" cy="7920"/>
          </a:xfrm>
          <a:prstGeom prst="rect">
            <a:avLst/>
          </a:prstGeom>
          <a:solidFill>
            <a:srgbClr val="8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987640" y="5986440"/>
            <a:ext cx="4406760" cy="9720"/>
          </a:xfrm>
          <a:prstGeom prst="rect">
            <a:avLst/>
          </a:prstGeom>
          <a:solidFill>
            <a:srgbClr val="8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987640" y="5996160"/>
            <a:ext cx="4406760" cy="7920"/>
          </a:xfrm>
          <a:prstGeom prst="rect">
            <a:avLst/>
          </a:prstGeom>
          <a:solidFill>
            <a:srgbClr val="8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987640" y="6004080"/>
            <a:ext cx="4406760" cy="9360"/>
          </a:xfrm>
          <a:prstGeom prst="rect">
            <a:avLst/>
          </a:prstGeom>
          <a:solidFill>
            <a:srgbClr val="8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987640" y="6013440"/>
            <a:ext cx="4406760" cy="7920"/>
          </a:xfrm>
          <a:prstGeom prst="rect">
            <a:avLst/>
          </a:prstGeom>
          <a:solidFill>
            <a:srgbClr val="8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987640" y="6021360"/>
            <a:ext cx="4406760" cy="9720"/>
          </a:xfrm>
          <a:prstGeom prst="rect">
            <a:avLst/>
          </a:prstGeom>
          <a:solidFill>
            <a:srgbClr val="8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987640" y="6031080"/>
            <a:ext cx="4406760" cy="7920"/>
          </a:xfrm>
          <a:prstGeom prst="rect">
            <a:avLst/>
          </a:prstGeom>
          <a:solidFill>
            <a:srgbClr val="8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987640" y="6039000"/>
            <a:ext cx="4406760" cy="9360"/>
          </a:xfrm>
          <a:prstGeom prst="rect">
            <a:avLst/>
          </a:prstGeom>
          <a:solidFill>
            <a:srgbClr val="8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987640" y="6048360"/>
            <a:ext cx="4406760" cy="7920"/>
          </a:xfrm>
          <a:prstGeom prst="rect">
            <a:avLst/>
          </a:prstGeom>
          <a:solidFill>
            <a:srgbClr val="8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987640" y="6056280"/>
            <a:ext cx="4406760" cy="9720"/>
          </a:xfrm>
          <a:prstGeom prst="rect">
            <a:avLst/>
          </a:prstGeom>
          <a:solidFill>
            <a:srgbClr val="8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987640" y="6066000"/>
            <a:ext cx="4406760" cy="7920"/>
          </a:xfrm>
          <a:prstGeom prst="rect">
            <a:avLst/>
          </a:prstGeom>
          <a:solidFill>
            <a:srgbClr val="8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987640" y="6073920"/>
            <a:ext cx="4406760" cy="7920"/>
          </a:xfrm>
          <a:prstGeom prst="rect">
            <a:avLst/>
          </a:prstGeom>
          <a:solidFill>
            <a:srgbClr val="8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987640" y="6081840"/>
            <a:ext cx="4406760" cy="9360"/>
          </a:xfrm>
          <a:prstGeom prst="rect">
            <a:avLst/>
          </a:prstGeom>
          <a:solidFill>
            <a:srgbClr val="8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87640" y="6091200"/>
            <a:ext cx="4406760" cy="7920"/>
          </a:xfrm>
          <a:prstGeom prst="rect">
            <a:avLst/>
          </a:prstGeom>
          <a:solidFill>
            <a:srgbClr val="8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987640" y="6099120"/>
            <a:ext cx="4406760" cy="9720"/>
          </a:xfrm>
          <a:prstGeom prst="rect">
            <a:avLst/>
          </a:prstGeom>
          <a:solidFill>
            <a:srgbClr val="8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987640" y="6108840"/>
            <a:ext cx="4406760" cy="7920"/>
          </a:xfrm>
          <a:prstGeom prst="rect">
            <a:avLst/>
          </a:prstGeom>
          <a:solidFill>
            <a:srgbClr val="8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87640" y="6116760"/>
            <a:ext cx="4406760" cy="9360"/>
          </a:xfrm>
          <a:prstGeom prst="rect">
            <a:avLst/>
          </a:prstGeom>
          <a:solidFill>
            <a:srgbClr val="8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987640" y="6126120"/>
            <a:ext cx="4406760" cy="7920"/>
          </a:xfrm>
          <a:prstGeom prst="rect">
            <a:avLst/>
          </a:prstGeom>
          <a:solidFill>
            <a:srgbClr val="8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987640" y="6134040"/>
            <a:ext cx="4406760" cy="9720"/>
          </a:xfrm>
          <a:prstGeom prst="rect">
            <a:avLst/>
          </a:prstGeom>
          <a:solidFill>
            <a:srgbClr val="8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987640" y="6143760"/>
            <a:ext cx="4406760" cy="7920"/>
          </a:xfrm>
          <a:prstGeom prst="rect">
            <a:avLst/>
          </a:prstGeom>
          <a:solidFill>
            <a:srgbClr val="8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987640" y="6151680"/>
            <a:ext cx="4406760" cy="9360"/>
          </a:xfrm>
          <a:prstGeom prst="rect">
            <a:avLst/>
          </a:prstGeom>
          <a:solidFill>
            <a:srgbClr val="8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987640" y="6161040"/>
            <a:ext cx="4406760" cy="7920"/>
          </a:xfrm>
          <a:prstGeom prst="rect">
            <a:avLst/>
          </a:prstGeom>
          <a:solidFill>
            <a:srgbClr val="8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987640" y="6168960"/>
            <a:ext cx="4406760" cy="7920"/>
          </a:xfrm>
          <a:prstGeom prst="rect">
            <a:avLst/>
          </a:prstGeom>
          <a:solidFill>
            <a:srgbClr val="8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987640" y="6176880"/>
            <a:ext cx="4406760" cy="9720"/>
          </a:xfrm>
          <a:prstGeom prst="rect">
            <a:avLst/>
          </a:prstGeom>
          <a:solidFill>
            <a:srgbClr val="8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2987640" y="6186600"/>
            <a:ext cx="4406760" cy="7920"/>
          </a:xfrm>
          <a:prstGeom prst="rect">
            <a:avLst/>
          </a:prstGeom>
          <a:solidFill>
            <a:srgbClr val="8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987640" y="6194520"/>
            <a:ext cx="4406760" cy="9360"/>
          </a:xfrm>
          <a:prstGeom prst="rect">
            <a:avLst/>
          </a:pr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2987640" y="6203880"/>
            <a:ext cx="4406760" cy="7920"/>
          </a:xfrm>
          <a:prstGeom prst="rect">
            <a:avLst/>
          </a:pr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987640" y="6211800"/>
            <a:ext cx="4406760" cy="9720"/>
          </a:xfrm>
          <a:prstGeom prst="rect">
            <a:avLst/>
          </a:pr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978280" y="6221520"/>
            <a:ext cx="1440" cy="68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951280" y="6289560"/>
            <a:ext cx="5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42432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68136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86244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00536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11948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22424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30992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38624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452840" y="6221520"/>
            <a:ext cx="1800" cy="68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400640" y="628956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89096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14836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33880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48172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59584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69124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77692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85324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919840" y="6221520"/>
            <a:ext cx="1440" cy="68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840640" y="6289560"/>
            <a:ext cx="15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36732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662472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80544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94836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707220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16760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251840" y="6221520"/>
            <a:ext cx="144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732780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7394400" y="6221520"/>
            <a:ext cx="1800" cy="68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277400" y="6289560"/>
            <a:ext cx="23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39440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39440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739440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39440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39440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739440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39440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7394400" y="6221520"/>
            <a:ext cx="180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444920" y="6464160"/>
            <a:ext cx="156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Effective SLOC (thousan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394400" y="6221520"/>
            <a:ext cx="381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462800" y="6151680"/>
            <a:ext cx="5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7394400" y="5640480"/>
            <a:ext cx="381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462800" y="5570640"/>
            <a:ext cx="5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7394400" y="5051520"/>
            <a:ext cx="381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7461360" y="498168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394400" y="4470480"/>
            <a:ext cx="381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461360" y="440208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394400" y="3881520"/>
            <a:ext cx="381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461360" y="381312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394400" y="3300480"/>
            <a:ext cx="381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461360" y="323208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394400" y="2711520"/>
            <a:ext cx="381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461360" y="264312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394400" y="2131920"/>
            <a:ext cx="381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7461360" y="206208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rot="5400000">
            <a:off x="7610400" y="4126680"/>
            <a:ext cx="11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978280" y="6221520"/>
            <a:ext cx="441612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978280" y="5640480"/>
            <a:ext cx="441612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978280" y="5051520"/>
            <a:ext cx="441612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2978280" y="4470480"/>
            <a:ext cx="441612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978280" y="3881520"/>
            <a:ext cx="441612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978280" y="3300480"/>
            <a:ext cx="441612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978280" y="2711520"/>
            <a:ext cx="441612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978280" y="2131920"/>
            <a:ext cx="4416120" cy="180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5276880" y="498636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791320" y="464040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705200" y="5202360"/>
            <a:ext cx="478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705200" y="4821120"/>
            <a:ext cx="478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4352760" y="4803840"/>
            <a:ext cx="478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896000" y="462276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429080" y="484812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162840" y="431964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810400" y="446724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4591080" y="536724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010280" y="4640400"/>
            <a:ext cx="4788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6286680" y="4613400"/>
            <a:ext cx="475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867200" y="5056200"/>
            <a:ext cx="4788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5276880" y="451008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5791320" y="5073480"/>
            <a:ext cx="4752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781600" y="4595760"/>
            <a:ext cx="478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4324320" y="5557680"/>
            <a:ext cx="4752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6905520" y="4172040"/>
            <a:ext cx="4788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5495760" y="4267080"/>
            <a:ext cx="4788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276960" y="4483080"/>
            <a:ext cx="4752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962600" y="496872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5648400" y="470052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276960" y="4483080"/>
            <a:ext cx="47520" cy="4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276960" y="4414680"/>
            <a:ext cx="47520" cy="4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886360" y="4518000"/>
            <a:ext cx="47880" cy="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4824360" y="6013440"/>
            <a:ext cx="800280" cy="20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5624640" y="5788080"/>
            <a:ext cx="885600" cy="22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6510240" y="5562720"/>
            <a:ext cx="884160" cy="22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394400" y="55627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2978280" y="5890680"/>
            <a:ext cx="884160" cy="22572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3862440" y="5665680"/>
            <a:ext cx="885600" cy="22536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4748040" y="5441760"/>
            <a:ext cx="876600" cy="22356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5624640" y="5216040"/>
            <a:ext cx="885600" cy="22572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6510240" y="4981680"/>
            <a:ext cx="884160" cy="23472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7394400" y="498168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2978280" y="5311800"/>
            <a:ext cx="884160" cy="2253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3862440" y="5086440"/>
            <a:ext cx="885600" cy="2253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4748040" y="4861080"/>
            <a:ext cx="876600" cy="2253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5624640" y="4635000"/>
            <a:ext cx="885600" cy="2257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6510240" y="4410000"/>
            <a:ext cx="884160" cy="2253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394400" y="441000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2978280" y="4730760"/>
            <a:ext cx="88416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3862440" y="4505400"/>
            <a:ext cx="8856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4748040" y="4280040"/>
            <a:ext cx="8766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624640" y="4053960"/>
            <a:ext cx="8856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6510240" y="3828960"/>
            <a:ext cx="88416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7394400" y="38289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2978280" y="4158720"/>
            <a:ext cx="884160" cy="2257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3862440" y="3933720"/>
            <a:ext cx="885600" cy="2253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4748040" y="3708360"/>
            <a:ext cx="876600" cy="2253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5624640" y="3483000"/>
            <a:ext cx="885600" cy="2253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0240" y="3257640"/>
            <a:ext cx="884160" cy="2253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7394400" y="32576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2978280" y="3578400"/>
            <a:ext cx="884160" cy="22536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3862440" y="3352320"/>
            <a:ext cx="885600" cy="22572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4748040" y="3127320"/>
            <a:ext cx="876600" cy="22536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5624640" y="2901960"/>
            <a:ext cx="885600" cy="22536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6510240" y="2678040"/>
            <a:ext cx="884160" cy="22536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7394400" y="267804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2978280" y="2998800"/>
            <a:ext cx="884160" cy="23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3862440" y="2773440"/>
            <a:ext cx="885600" cy="22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4748040" y="2548080"/>
            <a:ext cx="876600" cy="22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5624640" y="2322000"/>
            <a:ext cx="885600" cy="225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6510240" y="2131560"/>
            <a:ext cx="760680" cy="19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7270920" y="213192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82960" y="2136600"/>
            <a:ext cx="4406760" cy="407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6396120" y="4348080"/>
            <a:ext cx="0" cy="20016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5928840" y="4438800"/>
            <a:ext cx="357480" cy="9036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just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124080" y="21337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with PI of reference proj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124080" y="2406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PI until target productivity is reach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124080" y="29401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PI for estimated size of new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124080" y="3549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I Calculator to adjust for complexity, skill se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64" dur="1000" fill="hold"/>
                                        <p:tgtEl>
                                          <p:spTgt spid="156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-0.00023 L 0.00035 -0.01018 E">
                                      <p:cBhvr>
                                        <p:cTn id="70" dur="3000" fill="hold"/>
                                        <p:tgtEl>
                                          <p:spTgt spid="1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156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15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34 -1.48148E-006 L -0.04236 0.01482 E">
                                      <p:cBhvr>
                                        <p:cTn id="86" dur="3000" fill="hold"/>
                                        <p:tgtEl>
                                          <p:spTgt spid="1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l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2057400" y="1828800"/>
            <a:ext cx="6815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ject “Roll-up” for Scorecard Repor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, separately estimated projects of a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ed a method of reporting overall status on “Scorec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65530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0" name="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6858000" cy="3881160"/>
          </a:xfrm>
          <a:prstGeom prst="rect">
            <a:avLst/>
          </a:prstGeom>
          <a:ln w="0">
            <a:noFill/>
          </a:ln>
        </p:spPr>
      </p:pic>
      <p:sp>
        <p:nvSpPr>
          <p:cNvPr id="1621" name=""/>
          <p:cNvSpPr/>
          <p:nvPr/>
        </p:nvSpPr>
        <p:spPr>
          <a:xfrm>
            <a:off x="2057400" y="1828800"/>
            <a:ext cx="6815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ject aggregated in SLIM-Esti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 of projects: SLOC, Peak Staff, R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l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3" name="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6858000" cy="3886200"/>
          </a:xfrm>
          <a:prstGeom prst="rect">
            <a:avLst/>
          </a:prstGeom>
          <a:ln w="0">
            <a:noFill/>
          </a:ln>
        </p:spPr>
      </p:pic>
      <p:sp>
        <p:nvSpPr>
          <p:cNvPr id="1624" name=""/>
          <p:cNvSpPr/>
          <p:nvPr/>
        </p:nvSpPr>
        <p:spPr>
          <a:xfrm>
            <a:off x="2057400" y="1828800"/>
            <a:ext cx="6815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ject aggregated in SLIM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 Plan: Sum of all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l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/>
          <p:nvPr/>
        </p:nvSpPr>
        <p:spPr>
          <a:xfrm>
            <a:off x="2057400" y="1828800"/>
            <a:ext cx="681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ature-level SL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Development “Feature Team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, QC, Tech P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Tracking/Measuring in S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necessarily a continuous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f start of QC testing is delay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account for rework effort occurring after main development, prior to customer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efine Phase 4 to capture re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did Phase 3 really e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atur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"/>
          <p:cNvSpPr/>
          <p:nvPr/>
        </p:nvSpPr>
        <p:spPr>
          <a:xfrm>
            <a:off x="2176560" y="2541600"/>
            <a:ext cx="6737400" cy="37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176560" y="5929200"/>
            <a:ext cx="6737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176560" y="5554800"/>
            <a:ext cx="673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176560" y="5176800"/>
            <a:ext cx="6737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176560" y="4802040"/>
            <a:ext cx="6737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176560" y="4424400"/>
            <a:ext cx="673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176560" y="4046400"/>
            <a:ext cx="6737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176560" y="3672000"/>
            <a:ext cx="673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176560" y="3294000"/>
            <a:ext cx="6737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176560" y="2919240"/>
            <a:ext cx="6737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2176560" y="2541600"/>
            <a:ext cx="673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176560" y="2541600"/>
            <a:ext cx="6737400" cy="3765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2241720" y="6041880"/>
            <a:ext cx="88560" cy="2653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549520" y="4348080"/>
            <a:ext cx="85680" cy="1959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852640" y="4052880"/>
            <a:ext cx="92160" cy="22543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160800" y="3745080"/>
            <a:ext cx="88920" cy="25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467160" y="2900520"/>
            <a:ext cx="88920" cy="34066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773520" y="3397320"/>
            <a:ext cx="87120" cy="29098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078440" y="3244680"/>
            <a:ext cx="90360" cy="30625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384800" y="3044880"/>
            <a:ext cx="88920" cy="32623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691160" y="4219560"/>
            <a:ext cx="88920" cy="208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997520" y="4487760"/>
            <a:ext cx="87120" cy="1819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302080" y="4513320"/>
            <a:ext cx="90720" cy="17938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610240" y="5149800"/>
            <a:ext cx="90360" cy="11574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918040" y="5646600"/>
            <a:ext cx="86040" cy="6606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222960" y="5952960"/>
            <a:ext cx="88920" cy="3542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529320" y="6048360"/>
            <a:ext cx="87480" cy="258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834240" y="5826240"/>
            <a:ext cx="90360" cy="480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7142040" y="6157800"/>
            <a:ext cx="85680" cy="1494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7446960" y="6230880"/>
            <a:ext cx="88920" cy="763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7753320" y="6039000"/>
            <a:ext cx="88920" cy="2682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8059680" y="5946840"/>
            <a:ext cx="90720" cy="3603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8367840" y="6094440"/>
            <a:ext cx="85680" cy="2127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8672400" y="6291360"/>
            <a:ext cx="88920" cy="15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330280" y="6148440"/>
            <a:ext cx="87480" cy="1587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635200" y="5316480"/>
            <a:ext cx="88920" cy="990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944800" y="4491000"/>
            <a:ext cx="87480" cy="18162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249720" y="3821040"/>
            <a:ext cx="85680" cy="24861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556080" y="3351240"/>
            <a:ext cx="87120" cy="29559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860640" y="3105000"/>
            <a:ext cx="87480" cy="32022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168800" y="3068640"/>
            <a:ext cx="87120" cy="32385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473720" y="3218040"/>
            <a:ext cx="85680" cy="30891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780080" y="3503520"/>
            <a:ext cx="88920" cy="28036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084640" y="3876840"/>
            <a:ext cx="88920" cy="2430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392800" y="4287960"/>
            <a:ext cx="88920" cy="20192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700600" y="4695840"/>
            <a:ext cx="87480" cy="1611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6004080" y="5070600"/>
            <a:ext cx="88920" cy="12366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311880" y="5389560"/>
            <a:ext cx="88920" cy="9176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616800" y="5962680"/>
            <a:ext cx="88920" cy="344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176560" y="2541600"/>
            <a:ext cx="1440" cy="376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147760" y="6307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147760" y="59292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2147760" y="5554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147760" y="5176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147760" y="48020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147760" y="4424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147760" y="40464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147760" y="3672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2147760" y="32940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2147760" y="29192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2147760" y="25416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176560" y="6307200"/>
            <a:ext cx="673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217656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248292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278928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3097080" y="63072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340200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V="1">
            <a:off x="3708360" y="63072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401328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4321080" y="63072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462600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4932360" y="6307200"/>
            <a:ext cx="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5238720" y="6307200"/>
            <a:ext cx="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5545080" y="63072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5853240" y="6307200"/>
            <a:ext cx="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615636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6464160" y="63072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676908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707724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738036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768996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7994520" y="63072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8302680" y="6307200"/>
            <a:ext cx="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8605800" y="63072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8913960" y="63072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2072880" y="6240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964160" y="586260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964160" y="548784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964160" y="511020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964160" y="473544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908360" y="43578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908360" y="39798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908360" y="36050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4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908360" y="32274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908360" y="2852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8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908360" y="24750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rot="16200000">
            <a:off x="2143800" y="646164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y-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rot="16200000">
            <a:off x="2464200" y="644580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Jun-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rot="16200000">
            <a:off x="2787840" y="6428880"/>
            <a:ext cx="31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Jul-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rot="16200000">
            <a:off x="3065760" y="645516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ug-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rot="16200000">
            <a:off x="3377160" y="646164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p-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rot="16200000">
            <a:off x="3697920" y="644760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-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rot="16200000">
            <a:off x="3996360" y="645696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v-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rot="16200000">
            <a:off x="4300920" y="646164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ec-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rot="16200000">
            <a:off x="4615200" y="644580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Jan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rot="16200000">
            <a:off x="4914000" y="645696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eb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rot="16200000">
            <a:off x="5223960" y="6452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r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rot="16200000">
            <a:off x="5541120" y="64425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pr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rot="16200000">
            <a:off x="5828400" y="64587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y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rot="16200000">
            <a:off x="6150240" y="644328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Jun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rot="16200000">
            <a:off x="6475680" y="6420960"/>
            <a:ext cx="31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Jul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rot="16200000">
            <a:off x="6748920" y="644580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ug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rot="16200000">
            <a:off x="7058520" y="645516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p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rot="16200000">
            <a:off x="7377840" y="644112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rot="16200000">
            <a:off x="7671240" y="645048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v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rot="16200000">
            <a:off x="7976160" y="645228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ec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rot="16200000">
            <a:off x="8291880" y="644004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Jan-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rot="16200000">
            <a:off x="8592120" y="645048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eb-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rot="16200000">
            <a:off x="1246320" y="4291560"/>
            <a:ext cx="1146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ffort (person hour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124680" y="3419640"/>
            <a:ext cx="990360" cy="623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367320" y="3529080"/>
            <a:ext cx="88920" cy="109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480000" y="347976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367320" y="3836880"/>
            <a:ext cx="88920" cy="1098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6483960" y="378792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057400" y="1828800"/>
            <a:ext cx="681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tual vs. SLIM-Esti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atur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atur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1674720" y="2476440"/>
            <a:ext cx="7246800" cy="4235400"/>
            <a:chOff x="1674720" y="2476440"/>
            <a:chExt cx="7246800" cy="4235400"/>
          </a:xfrm>
        </p:grpSpPr>
        <p:sp>
          <p:nvSpPr>
            <p:cNvPr id="1756" name=""/>
            <p:cNvSpPr/>
            <p:nvPr/>
          </p:nvSpPr>
          <p:spPr>
            <a:xfrm>
              <a:off x="2168280" y="2533680"/>
              <a:ext cx="6751800" cy="377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168280" y="5769000"/>
              <a:ext cx="675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168280" y="5230800"/>
              <a:ext cx="675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168280" y="4691160"/>
              <a:ext cx="6751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168280" y="4152960"/>
              <a:ext cx="675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168280" y="3613320"/>
              <a:ext cx="6751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168280" y="3075120"/>
              <a:ext cx="6751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168280" y="2533680"/>
              <a:ext cx="675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168280" y="2533680"/>
              <a:ext cx="6751800" cy="3774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52520" y="6261120"/>
              <a:ext cx="115920" cy="47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651040" y="5894280"/>
              <a:ext cx="112680" cy="414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046320" y="5140440"/>
              <a:ext cx="115920" cy="11682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444840" y="4187880"/>
              <a:ext cx="114120" cy="21207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841560" y="3303720"/>
              <a:ext cx="114480" cy="30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238640" y="3397320"/>
              <a:ext cx="112680" cy="2911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633920" y="2941560"/>
              <a:ext cx="115560" cy="3367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032080" y="2944800"/>
              <a:ext cx="113040" cy="3363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429160" y="4915080"/>
              <a:ext cx="114120" cy="1393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827680" y="5668920"/>
              <a:ext cx="112680" cy="639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222960" y="6281640"/>
              <a:ext cx="115920" cy="27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621480" y="6303960"/>
              <a:ext cx="112680" cy="4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414920" y="6281640"/>
              <a:ext cx="112680" cy="27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812000" y="4894200"/>
              <a:ext cx="114120" cy="1414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208720" y="5987880"/>
              <a:ext cx="112680" cy="3207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604000" y="6257880"/>
              <a:ext cx="115920" cy="507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763720" y="6049800"/>
              <a:ext cx="112680" cy="2588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162240" y="4791240"/>
              <a:ext cx="110880" cy="151740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558960" y="3713040"/>
              <a:ext cx="111240" cy="259560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956040" y="3100320"/>
              <a:ext cx="112680" cy="32083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351320" y="2990880"/>
              <a:ext cx="112680" cy="331776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749480" y="3295800"/>
              <a:ext cx="113040" cy="30128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45120" y="3849840"/>
              <a:ext cx="112680" cy="245880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543280" y="4487760"/>
              <a:ext cx="114480" cy="182088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940360" y="5073480"/>
              <a:ext cx="112680" cy="123516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338880" y="5699160"/>
              <a:ext cx="112680" cy="60948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168280" y="2533680"/>
              <a:ext cx="1800" cy="377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130120" y="630864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130120" y="57690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30120" y="52308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30120" y="4691160"/>
              <a:ext cx="38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30120" y="41529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30120" y="3613320"/>
              <a:ext cx="38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130120" y="3075120"/>
              <a:ext cx="38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130120" y="25336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168280" y="6308640"/>
              <a:ext cx="675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2168280" y="63086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566800" y="63086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2962080" y="63086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3360600" y="63086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3757320" y="63086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4155840" y="63086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4551120" y="63086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4949640" y="63086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5344920" y="63086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V="1">
              <a:off x="5743440" y="63086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6138720" y="63086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6537240" y="63086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6932520" y="63086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7331040" y="63086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7727760" y="6308640"/>
              <a:ext cx="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8126280" y="63086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8521560" y="63086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8920080" y="63086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042640" y="6251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913760" y="5710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913760" y="5178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13760" y="4633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13760" y="4092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913760" y="3552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913760" y="3016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913760" y="2476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rot="16200000">
              <a:off x="2174400" y="640944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ct-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16200000">
              <a:off x="2555640" y="642312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ov-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2955960" y="641844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ec-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16200000">
              <a:off x="3360240" y="640728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an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16200000">
              <a:off x="3755160" y="641448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eb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 rot="16200000">
              <a:off x="4158360" y="642060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r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 rot="16200000">
              <a:off x="4567680" y="640944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r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16200000">
              <a:off x="4939560" y="642384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y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rot="16200000">
              <a:off x="5355720" y="64098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un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rot="16200000">
              <a:off x="5775480" y="64000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ul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 rot="16200000">
              <a:off x="6141600" y="641124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ug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rot="16200000">
              <a:off x="6538320" y="640800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p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 rot="16200000">
              <a:off x="6949800" y="640152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ct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 rot="16200000">
              <a:off x="7329240" y="641196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ov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rot="16200000">
              <a:off x="7727760" y="64072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ec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 rot="16200000">
              <a:off x="8133840" y="639792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an-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 rot="16200000">
              <a:off x="8524080" y="64051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eb-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16200000">
              <a:off x="1116720" y="4271760"/>
              <a:ext cx="1268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ffort (person hour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188040" y="3122640"/>
              <a:ext cx="709560" cy="465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251400" y="3203640"/>
              <a:ext cx="103320" cy="82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18080" y="31654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251400" y="3432240"/>
              <a:ext cx="103320" cy="824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417000" y="339408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L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2057400" y="1828800"/>
            <a:ext cx="681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tual vs. SLIM-Esti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atur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2057400" y="1828800"/>
            <a:ext cx="681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tual vs. SLIM-Esti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1674720" y="2438280"/>
            <a:ext cx="7240680" cy="4266720"/>
            <a:chOff x="1674720" y="2438280"/>
            <a:chExt cx="7240680" cy="4266720"/>
          </a:xfrm>
        </p:grpSpPr>
        <p:sp>
          <p:nvSpPr>
            <p:cNvPr id="1854" name=""/>
            <p:cNvSpPr/>
            <p:nvPr/>
          </p:nvSpPr>
          <p:spPr>
            <a:xfrm>
              <a:off x="2195640" y="2496960"/>
              <a:ext cx="6718320" cy="38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195640" y="5759280"/>
              <a:ext cx="671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195640" y="5216400"/>
              <a:ext cx="6718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195640" y="4672080"/>
              <a:ext cx="671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195640" y="4129200"/>
              <a:ext cx="671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195640" y="3584520"/>
              <a:ext cx="671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195640" y="3041640"/>
              <a:ext cx="671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195640" y="2496960"/>
              <a:ext cx="671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195640" y="2496960"/>
              <a:ext cx="6718320" cy="3807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306520" y="5781600"/>
              <a:ext cx="147600" cy="522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822400" y="4332240"/>
              <a:ext cx="147960" cy="1971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338640" y="2913120"/>
              <a:ext cx="147600" cy="339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855960" y="3679920"/>
              <a:ext cx="147600" cy="2624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371840" y="4259160"/>
              <a:ext cx="147600" cy="2044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888080" y="4729320"/>
              <a:ext cx="147600" cy="15746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405400" y="4703760"/>
              <a:ext cx="149400" cy="16002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923080" y="4795920"/>
              <a:ext cx="147600" cy="1508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438960" y="5807160"/>
              <a:ext cx="147600" cy="496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954840" y="6064200"/>
              <a:ext cx="149400" cy="2397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989840" y="6249960"/>
              <a:ext cx="147600" cy="54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505720" y="6284880"/>
              <a:ext cx="147600" cy="19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454120" y="6087960"/>
              <a:ext cx="147960" cy="216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970360" y="5030640"/>
              <a:ext cx="147600" cy="127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486240" y="4145040"/>
              <a:ext cx="149040" cy="2158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003560" y="3673440"/>
              <a:ext cx="147600" cy="2630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519440" y="3627360"/>
              <a:ext cx="147960" cy="2676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035680" y="3925800"/>
              <a:ext cx="150840" cy="2378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554800" y="4417920"/>
              <a:ext cx="147600" cy="1886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070680" y="4948200"/>
              <a:ext cx="147600" cy="1355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586560" y="5424480"/>
              <a:ext cx="147600" cy="879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104240" y="6048360"/>
              <a:ext cx="147600" cy="255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195640" y="2496960"/>
              <a:ext cx="1440" cy="380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55680" y="630396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155680" y="5759280"/>
              <a:ext cx="39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155680" y="5216400"/>
              <a:ext cx="3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155680" y="4672080"/>
              <a:ext cx="39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155680" y="412920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155680" y="3584520"/>
              <a:ext cx="39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155680" y="304164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155680" y="2496960"/>
              <a:ext cx="39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195640" y="6303960"/>
              <a:ext cx="671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2195640" y="630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2714760" y="630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3230640" y="630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3746520" y="630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4262400" y="6303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4780080" y="630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297400" y="6303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813280" y="6303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6330960" y="630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6846840" y="6303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7362720" y="6303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7878600" y="6303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8397720" y="6303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8913960" y="630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064960" y="6245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935360" y="5699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935360" y="5157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935360" y="4613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935360" y="4070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935360" y="3524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35360" y="29829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935360" y="2438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6200000">
              <a:off x="2255760" y="640944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un-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rot="16200000">
              <a:off x="2791080" y="639756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ul-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 rot="16200000">
              <a:off x="3281040" y="641664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ug-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6200000">
              <a:off x="3801600" y="641736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p-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 rot="16200000">
              <a:off x="4330440" y="640728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ct-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rot="16200000">
              <a:off x="4837320" y="642384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ov-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 rot="16200000">
              <a:off x="5349960" y="641880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ec-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rot="16200000">
              <a:off x="5881320" y="640944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an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rot="16200000">
              <a:off x="6392160" y="64101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eb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rot="16200000">
              <a:off x="6903360" y="64105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r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rot="16200000">
              <a:off x="7433280" y="63997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r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rot="16200000">
              <a:off x="7930800" y="641664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y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 rot="16200000">
              <a:off x="8464320" y="639792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un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 rot="16200000">
              <a:off x="1116720" y="4255920"/>
              <a:ext cx="1268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ffort (person hour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343560" y="3666960"/>
              <a:ext cx="1032120" cy="447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502320" y="3728880"/>
              <a:ext cx="108000" cy="82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742080" y="36910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502320" y="3921120"/>
              <a:ext cx="108000" cy="842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780600" y="388476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L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28800" y="18288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ys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Y2006 Revenue $1.8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K. based;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rgest “pure” software company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s in 120 countr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00+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care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Q in Raleigh; Offices throughout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galore based development 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0" y="3581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atur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057400" y="1828800"/>
            <a:ext cx="681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tual vs. SLIM-Esti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8" name=""/>
          <p:cNvGrpSpPr/>
          <p:nvPr/>
        </p:nvGrpSpPr>
        <p:grpSpPr>
          <a:xfrm>
            <a:off x="1600200" y="2438280"/>
            <a:ext cx="7314840" cy="4113000"/>
            <a:chOff x="1600200" y="2438280"/>
            <a:chExt cx="7314840" cy="4113000"/>
          </a:xfrm>
        </p:grpSpPr>
        <p:sp>
          <p:nvSpPr>
            <p:cNvPr id="1939" name=""/>
            <p:cNvSpPr/>
            <p:nvPr/>
          </p:nvSpPr>
          <p:spPr>
            <a:xfrm>
              <a:off x="2174400" y="2494080"/>
              <a:ext cx="6738480" cy="38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174400" y="5577840"/>
              <a:ext cx="673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174400" y="4807800"/>
              <a:ext cx="673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174400" y="4035240"/>
              <a:ext cx="673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174400" y="3264120"/>
              <a:ext cx="673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174400" y="2494080"/>
              <a:ext cx="673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174400" y="2494080"/>
              <a:ext cx="6738480" cy="3854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535120" y="5986800"/>
              <a:ext cx="480960" cy="3625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219560" y="2876400"/>
              <a:ext cx="480960" cy="3472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05440" y="4142160"/>
              <a:ext cx="483120" cy="2206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589880" y="5223600"/>
              <a:ext cx="483120" cy="1125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016080" y="5284080"/>
              <a:ext cx="481320" cy="1064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700520" y="3619800"/>
              <a:ext cx="483120" cy="27295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388920" y="4114080"/>
              <a:ext cx="478800" cy="2234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073360" y="5378040"/>
              <a:ext cx="478800" cy="9709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74400" y="2494080"/>
              <a:ext cx="1800" cy="385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29760" y="634932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129760" y="557784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129760" y="48078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129760" y="403524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129760" y="326412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129760" y="24940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174400" y="6349320"/>
              <a:ext cx="673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2174400" y="6348960"/>
              <a:ext cx="180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3858480" y="6348960"/>
              <a:ext cx="180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5544720" y="6348960"/>
              <a:ext cx="216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7228800" y="6348960"/>
              <a:ext cx="180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V="1">
              <a:off x="8913240" y="6348960"/>
              <a:ext cx="180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035800" y="629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969560" y="5521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05480" y="4752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05480" y="39790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905480" y="3207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905480" y="2438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913120" y="64292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Jun-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606920" y="6429240"/>
              <a:ext cx="27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Jul-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71200" y="642924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Aug-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954200" y="642924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ep-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rot="16200000">
              <a:off x="1150920" y="4297320"/>
              <a:ext cx="1020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Effort (person hour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766560" y="2759760"/>
              <a:ext cx="822960" cy="36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823440" y="2817360"/>
              <a:ext cx="122400" cy="81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081200" y="278208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823440" y="3001320"/>
              <a:ext cx="122400" cy="81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086600" y="296640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L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/>
          <p:nvPr/>
        </p:nvSpPr>
        <p:spPr>
          <a:xfrm>
            <a:off x="1893960" y="2895480"/>
            <a:ext cx="7021440" cy="3810240"/>
          </a:xfrm>
          <a:prstGeom prst="roundRect">
            <a:avLst>
              <a:gd name="adj" fmla="val 261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857240" y="2870280"/>
            <a:ext cx="7021800" cy="3808440"/>
          </a:xfrm>
          <a:prstGeom prst="roundRect">
            <a:avLst>
              <a:gd name="adj" fmla="val 2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773240" y="2955960"/>
            <a:ext cx="124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PI vs Effective SL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608200" y="3102120"/>
            <a:ext cx="5529240" cy="32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2608200" y="6307200"/>
            <a:ext cx="1800" cy="5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2544840" y="636120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02904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27024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44016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57516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3683160" y="6307200"/>
            <a:ext cx="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781440" y="6307200"/>
            <a:ext cx="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86064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92436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995640" y="6307200"/>
            <a:ext cx="1800" cy="5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3968640" y="6361200"/>
            <a:ext cx="5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440676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464832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482760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495288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06880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515772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523872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31036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5373720" y="6307200"/>
            <a:ext cx="0" cy="5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5321160" y="636120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579276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035760" y="6307200"/>
            <a:ext cx="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20568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633888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644688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654516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62472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668808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6759720" y="6307200"/>
            <a:ext cx="1440" cy="5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80520" y="6361200"/>
            <a:ext cx="15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717084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741204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759132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71696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783288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7923240" y="6307200"/>
            <a:ext cx="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800244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8074080" y="6307200"/>
            <a:ext cx="144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8137440" y="6307200"/>
            <a:ext cx="1800" cy="5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8020440" y="6361200"/>
            <a:ext cx="23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813744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813744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813744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13744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13744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813744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813744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8137440" y="6307200"/>
            <a:ext cx="1800" cy="2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628880" y="6492960"/>
            <a:ext cx="156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Effective SLOC (thousan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8137440" y="6307200"/>
            <a:ext cx="349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8198280" y="62546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-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8137440" y="5776920"/>
            <a:ext cx="34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8194680" y="5722920"/>
            <a:ext cx="5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8137440" y="5238720"/>
            <a:ext cx="349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8194680" y="5186520"/>
            <a:ext cx="5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8137440" y="4708440"/>
            <a:ext cx="34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8196120" y="465444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8137440" y="4170240"/>
            <a:ext cx="349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8196120" y="411804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8137440" y="3639960"/>
            <a:ext cx="34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8196120" y="358452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8137440" y="3102120"/>
            <a:ext cx="349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8196120" y="304812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Narrow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rot="5400000">
            <a:off x="8331120" y="4647240"/>
            <a:ext cx="11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2608200" y="3101760"/>
            <a:ext cx="1800" cy="320508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V="1">
            <a:off x="3995640" y="3101760"/>
            <a:ext cx="1800" cy="320508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5373720" y="3101760"/>
            <a:ext cx="0" cy="320508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 flipV="1">
            <a:off x="6759720" y="3101760"/>
            <a:ext cx="1440" cy="320508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8137440" y="3101760"/>
            <a:ext cx="1800" cy="320508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608200" y="6307200"/>
            <a:ext cx="552924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2608200" y="5776920"/>
            <a:ext cx="5529240" cy="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608200" y="5238720"/>
            <a:ext cx="552924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2608200" y="4708440"/>
            <a:ext cx="5529240" cy="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2608200" y="4170240"/>
            <a:ext cx="5529240" cy="180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2608200" y="3639960"/>
            <a:ext cx="5529240" cy="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2608200" y="3102120"/>
            <a:ext cx="552924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3481560" y="5719680"/>
            <a:ext cx="44280" cy="334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633840" y="5514840"/>
            <a:ext cx="44280" cy="3204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4921200" y="4392720"/>
            <a:ext cx="44640" cy="3312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713040" y="5302080"/>
            <a:ext cx="44640" cy="334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705120" y="5156280"/>
            <a:ext cx="44640" cy="3312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240000" y="5481720"/>
            <a:ext cx="44640" cy="3312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4017960" y="4937040"/>
            <a:ext cx="44280" cy="334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232160" y="4851360"/>
            <a:ext cx="44640" cy="316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643280" y="4863960"/>
            <a:ext cx="44640" cy="334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4124160" y="5095800"/>
            <a:ext cx="46080" cy="334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7094520" y="4313160"/>
            <a:ext cx="4464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6629400" y="4332240"/>
            <a:ext cx="4428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6156360" y="4213080"/>
            <a:ext cx="4428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6621480" y="4292640"/>
            <a:ext cx="44280" cy="33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6146640" y="4645080"/>
            <a:ext cx="44640" cy="33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353280" y="3987720"/>
            <a:ext cx="4428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251320" y="5168880"/>
            <a:ext cx="4608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851440" y="4638600"/>
            <a:ext cx="4464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6496200" y="4392720"/>
            <a:ext cx="44280" cy="33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7086600" y="4194000"/>
            <a:ext cx="4428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610240" y="4498920"/>
            <a:ext cx="4428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770440" y="4711680"/>
            <a:ext cx="4464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619600" y="4843440"/>
            <a:ext cx="4464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5278320" y="4478400"/>
            <a:ext cx="46080" cy="33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6978600" y="4040280"/>
            <a:ext cx="44640" cy="33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502240" y="4995720"/>
            <a:ext cx="4464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6648480" y="4173480"/>
            <a:ext cx="4428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7775640" y="4332240"/>
            <a:ext cx="44280" cy="3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 flipV="1">
            <a:off x="2608200" y="5277960"/>
            <a:ext cx="1109880" cy="3524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V="1">
            <a:off x="3718080" y="4919760"/>
            <a:ext cx="1100160" cy="358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 flipV="1">
            <a:off x="4818240" y="4568400"/>
            <a:ext cx="1109520" cy="351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V="1">
            <a:off x="5927760" y="4215960"/>
            <a:ext cx="1100160" cy="3524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V="1">
            <a:off x="7027920" y="3865680"/>
            <a:ext cx="1109520" cy="350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8137440" y="3865680"/>
            <a:ext cx="1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2608200" y="5783400"/>
            <a:ext cx="1109880" cy="35064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V="1">
            <a:off x="3718080" y="5424120"/>
            <a:ext cx="1100160" cy="35892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4818240" y="5065200"/>
            <a:ext cx="1109520" cy="35892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5927760" y="4714920"/>
            <a:ext cx="1100160" cy="35064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7027920" y="4355640"/>
            <a:ext cx="1109520" cy="35892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8137440" y="435600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 flipV="1">
            <a:off x="2608200" y="5543280"/>
            <a:ext cx="1109880" cy="352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3718080" y="5186520"/>
            <a:ext cx="1100160" cy="357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4818240" y="4833720"/>
            <a:ext cx="1109520" cy="352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5927760" y="4474800"/>
            <a:ext cx="1100160" cy="3589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7027920" y="4118040"/>
            <a:ext cx="1109520" cy="357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8137440" y="4118040"/>
            <a:ext cx="180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2608200" y="5304960"/>
            <a:ext cx="11098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 flipV="1">
            <a:off x="3718080" y="4946760"/>
            <a:ext cx="1100160" cy="35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4818240" y="4595400"/>
            <a:ext cx="1109520" cy="35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flipV="1">
            <a:off x="5927760" y="4237200"/>
            <a:ext cx="1100160" cy="35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7027920" y="3884400"/>
            <a:ext cx="110952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8137440" y="388476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2608200" y="5065200"/>
            <a:ext cx="1109880" cy="3589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3718080" y="4714920"/>
            <a:ext cx="1100160" cy="3506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4818240" y="4355640"/>
            <a:ext cx="1109520" cy="3589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V="1">
            <a:off x="5927760" y="4003200"/>
            <a:ext cx="1100160" cy="352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7027920" y="3646440"/>
            <a:ext cx="1109520" cy="357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8137440" y="3646440"/>
            <a:ext cx="180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2608200" y="4833720"/>
            <a:ext cx="1109880" cy="35244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 flipV="1">
            <a:off x="3718080" y="4474800"/>
            <a:ext cx="1100160" cy="35892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4818240" y="4118040"/>
            <a:ext cx="1109520" cy="35712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5927760" y="3765240"/>
            <a:ext cx="1100160" cy="35244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7027920" y="3406320"/>
            <a:ext cx="1109520" cy="35892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8137440" y="34066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prstDash val="sys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2612880" y="3105000"/>
            <a:ext cx="5519880" cy="3198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atur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2057400" y="1828800"/>
            <a:ext cx="6815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rived” Projects (feat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t” with our existing projects (so f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200400" y="4038480"/>
            <a:ext cx="76320" cy="7632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200400" y="37339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3276720" y="3581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327672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/>
          <p:nvPr/>
        </p:nvSpPr>
        <p:spPr>
          <a:xfrm>
            <a:off x="2057400" y="1828800"/>
            <a:ext cx="6858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Needs to be D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e Phase Overlap &amp;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e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e the Shopping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accurate siz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edback from this exercise would help in the shift to thinking in size as opposed to eff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905120" y="19047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through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technologies; developm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odels, cultu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 focused in Banga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 certified; FDA regu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7984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ment Shop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4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904760" y="22860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 transform our industry;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will lea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905120" y="1828440"/>
            <a:ext cx="7238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ts of data; no actionabl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easurement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knew how productive we were at creating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onsistent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by intu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eers unhappy with productivity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only provide vague assu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are as good as anyone el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d comfort at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812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we started 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embe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772400" y="4562640"/>
            <a:ext cx="12952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ive measurem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ned the life cycle from business case estimation through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d comparisons to others in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 methodology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6544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to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across the Healthcare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ing division interested in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MI implementation i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M key to measuring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we are go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19810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04760" y="182880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card for broad distribution across th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ard, executives, management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s; SLIM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28800" y="4191120"/>
            <a:ext cx="7238880" cy="1857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20:18:28Z</dcterms:created>
  <dc:creator>Misys Healthcare Systems</dc:creator>
  <dc:description/>
  <dc:language>en-US</dc:language>
  <cp:lastModifiedBy> </cp:lastModifiedBy>
  <dcterms:modified xsi:type="dcterms:W3CDTF">2006-09-25T12:38:43Z</dcterms:modified>
  <cp:revision>40</cp:revision>
  <dc:subject/>
  <dc:title>Transition to Metric Driven Management</dc:title>
</cp:coreProperties>
</file>